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3F1-E818-4252-B9E3-0D7D2D21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513-A681-46B1-8FA7-DCCABFBD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8C1-2FFA-430E-8275-FA0D84D3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D80A-1A1F-435B-8F5C-FAED27B4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5F8B-4789-4172-AF44-4F57F709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FF4A-3729-43D1-ACBB-FFFBB692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C7E9-2066-46E7-95B3-54987BB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D50-404D-4D96-B53E-E30DEBE1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5CED-9046-4FF5-AE94-4734D19D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1E8A-063A-4255-93E5-42DEF734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E14E-AFD6-4EFF-830A-975E2F2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55D-39A5-488D-AD0E-3477BB60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7E27-7DCC-4774-8241-AC32509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EE36-22E8-433F-8209-731131F1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CF6E-2F16-444C-93F9-AB27176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4E7C-E240-4327-AA3B-1932D189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6016-A276-4375-827D-5F09CBC5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F04-E6E0-4982-A712-4920D605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5CB-884B-4636-93D2-6CB5DA6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0AC-02B7-454F-8747-EE3950FC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2F6-8E43-46DF-8940-F697ABC9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7E5-6494-4637-8C23-C8F83DE4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946-7805-4597-A1F3-1DA538B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B68-480B-433E-938B-E9B1305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D51-8004-4BE2-97E9-6701016E18F6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920-827A-4900-A567-6932F464646A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ks.inf.ethz.ch/education/ws04/eai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testbed.univ.kiev.ua/ca_request.php" TargetMode="External"/><Relationship Id="rId3" Type="http://schemas.openxmlformats.org/officeDocument/2006/relationships/hyperlink" Target="http://testbed.univ.kiev.ua/ca_request.ph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voms.grid.org.ua/" TargetMode="External"/><Relationship Id="rId2" Type="http://schemas.openxmlformats.org/officeDocument/2006/relationships/hyperlink" Target="https://voms.grid.org.ua/" TargetMode="External"/><Relationship Id="rId3" Type="http://schemas.openxmlformats.org/officeDocument/2006/relationships/hyperlink" Target="https://voms.grid.org.ua/voms/?vo=testbed.univ.kiev.ua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estbed.univ.kiev.ua/i_gsissh.php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ldp.org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Вступ до паралельних та розподілених обчислень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аков О.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алельні та розподілені обчислення” Лекці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ікро (нано) електронік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слідження поведінки атомів на поверхні кремнію для створення нових технолог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требує квантово-фізичних розрахунк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27640" y="1700280"/>
            <a:ext cx="425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дерна фіз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замодія іонізуючого випромінювання з речови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оделюється поведінка великої кількості частин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бробка даних з прискорювач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3097080" cy="26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икористання розподілених обчислен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кладні інтернет програ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соконадійні систе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лельні розрахунки на багатьох ком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ютер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грама курс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ції (17 годи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гляд технолог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и роботи на обчислювальних кластер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и роботи в грі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робки паралельних прогр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ні зайняття (17 годи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бота в команному рядк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бота на кластер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бота в Грі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робка паралельних програм стандарт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робка паралельних програм стандарт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ітера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Параллельные вычисления в России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www.parallel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6633"/>
                </a:solidFill>
                <a:latin typeface="Arial"/>
              </a:rPr>
              <a:t>Обчислювальний кластер Київського національного університету імені Тараса Шевченка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www.cluster.kiev.ua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П. Гергель, Р.Г. Стронгин Основы параллельных вычислений для многопроцессорных  вычислительных машин. Нижний новгород: Изд-во ННГУ им. Лобачевского, 2000, 176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 Хьюз, Т. Хьюз. Параллельное и распределенное программирование с использование С++. Перс. с англ. М: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дательский дом «Вильямс», 2004, 67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 Н Молчанов. Введение в алгоритмы параллельных вычислений. 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— К.: Наукова Думка, 1990. — 128 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0" lang="uk-UA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iks.inf.ethz.ch/education/ws04/eai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рід-інфраструктура для наукових та освітніх установ України http://grid.org.u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.В. Кононов, А.В. Мисник,  С.П. Радченко,  О.О. Судаков Моделювання фізичних процесів Київський університет, Київ, 2006, 90с (Ук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b812f"/>
                </a:solidFill>
                <a:latin typeface="Arial"/>
              </a:rPr>
              <a:t>The Linux documantation project http://tldp.or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Эндрюс Г.Р. Основы многопоточного, параллельного и распределенного программирования. - Вильямс, издательский дом, Москва, 2003, 512 с. (Рос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ейтел Х. М., Дейтел П. Д., Сантри С.И. Технологии программирования на Java 2: Бином, Москва, 2003, Кн.2, 464с. (Рос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6Geist Al, Beguelin A., Dongarra J., Jiang W., Manchek R. PVM: parallel virtual machine .- The MIT press, Cambridge; London, 1997, 278p. (Анг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Eds. A.M.Bruaset, A.Tveito. Numerical solution of partial differential equations on parallel computers. - Springer, Berlin, Heidelberg, 2006, 482 p. (Англ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ідготовка до лабораторних робі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тримання сертифіката гр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береження сертифіка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мпорт сертифіката в броузер на новому міс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еєстрація у віртуальній організа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лаштування клієнт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sis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ренування роботи з командним рядко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13160" y="3751200"/>
            <a:ext cx="4830840" cy="3106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Отримання сертифіката грід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91520" cy="5005440"/>
          </a:xfrm>
          <a:prstGeom prst="rect">
            <a:avLst/>
          </a:prstGeom>
          <a:solidFill>
            <a:srgbClr val="3366ff">
              <a:alpha val="64000"/>
            </a:srgbClr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test</a:t>
            </a: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bed.univ.kiev.ua/ca_request.ph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ащ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Ще краш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able firef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Explorer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цює, але складніш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йде лист для продов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ка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, поки сертифікат п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дпишу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Arial"/>
              </a:rPr>
              <a:t>http://testbed.univ.kiev.ua/ca_valids.php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ходимо </a:t>
            </a: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тим самим броузер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цаємо на св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й сертифікат і імпортуємо його в броуз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береження сертиф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ка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хід на кластер тільки з Вашим сертифікат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трата сертифіката – не зможете виконати лабораторні – </a:t>
            </a:r>
            <a:r>
              <a:rPr b="0" lang="uk-UA" sz="2200" spc="-1" strike="noStrike">
                <a:solidFill>
                  <a:srgbClr val="ff0066"/>
                </a:solidFill>
                <a:latin typeface="Arial"/>
              </a:rPr>
              <a:t>оцінка “незадовільно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uk-UA" sz="2600" spc="-1" strike="noStrike">
                <a:solidFill>
                  <a:srgbClr val="006633"/>
                </a:solidFill>
                <a:latin typeface="Arial"/>
              </a:rPr>
              <a:t>броузері, яким генерували сертифік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стивост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(Параметри)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тиф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ти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ш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 сертифік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ходите свій сертиф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тискаєте Ек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те пар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уєте на диск у формат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kcs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о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зково 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правте сертифікат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або інше безпечне сховищ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Імпорт сертифікату в броузер на новому місц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берігаєте сертифікат на локальну машин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астивост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(Параметри)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ртиф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ші сертифіка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пор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ідкриваєте файл сертифка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єстрація у віртуальній організа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s</a:t>
            </a:r>
            <a:r>
              <a:rPr b="0" lang="uk-UA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://voms.grid.org.ua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testbed.univ.kiev.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роузером із імпортованим сертифіка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реєструвати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повнюємо фор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тримуємо лист н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ка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 підтвердж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чі курс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еоретичні основи роботи паралельних та розподілених сист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ехнології розробки паралельних та розподілених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актичні навички роботи з паралельними та розподіленими систем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актичні навички розробки паралельних та розподілених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Застосування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sis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testbed.univ.kiev.ua/i_gsissh.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кщо немає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тановлю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аємо кл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є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звертаємо архів на дис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ускаємо з отриманого каталога файл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sshterm.b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бир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-&gt;New Conn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t to connec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grid.org.ua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 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в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изувась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Grid Certificate -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ш сертиф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т, пароль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ertif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bed.univ.kiev.ua-&gt;Fetch All-&gt;voms-proxy-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ренування з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 командним рядко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окументація 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tldp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ходимо кл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ієнтом на клас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ренуємос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Що таке паралельні та розподілені обчислення?</a:t>
            </a:r>
            <a:r>
              <a:rPr b="0" lang="uk-UA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значення паралельних та розподілених обчислен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аралельні обчисленн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для розрахунку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одночасн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овується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декілька фізичних пристрої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озподілені обчисленн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розрахунок виконується у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декількох адресних просторах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з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опомогою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декількох процесів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рогра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ьно – значить одночасн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проміжках часу 1 та 2 «проходить» процес 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 проміжках часу 2 та 3 «проходить» процес 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6633"/>
                </a:solidFill>
                <a:latin typeface="Arial"/>
              </a:rPr>
              <a:t>На проміжку часу 2 процеси A та B «проходять» одночасно, тобто паралель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435640" y="2491920"/>
            <a:ext cx="3114000" cy="1953000"/>
            <a:chOff x="5435640" y="2491920"/>
            <a:chExt cx="3114000" cy="1953000"/>
          </a:xfrm>
        </p:grpSpPr>
        <p:sp>
          <p:nvSpPr>
            <p:cNvPr id="143" name=""/>
            <p:cNvSpPr/>
            <p:nvPr/>
          </p:nvSpPr>
          <p:spPr>
            <a:xfrm flipV="1">
              <a:off x="5506920" y="249192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5640" y="400356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9280" y="395100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6920" y="3427200"/>
              <a:ext cx="187164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27640" y="2923920"/>
              <a:ext cx="1871640" cy="0"/>
            </a:xfrm>
            <a:prstGeom prst="line">
              <a:avLst/>
            </a:prstGeom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27640" y="263520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78560" y="263520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53080" y="299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69440" y="2492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2472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836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5080" y="40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е одночасно – значить не паралель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и процес A виконується, процес B – не виконуєть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цеси A та B виконуються не паралельн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22840" y="2395440"/>
            <a:ext cx="3114000" cy="1827000"/>
            <a:chOff x="5622840" y="2395440"/>
            <a:chExt cx="3114000" cy="1827000"/>
          </a:xfrm>
        </p:grpSpPr>
        <p:sp>
          <p:nvSpPr>
            <p:cNvPr id="158" name=""/>
            <p:cNvSpPr/>
            <p:nvPr/>
          </p:nvSpPr>
          <p:spPr>
            <a:xfrm flipV="1">
              <a:off x="5694480" y="239544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22840" y="390672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96480" y="385416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99200" y="253980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3920" y="253980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07200" y="253980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253980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5920" y="3619440"/>
              <a:ext cx="5032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03920" y="3619440"/>
              <a:ext cx="5032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99200" y="3187440"/>
              <a:ext cx="503280" cy="0"/>
            </a:xfrm>
            <a:prstGeom prst="line">
              <a:avLst/>
            </a:prstGeom>
            <a:ln w="7632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7200" y="3187440"/>
              <a:ext cx="503280" cy="0"/>
            </a:xfrm>
            <a:prstGeom prst="line">
              <a:avLst/>
            </a:prstGeom>
            <a:ln w="7632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77200" y="3135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77000" y="3116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4080" y="2684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53360" y="2684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и паралельного викон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вухпроцесорний комп’ю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исковий масив з декількох диск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аводський конвеє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ригада працівників, які копають я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дночасна робота диска та процесора (асинхрониий режи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аралельна робота декількох відеоадапте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вопроцесорний комп’юте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30120" y="1409760"/>
          <a:ext cx="8559720" cy="23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409760"/>
                    <a:ext cx="85597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24000" y="4292640"/>
            <a:ext cx="81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жен процесор виконує свою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синхронний режим читання дис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360360" y="1800360"/>
            <a:ext cx="8459640" cy="1800000"/>
          </a:xfrm>
          <a:prstGeom prst="roundRect">
            <a:avLst>
              <a:gd name="adj" fmla="val 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2200" y="2048040"/>
            <a:ext cx="2143080" cy="1191960"/>
          </a:xfrm>
          <a:prstGeom prst="roundRect">
            <a:avLst>
              <a:gd name="adj" fmla="val 1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рос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двари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чит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ных с д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1079640"/>
            <a:ext cx="5219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1079640"/>
            <a:ext cx="836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0360" y="4140360"/>
            <a:ext cx="8459640" cy="161892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1979640"/>
            <a:ext cx="180036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руги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11640" y="1979640"/>
            <a:ext cx="12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1979640"/>
            <a:ext cx="180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н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4319640"/>
            <a:ext cx="180036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4319640"/>
            <a:ext cx="216072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читы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40360" y="4319640"/>
            <a:ext cx="180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ыдач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60360" y="3240000"/>
            <a:ext cx="54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400720" y="3236400"/>
            <a:ext cx="539640" cy="108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55640" y="1425600"/>
            <a:ext cx="152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00360" y="3774960"/>
            <a:ext cx="679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33"/>
                </a:solidFill>
                <a:latin typeface="Garamond"/>
              </a:rPr>
              <a:t>Приклади не паралельного виконанн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агатозадачна операційна система із розділенням час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ережа Ethernet із загальним середовищем передачі даних (CMACD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инхронний режим доступу до жорсткого дис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ля чого це потрібно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і сучасні комп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’ютерні системи використовують елементи паралельної обробки інформ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агатопроцесорність, конвеєрна обробк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і сучасні комп’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ютерні системи використовуют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розподілені обчис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истувачі звикли до того, що можна працювати «одразу» із декількома комп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ютерами та програ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Інтернет, локальні мережі, зв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’язані об’єкти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еякі задачі можна сьогодні вирішити лише з допомогою паралельних та розподілених обчис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отримання «надзвичайно» високої продуктив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отримання високої надійності та відмовостійк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еякі ресурси розподілені за визначенн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33"/>
                </a:solidFill>
                <a:latin typeface="Arial"/>
              </a:rPr>
              <a:t>Фахівці повинні в цьому розбира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пераційна система із розділенням час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жна програма отримує свій квант ча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ключення між програмами виконується швид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Здаєть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що усі програми виконуються одночас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правді –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е парал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356000" cy="32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користання паралеліз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Єдина мета – збільшення продуктивності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дуктивні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дуктивність – кількість операцій, що виконуються за одиницю час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им складніша задача, тим більша продуктивність системи потрібна для її вирішення за розумний ча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Якщо збільшити кількість операцій, що виконуються одночасно, то збільшиться продуктивність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Шляхи підвищення продуктивності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Інтенсивні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ристання нових фізичних принципів побудови комп’ютерних систем (оптичні комп’ютери, наноелектроніка, високомолекулярна електроніка, квантов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 систе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кстенсивні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більшення тактової частоти пристрої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ристання паралельної обро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Нові технолог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кращий варіант, але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ізичні основи сучасних комп’ютерних технологій були розроблені років 30 тому (фізика напівпровідників та діелектрикі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і фізичні методи стануть технологіями приблизно років через 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більшення тактової часто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ктивність пропорційна тактовій часто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більшення тактової частоти призводить до збільшення потрібної потужності та до неохідності підсиленого охолодж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більшення тактової частоти призводить до зростання впливу паразитних обернених зв’язків та до необхідності введення нових технічних ріш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ьні обчисле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кщо один робітник викопає яму за 1 годину, то 2 робітники – за 30 хвил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кщо один процесор повільно…, то можна поставити 2, 3, 100 … і буде швид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на підвищувати продуктивність без введення принципово нових фізичних та технічних ріш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Ніяким іншим методом сьогогодні неможна досягти такого підвищення продуктивності, як за рахунок паралельної обро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івні паралелізм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івень дрібних структурних одиниць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e grain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вень інструкц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 рівні середніх структурних одиниц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вень підпрогр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рівні великих структурних одиниць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rse grain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вень об’єкт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івень прикладних прогр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аралелізм на рівні машинних інструкці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і (чи більше) машинних інструкцій виконуються одночас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уперскалярні та векторні процесо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нвеє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сутні в усіх сучасних процесорах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SE, MMX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28083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ізм на рівні процеду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на процедура (функція, метод) окремо виконується на своєму процесор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овується при багатопотоковому програмуван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ік – частина процесу, яка виконується паралельно з іншими такими ж частин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укові та промислові задачі, що потребують паралельних обчислен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імія, молекулярна біолог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зробка лікарських препарат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делюванн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 Монте-Кар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делювання органів,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йросисте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обка д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бори зображ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ез суперком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ютер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важко роз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зувати сучасні науково-технічні за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ізм на рівні об’єкт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и кожного об’єкту виконуються одночасно із методами інших об’єкт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’єкт – це дані та ті дії (методи, функції), котрі з цими даними можна виконув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овуються в багатопотокових програмах та розподілених об’єктних система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COM, CORB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аралелізм на рівні прикладних прогр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на прикладна програма виконується на своєму процесорі або на своєму комп’ютері одночасно з іншими прикладними програм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користовується для кластерних розрахунків та інших розподілених сист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5925960" cy="24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кий рівень кращий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кожної задачі – сві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одній і тій же паралельній програмі використовується одразу декілька рівн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ідвищення продуктив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Треба підвищувати рі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більшуються затрим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уменьшения задержек —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знижувати уро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b812f"/>
                </a:solidFill>
                <a:latin typeface="Arial"/>
              </a:rPr>
              <a:t>Змешнується продуктивні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уже висока продуктивність – </a:t>
            </a:r>
            <a:r>
              <a:rPr b="0" lang="ru-RU" sz="2600" spc="-1" strike="noStrike">
                <a:solidFill>
                  <a:srgbClr val="3b812f"/>
                </a:solidFill>
                <a:latin typeface="Arial"/>
              </a:rPr>
              <a:t>великі систе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уже малі затримки – </a:t>
            </a:r>
            <a:r>
              <a:rPr b="0" lang="ru-RU" sz="2600" spc="-1" strike="noStrike">
                <a:solidFill>
                  <a:srgbClr val="3b812f"/>
                </a:solidFill>
                <a:latin typeface="Arial"/>
              </a:rPr>
              <a:t>мініатюрні систе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кладності, пов’язані із паралелізмо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ідність спеціальних паралельних алгоритм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ідність спеціальних паралельних прогр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обхідність спеціальних апаратних пристроїв для паралельних розрахунк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ьні алгорит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ласичне визначеня: Алгоритм – послідовність операцій, яку необхідно виконати для вирішення задач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аралельний алгоритм – послідовність необхідно розбивати на послідовності, що виконуються одночасно – розпаралели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уже часто задача розпаралелення надзвичайно склад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Іноді застосовуються власні унікальні «паралельні» підход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 всі алгоритми можна ефективно розпаралели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екомпозиція, зв’язок та синхронізаці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жен паралельний алгоритм має три складові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компози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в’язо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нзронізаці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екомпозиці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Декомпозиці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розбиття задачі на частини, що виконуються паралель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Декомпозиція дани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дані, з якими працює програма розбиваються на менші частини і з кожною частиною виконуються свої операц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Декомпозиція функці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ослідовність дій розбивається на ділянки, які виконуються парал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декомпозиці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зрахунок прогнозу погоди для Украї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ериторія розбивається на більш дрібні ділянки і для кожної ділянки виконується розрахунок на своєму процесорі, паралельноз інши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050920" y="2997360"/>
            <a:ext cx="4751280" cy="3097080"/>
            <a:chOff x="2050920" y="2997360"/>
            <a:chExt cx="4751280" cy="3097080"/>
          </a:xfrm>
        </p:grpSpPr>
        <p:grpSp>
          <p:nvGrpSpPr>
            <p:cNvPr id="237" name=""/>
            <p:cNvGrpSpPr/>
            <p:nvPr/>
          </p:nvGrpSpPr>
          <p:grpSpPr>
            <a:xfrm>
              <a:off x="2050920" y="3070440"/>
              <a:ext cx="4751280" cy="3024000"/>
              <a:chOff x="2050920" y="3070440"/>
              <a:chExt cx="4751280" cy="302400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2200" y="3130560"/>
                <a:ext cx="4464000" cy="27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55420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98584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9056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9384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7020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4656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050920" y="371808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50920" y="429408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50920" y="487044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22200" y="537372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796000" y="299736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051640" y="32130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6360" y="39337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в’яз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ізні процесори повинні обмінюватися між собою інформаціє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зв’язк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рахунок прогнозу погоди для Украї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іж сусідніми областями повинен виконуватись обмін інформацією про стан погоди на границі об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050920" y="2997360"/>
            <a:ext cx="4751280" cy="3097080"/>
            <a:chOff x="2050920" y="2997360"/>
            <a:chExt cx="4751280" cy="3097080"/>
          </a:xfrm>
        </p:grpSpPr>
        <p:grpSp>
          <p:nvGrpSpPr>
            <p:cNvPr id="257" name=""/>
            <p:cNvGrpSpPr/>
            <p:nvPr/>
          </p:nvGrpSpPr>
          <p:grpSpPr>
            <a:xfrm>
              <a:off x="2050920" y="3070440"/>
              <a:ext cx="4751280" cy="3024000"/>
              <a:chOff x="2050920" y="3070440"/>
              <a:chExt cx="4751280" cy="3024000"/>
            </a:xfrm>
          </p:grpSpPr>
          <p:pic>
            <p:nvPicPr>
              <p:cNvPr id="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122200" y="3130560"/>
                <a:ext cx="4464000" cy="27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255420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8584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9056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9384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7020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46560" y="3070440"/>
                <a:ext cx="0" cy="30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50920" y="371808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50920" y="429408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50920" y="487044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22200" y="537372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796000" y="299736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779640" y="458136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16360" y="407628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32360" y="407664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ім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Є формула речовини (лікарський препарат), знайти, як ця речовина вступає в реакцію, наскільки вона стійка і як ді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14880" y="1484280"/>
            <a:ext cx="312912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нхрон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безпечення того, що всі частини які виконуються паралельно в певні моменти часу знаходяться у визначеному стані ста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клад, задача розв’язана, тільки коли всі частини що виконуються паралельно закінчать свою робо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Щоб дані, які зчитані із змінної вважати коректними, потрібно гарантувати, що їх в цю змінну запис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користаня спеціальних паралельних алгоритмі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клад: знайти су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такому вигляді задача суттєво послідов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я розпаралелення використаємо асоціативність додаванн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0360" y="1557360"/>
                <a:ext cx="2017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80" name=""/>
          <p:cNvGraphicFramePr/>
          <p:nvPr/>
        </p:nvGraphicFramePr>
        <p:xfrm>
          <a:off x="546120" y="3289320"/>
          <a:ext cx="8188200" cy="257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3289320"/>
                    <a:ext cx="818820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 - конвеє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760400" y="1351080"/>
          <a:ext cx="5978520" cy="45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351080"/>
                    <a:ext cx="59785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тани конвеє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84360" y="1623960"/>
          <a:ext cx="7694640" cy="35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3960"/>
                    <a:ext cx="7694640" cy="35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кладність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ельний алгоритм значно складніший ніж послідов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невеликій кількості доданків або при великій кількості процесорів можна отримати не виграш, а програш у швидк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дуже великій кількості доданків і не дуже великій кількості процесорів виграш у швидкості буде істотнішим порівняно з послідовним випад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фективність розпаралелення залежить від задач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еціальні паралельні програ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ідовна програма виконується на одному процесорі, тому не отримує ніякої переваги від паралельного викон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аралельних програм окрім самих обчислень необхідно реалізувати зв’язок та синхронізаці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ідно реалізувати декомпозиці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спрощення існують спеціальні компілятори та бібліоте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ладність відлагодження та профілю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Апаратні засоби паралельних обчислень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аралельних обчислень потрібно декілька процесорів або комп’ютер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кілька процесорів/комп’ютерів завжди в сумі дорожчі, ніж один процесор/комп’ю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ідне забезпечення високошвидкісних каналів зв’язку між процесорами/комп’ютер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з збільшенням кількості та складності обладнання часто зменшується його надійні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клади паралельних систе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2571840" cy="3527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076720" y="1989000"/>
            <a:ext cx="3218040" cy="2855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3600" y="522936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тер Київського наці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іверситету імені Тараса Ше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3120" y="5373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тери Інституту кіберн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 України імені Глуш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Істиний та псевдопаралеліз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95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багатозадачних операційних систем із одним процесором одночасного виконання отримати неможна, але здається, що задачі виконуються однчас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такій ситуації проблеми паралелізму залишаються, а підвищення продуктивності ні - </a:t>
            </a:r>
            <a:r>
              <a:rPr b="0" lang="ru-RU" sz="2600" spc="-1" strike="noStrike">
                <a:solidFill>
                  <a:srgbClr val="3b812f"/>
                </a:solidFill>
                <a:latin typeface="Arial"/>
              </a:rPr>
              <a:t>псевдопаралеліз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730840" y="1989000"/>
            <a:ext cx="3114000" cy="1827000"/>
            <a:chOff x="5730840" y="1989000"/>
            <a:chExt cx="3114000" cy="1827000"/>
          </a:xfrm>
        </p:grpSpPr>
        <p:sp>
          <p:nvSpPr>
            <p:cNvPr id="302" name=""/>
            <p:cNvSpPr/>
            <p:nvPr/>
          </p:nvSpPr>
          <p:spPr>
            <a:xfrm flipV="1">
              <a:off x="5802480" y="198900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350028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04480" y="3447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ч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07200" y="213336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11920" y="213336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15200" y="213336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19920" y="2133360"/>
              <a:ext cx="0" cy="1657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03920" y="3213000"/>
              <a:ext cx="5032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1920" y="3213000"/>
              <a:ext cx="503280" cy="0"/>
            </a:xfrm>
            <a:prstGeom prst="line">
              <a:avLst/>
            </a:prstGeom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07200" y="2781000"/>
              <a:ext cx="503280" cy="0"/>
            </a:xfrm>
            <a:prstGeom prst="line">
              <a:avLst/>
            </a:prstGeom>
            <a:ln w="7632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5200" y="2781000"/>
              <a:ext cx="503280" cy="0"/>
            </a:xfrm>
            <a:prstGeom prst="line">
              <a:avLst/>
            </a:prstGeom>
            <a:ln w="7632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85200" y="2728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85000" y="2709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82080" y="227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61360" y="2277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елізм та конкурен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llel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иноні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Паралеліз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дночасність виконання зада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Конкуренці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дночасність використання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к вирішується задач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ластивості речовини визначаються типом атомів, положенням ядер та електронною конфігураціє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ля знаходження електронної конфігурації необхідно розв’язувати рівняння Шредінгенра для всіх атом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ількість операцій, та об’єм оперативної пам’яті, необхідні для розв’язання визначаються числом електронів молеку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ількість операцій пропорційна N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’єм оперативної пам’яті пропорційний N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4880" y="1484280"/>
            <a:ext cx="312912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сновки відносно паралелізм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Продуктивність послідовних ЕОМ не може зростати до нескінчен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Єдиний спосіб отримати надзвичайно високу продуктивність на існуючому технічному рівні – це використовувати паралельні обчислення на рівні інструкцій, процедур, об’єктів, прикладних прог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Сучасні (навіть послідовні комп’ютери) використовують паралелі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Використання паралельних обчислень веде до подорожчання обладн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аралельні обчислення вимагають розробки спеціальних алгоритмів та використання спеціальних засобів програм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Не всі задачі можна ефективно розпаралел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оділені обчисленн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числення виконується в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екількох адресних простор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за допомогою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екількох процесі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– одиниця виконання завдання, яка включає код який виконується та ресурси, які використовує цей код і які захищені від доступу інших процес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дресний простір – це те, яким чином пам’ять та інші ресурси надаються процес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еваги розподілених систе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ливість використання ресурсів, які знаходяться на різних апаратних платформах або належать різним програм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ливість спеціалізації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ливість децентраліза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ливість створення надлишку ресурсів для підвищення надійн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икористання ресурсів, що знаходяться на різних комп’ютера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 до віддалених мережевих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ання доступу користувачам інших машин до своїх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зподілені обчислення зараз стали синонімом слова І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ециал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кщо є ресурс, який неохідний великій кількості людей, то його необов’язково розміщувати на комп’ютерах усіх користувачів, яким він потріб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на створити один ресурс, до якого буде виконуватися доступ багатьох користувач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ецентралізаці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і дуже великого об’єму можна рознести по декількох фізичних систем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клад: великі пошукові систе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безпечення надійн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ворюється декілька копій одного ресурса і на випадок виведення з ладу однієї копії, всі інші будуть доступ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клад: декілька копій бази даних, або декілька задач, які виконують одні й ті ж д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кладності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композиція, зв’язок, синхронізац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кладнення програмува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аралельні та розподілені обчисленн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гато спільного в цілях та підход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всі паралельні обрахунки є розподілени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всі розподілені обрахунки є паралельни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истема із спільною пам’ят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лельна, але не розподіл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і програми можуть сумісно використовувати одні й ті ж самі да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1881000" cy="16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цінка часу та ресурсі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ількість атомів 2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ількість електронів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ількість базисних функцій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ількість операцій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5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Задачу необхідно розв’язувати десятки/сотні разів </a:t>
            </a:r>
            <a:r>
              <a:rPr b="0" lang="en-US" sz="2500" spc="-1" strike="noStrike">
                <a:solidFill>
                  <a:srgbClr val="3b812f"/>
                </a:solidFill>
                <a:latin typeface="Arial"/>
              </a:rPr>
              <a:t>~10</a:t>
            </a:r>
            <a:r>
              <a:rPr b="0" lang="en-US" sz="2500" spc="-1" strike="noStrike" baseline="30000">
                <a:solidFill>
                  <a:srgbClr val="3b812f"/>
                </a:solidFill>
                <a:latin typeface="Arial"/>
              </a:rPr>
              <a:t>1</a:t>
            </a:r>
            <a:r>
              <a:rPr b="0" lang="uk-UA" sz="2500" spc="-1" strike="noStrike" baseline="30000">
                <a:solidFill>
                  <a:srgbClr val="3b812f"/>
                </a:solidFill>
                <a:latin typeface="Arial"/>
              </a:rPr>
              <a:t>5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Час на процесорі потужністю 1 млрд. операцій за секунду </a:t>
            </a:r>
            <a:r>
              <a:rPr b="0" lang="uk-UA" sz="2500" spc="-1" strike="noStrike">
                <a:solidFill>
                  <a:srgbClr val="3b812f"/>
                </a:solidFill>
                <a:latin typeface="Arial"/>
              </a:rPr>
              <a:t>близько тижн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Пам’яті близько </a:t>
            </a:r>
            <a:r>
              <a:rPr b="0" lang="uk-UA" sz="2500" spc="-1" strike="noStrike">
                <a:solidFill>
                  <a:srgbClr val="3b812f"/>
                </a:solidFill>
                <a:latin typeface="Arial"/>
              </a:rPr>
              <a:t>4 </a:t>
            </a:r>
            <a:r>
              <a:rPr b="0" lang="ru-RU" sz="2500" spc="-1" strike="noStrike">
                <a:solidFill>
                  <a:srgbClr val="3b812f"/>
                </a:solidFill>
                <a:latin typeface="Arial"/>
              </a:rPr>
              <a:t>Гбай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еобхідно декілька процесорі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4880" y="1484280"/>
            <a:ext cx="312912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стема із дзеркалюванн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’ютер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конує робот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а комп’ютер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є резервним на випадок виведення комп’ютера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з ла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’ютери не працюють одночас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268440" cy="15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снов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ралельні та розподілені обчислення дозволяють вирішувати проблеми продуктивності, надійності та забезпечення доступу до ресур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м не менш використання паралельних та розподілених обчислень потребує ускладнення алгоритмів, програмування та апаратних засоб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аралельних та розподілених обчислень багато спільного, але є деякі відмінност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итан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Молекулярна біохімі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Є вірусний білок для якого потрібно підібрати лікарський препарат, який буде на нього дія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ількість атомів декілька тися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672000" cy="396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Як вирішується задач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користовуються наближені методи класичної фіз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ількість операцій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д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ількість ітерацій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ількість атом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требує інтенсивного обміну між процесор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 розрахунку – декілька тижн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672000" cy="396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ІОЦ КНУ імені Тараса Шевченка, 2005 р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9:12:01Z</dcterms:created>
  <dc:creator>saa</dc:creator>
  <dc:description/>
  <dc:language>en-US</dc:language>
  <cp:lastModifiedBy>saa</cp:lastModifiedBy>
  <dcterms:modified xsi:type="dcterms:W3CDTF">2013-08-31T19:01:19Z</dcterms:modified>
  <cp:revision>64</cp:revision>
  <dc:subject/>
  <dc:title>Gfhfktkmys </dc:title>
</cp:coreProperties>
</file>