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C44-551E-4B48-B478-2A6657F6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BD3-242A-492D-95E4-88EC70D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620-E068-41D4-8F7F-F1C40A27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42F-64A7-4AB6-92B5-7C03635D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A15-3C47-408B-853F-E591A95D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57A9-787E-4D6A-BF62-3F888A71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44A0-7768-4FC7-A279-39A6149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5A73-D94B-4F5B-9BFE-88488A0F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B32A-B37C-4D6D-89D6-DCE2A8B6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61E4-8C0C-4B8A-9813-B3B4AC6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98A-2BB6-44AA-9548-0178197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1D0-BB4E-48EA-B6A3-6569FAE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94EB-6B62-4198-B4AD-852500D6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2145-D7B3-4C0D-9118-08B3769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2ACE-D30A-48AC-8734-3CF65F4D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2E10-0E2E-4027-99C1-3745C1F6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8F93-A3E6-4A55-B772-C4A81CC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0FF-0A59-4531-89E6-5916A00D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A3B-A76D-4AE1-B64C-DB9BB4E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36D-19E0-42A6-9733-85FF633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01D-B5A0-4268-B5C1-3BE62FCF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BA-DCE8-4A8B-9001-BCB64D0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B9B-745E-4CBA-9AE9-F2B7DAC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519-4457-41BC-9C42-369BBF7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DB6-466C-4EC7-BA54-5327E001F4A2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1EDA-674E-4FED-B795-4EE639AB517A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imonitor.cern.ch/" TargetMode="External"/><Relationship Id="rId2" Type="http://schemas.openxmlformats.org/officeDocument/2006/relationships/hyperlink" Target="http://grid.org.ua/monitors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lobus.org/" TargetMode="External"/><Relationship Id="rId2" Type="http://schemas.openxmlformats.org/officeDocument/2006/relationships/hyperlink" Target="http://www.unicore.eu/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ca.ugrid.org/" TargetMode="External"/><Relationship Id="rId2" Type="http://schemas.openxmlformats.org/officeDocument/2006/relationships/hyperlink" Target="https://testbed.univ.kiev.ua/" TargetMode="External"/><Relationship Id="rId3" Type="http://schemas.openxmlformats.org/officeDocument/2006/relationships/hyperlink" Target="https://voms.grid.org.ua/" TargetMode="External"/><Relationship Id="rId4" Type="http://schemas.openxmlformats.org/officeDocument/2006/relationships/hyperlink" Target="https://testbed.univ.kiev.ua/" TargetMode="External"/><Relationship Id="rId5" Type="http://schemas.openxmlformats.org/officeDocument/2006/relationships/hyperlink" Target="https://testbed.univ.kiev.ua/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Гр</a:t>
            </a:r>
            <a:r>
              <a:rPr b="0" lang="uk-UA" sz="5000" spc="-1" strike="noStrike">
                <a:solidFill>
                  <a:srgbClr val="006633"/>
                </a:solidFill>
                <a:latin typeface="Garamond"/>
              </a:rPr>
              <a:t>ід-систем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і розподілені обчислення” Лекція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нфраструктурні служби (1-2 на весь грід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а система – база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Які кластери, задачі, елементи збереженн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сі мають доступ до цієї служ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лад 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Grid Index Information Servic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IS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окер ресурс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в – планувальник і запуск задач на обчислювальних елемен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лужби ресурсів (на всіх кластерах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формаційний агент – оновлення інформації в інформаційній службі (кожні 5 хви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кла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Resource Information Servic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числювальний елем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інтерфейс до системи пакетного режи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мент збереження д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E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– інтерфейс д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и збереження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0000"/>
                </a:solidFill>
                <a:latin typeface="Arial"/>
              </a:rPr>
              <a:t>Багато різних несумісних релізацій програм і протокол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лужби грі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роботи інформаційно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ї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систе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нформаційний агент кожні 5 хвил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днується з інформаційною систем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є стан всі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є наявність і стан всіх служб на кластер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окер ресур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ля запуску задачі вибирає з інфосистеми кластери, які задовольняють вимог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находить найкращий клас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вертається д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 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а для запуску задач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віряє стан задач, рестартує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даляє інформацію про завершені задачі з інфосис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 запуску за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ристувач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ює (вибирає) файл опису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ворює (вибирає) програми для запус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ликає команду для відправки задачі броке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іодично звертається до брокера дял отримання статусу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ісля виконання отимує файли результат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рок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віряє опис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пускає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 виконання за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роке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бір кластера з інфосис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а опису задач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ча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стера вхідн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ай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ікує поки всі вхідні дан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 будут готові 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in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 брокера чи інши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вить задачу в чергу на кластер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кає поки задача дорах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нищує всі файли задачі, крім вихідних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out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 вихідні файл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нші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чи на бро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єструє в інфосисте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 завершення задач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кон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 запити на запис, читання фай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оніторинг – аналіз стану всіх служб за інформаційною системо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http://</a:t>
            </a:r>
            <a:r>
              <a:rPr b="0" lang="uk-UA" sz="3000" spc="-1" strike="noStrike">
                <a:solidFill>
                  <a:srgbClr val="006633"/>
                </a:solidFill>
                <a:latin typeface="Arial"/>
              </a:rPr>
              <a:t>prod.cern.ch/gst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alimonitor.cern.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grid.org.ua/mon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 моніторинг з обмеженим доступ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372360" y="2637000"/>
            <a:ext cx="2592360" cy="1557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372360" y="1052640"/>
            <a:ext cx="2592360" cy="1544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76800" y="4292640"/>
            <a:ext cx="30672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Необхідність авторизації в грі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агато служб і користувач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що всім все можна - легко зловживати довір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ля стабільності і ефективності необхідно давати доступ лише авт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изованим користувача і служб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трібен механізм точно знати хто звертає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d Security Infrastructure (GSI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жен користувач м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 персональний сертифік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на служба має персональний сертифік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ертифікат – достовірний спосіб авторизації (хто так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Сертифікати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X509 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андарт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вторизац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ії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ублічного ключ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ристувач генерує 2 клю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критий (таємний) – для шифр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ідкритий (публічний) -  для розшифр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Якщо документ не зашифровано приватним ключем, то публічним його розшифрувати дуже важ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лектронний підпис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нерується контрольна сума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ьна сума підписується приватним клю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блічний ключ передається разом з даними і зашифрованою контрольною сум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евіряється контрольна сума даних і порівнюється з розшифрованою контрольною сум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Акредитований центр сертифікації ключі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(CA, Certification Authority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ізація, якій всі довір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блічний ключ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ступний всі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 гарантувати, що підписує сертифікати лише тим кому тре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ідпис сертифі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бл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ний ключ підписуєтьс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тиф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 – публічний ключ+його контрольна сума, підписа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рево підпи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в – сертифікат підписаний сертифікатом, підписаний сертифікатом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еревірка сертифікат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ертифікат міст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ату видач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ивалість д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дентифікатор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дентифікатор того, хто підпис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віряєть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ійсність всіх полів (час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ійснсіть сертифікатів всіх, хто підпис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дкликання сертифікат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ожуть всі, хто входить в дерево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истувач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енерується список відликаних сертифікат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в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Проксі сертифіка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кс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роткодіюча пара приватного і публічного ключі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ідписана сертифікатом користув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ється публічно іншим для виконання дії від імені користув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е може діяти довше, ніж сертифікати, яким підписа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икорист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ередається разом із задачею, щоб кластер (служба) могли підписуватись від імені того, хто запустив задач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труктура гр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вторизац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еалізації проміжного програмного забезпечення гр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бота в Українській грід-інфраструктур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лужба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VOMS- Virtual Organization Membership Servic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вторизу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є членство у віртуальних організаці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исок унікальних імен користувачі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Arial"/>
              </a:rPr>
              <a:t>/DC=org/DC=ugrid/O=people/O=KNU/OU=ICC/CN=Oleksandr Sudako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стувачі реєструються у віртуальній орган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писують (шифрують) запит своїм сертифік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є дійсніть підпи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дправляє запит адміністрат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дміністрат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инен мати дійсний сертифі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ва адміністратора на додвання користу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MS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прокс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ксі-сертифікат користувача з додатковими атрибут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ідписаний сертифікатом служ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Авторизація на грід-ресурс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жна служба (програм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є підписаний сертифі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є список всіх сертифікатів довіре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є список вс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х довірен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є спис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жен кластер (ресурс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новлює список всіх сертифікатів довіре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од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влює спис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еріодично оновлює список користувачі довірени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відображати користувачів ВО на локальних користувач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жен користув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ує пару ключ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дписує сертифіка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эться у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римує доступ до всіх служб, які які підтримую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Проміжне програмне забезпечення грід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міжне програмне забезпечення (програмне забезпечення середнього рівня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ware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бліотеки, служби, програми – які дають можливість використовувати грід-інфраструкт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ля грід - як правило складне програмне забезпечення, погано структуроване і нестабіль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 різні несумісні реаліз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аліз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lobus toolkit  </a:t>
            </a:r>
            <a:r>
              <a:rPr b="0" lang="en-US" sz="19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globus.org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інімальний набір засобів для створення грід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Основа багатьох інших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core </a:t>
            </a:r>
            <a:r>
              <a:rPr b="0" lang="uk-UA" sz="19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unicore.eu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ігінальний набір інфтрументів для об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єднання суперкомп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ютер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ів у Німеччи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CG http://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wlcg.web.cern.c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зширений наб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ір служб  та інструментів на базі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us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H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l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зширення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Одне з найфункціональніш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rdugrid-ar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зширенн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us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rdug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дне з найстабільніш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M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ww.eu-emi.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йновіш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єднує користні функції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C, glite, Unic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Укра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ї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ська гр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-інфраструк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002 Перший грід-кластер у Харківському фізико-технічному інституті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росйському грід і до цього ча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005  Перші Українські кластер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eE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г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 з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 ініціативою Інституту теорфізики НАНУ та Київського університе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КНУ - Перший офіційний український грід-ресур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007 створення Українського академічного грі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лизько 10 кластері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009 перший український кластер (КНУ)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собливост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реалізації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ware nordugrid-arc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льшість класте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нфосисте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is.grid.org.ua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is.bitp.kiev.ua –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іртуальн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 організа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ms.grid.org.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d.org.ua/moni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dugrid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стосування гр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тримання сертифіка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://ca.ugrid.or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s://testbed.univ.kiev.u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льки для університе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еєстрація у 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s://voms.grid.org.u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Укра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становит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римати доступ до командного рядка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стосува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I-SSH 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testbed.univ.kiev.u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оступ до кластера КНУ через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SI-SS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09760" y="1271520"/>
            <a:ext cx="63244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енерац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я проксі-сертифікат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и доступі п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I-SSH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ксі вже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ли на кластері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 сертифікат і ключ у форматі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5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71711" r="0" b="14941"/>
          <a:stretch/>
        </p:blipFill>
        <p:spPr>
          <a:xfrm>
            <a:off x="1332000" y="2349360"/>
            <a:ext cx="63244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14941" r="0" b="41653"/>
          <a:stretch/>
        </p:blipFill>
        <p:spPr>
          <a:xfrm>
            <a:off x="1258920" y="4149720"/>
            <a:ext cx="63244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вертац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я сертифікат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kcs1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5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509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kcs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83374" r="0" b="6624"/>
          <a:stretch/>
        </p:blipFill>
        <p:spPr>
          <a:xfrm>
            <a:off x="971640" y="2276640"/>
            <a:ext cx="6324480" cy="431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0" t="53349" r="0" b="4930"/>
          <a:stretch/>
        </p:blipFill>
        <p:spPr>
          <a:xfrm>
            <a:off x="971640" y="2781360"/>
            <a:ext cx="632448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0" t="66747" r="0" b="4855"/>
          <a:stretch/>
        </p:blipFill>
        <p:spPr>
          <a:xfrm>
            <a:off x="971640" y="5084640"/>
            <a:ext cx="63244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етакомп'юте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акомп'ютери – використання існуюючих (простоюючих) комп'ютерних ресурсів для рішення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'ютерний кла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'ютери в межах Інтер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нційно висока продуктивність – мільйони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7604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лаштування інформаційної системи на клієнт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cc9900"/>
                </a:solidFill>
                <a:latin typeface="Courier New"/>
              </a:rPr>
              <a:t>Oleksandr Sudakov :: tb054 @ plus :: ~ &gt;</a:t>
            </a: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 cat ~/.arc/client.con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[registry/KNU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url = ldap://giis.grid.org.ua:2135/Mds-Vo-name=Ukraine,o=g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registryinterface = org.nordugrid.ldapegi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default = 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[registry/BITP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url = ldap://lcg.bitp.kiev.ua:2135/Mds-Vo-name=Ukraine,o=g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registryinterface = org.nordugrid.ldapegi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ourier New"/>
              </a:rPr>
              <a:t>default = y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айл опису задач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XRS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cc9900"/>
                </a:solidFill>
                <a:latin typeface="Courier New"/>
              </a:rPr>
              <a:t>Oleksandr Sudakov :: tb054 @ plus :: job_scripts &gt;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cat norduj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executable=job.sh)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– </a:t>
            </a:r>
            <a:r>
              <a:rPr b="0" lang="ru-RU" sz="1900" spc="-1" strike="noStrike">
                <a:solidFill>
                  <a:srgbClr val="006633"/>
                </a:solidFill>
                <a:latin typeface="Courier New"/>
              </a:rPr>
              <a:t>сценарій зада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executables=a.out)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- 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виконувані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 </a:t>
            </a:r>
            <a:r>
              <a:rPr b="0" lang="ru-RU" sz="1900" spc="-1" strike="noStrike">
                <a:solidFill>
                  <a:srgbClr val="006633"/>
                </a:solidFill>
                <a:latin typeface="Courier New"/>
              </a:rPr>
              <a:t>фай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inputFiles=(a.out ""))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- 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stagin </a:t>
            </a:r>
            <a:r>
              <a:rPr b="0" lang="ru-RU" sz="1900" spc="-1" strike="noStrike">
                <a:solidFill>
                  <a:srgbClr val="006633"/>
                </a:solidFill>
                <a:latin typeface="Courier New"/>
              </a:rPr>
              <a:t>фай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stdout="hello.txt")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- стандартний виві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stderr="hello.err")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- стандартні помил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outputFiles=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"hello.txt" ""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"hello.err" ""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- stagout 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файл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gmlog="gridlog")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- інформація грі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jobname="Chimera Jobs")</a:t>
            </a: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- ім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’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я зада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urier New"/>
              </a:rPr>
              <a:t>( walltime="20 minutes")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-</a:t>
            </a:r>
            <a:r>
              <a:rPr b="0" lang="uk-UA" sz="1900" spc="-1" strike="noStrike">
                <a:solidFill>
                  <a:srgbClr val="006633"/>
                </a:solidFill>
                <a:latin typeface="Courier New"/>
              </a:rPr>
              <a:t> </a:t>
            </a:r>
            <a:r>
              <a:rPr b="0" lang="en-US" sz="1900" spc="-1" strike="noStrike">
                <a:solidFill>
                  <a:srgbClr val="006633"/>
                </a:solidFill>
                <a:latin typeface="Courier New"/>
              </a:rPr>
              <a:t>wallt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казування вхідних і вихідних файл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(inputFiles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(файл1_на_грід "звідки_брати"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(файл2_на_грід " звідки_брати "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(outputFiles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("файл1_на_грід" "куди_класти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("файл1_на_грід" "куди_класти"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Шляхи до файл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оточний каталог запуску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(inputFiles=(a.out ""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urier New"/>
              </a:rPr>
              <a:t>(outputFiles=("hello.txt" "")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лемент збере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инен бути дост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зні проток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rm://se.biomed.kiev.ua/networkdynamics/</a:t>
            </a:r>
            <a:r>
              <a:rPr b="0" lang="uk-UA" sz="1800" spc="-1" strike="noStrike">
                <a:solidFill>
                  <a:srgbClr val="000000"/>
                </a:solidFill>
                <a:latin typeface="Courier New"/>
              </a:rPr>
              <a:t>hello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уск за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sub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_задач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ції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s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с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.univ.kiev.ua –c arc.biomed.kiev.ua –c grid.isma.kharkov.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 1|2|3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ідладочна інформац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в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дентифікатор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 запус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Oleksandr Sudakov :: tb054 @ plus :: ~ &gt; cp $X509_USER_PROXY ./user_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Oleksandr Sudakov :: tb054 @ plus :: ~ &gt; ssh cluster.univ.kiev.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 export X509_USER_PROXY=~/user_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 loadmodule -i arc-2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Module arc-2.0.0 allready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 loadmodule -i glite-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Module glite-3.2 allready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~]$  cd job_scrip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 ls a.out job.sh nordu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a.out  job.sh  nordu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 arcsub -c arc.univ.kiev.ua -c arc.biomed.kiev.ua -c g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d.isma.kharkov.ua norduj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Job submitted with jobid: gsiftp://arc.univ.kiev.ua:2811/job/LJNODmAPTzinPoP5u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LFXdqABFKDmABFKDm2iJKDmABFKDm0j6R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еревірка стану задач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 arcstat gsiftp://arc.univ.kiev.ua:2811/job/LJNODmAPTz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PoP5up3LFXdqABFKDmABFKDm2iJKDmABFKDm0j6R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WARNING: Job information not found in the information system: gsiftp://arc.uni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kiev.ua:2811/job/LJNODmAPTzinPoP5up3LFXdqABFKDmABFKDm2iJKDmABFKDm0j6R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No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екаємо хвилин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 arcstat gsiftp://arc.univ.kiev.ua:2811/job/LJNODmAPTz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PoP5up3LFXdqABFKDmABFKDm2iJKDmABFKDm0j6R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Job: gsiftp://arc.univ.kiev.ua:2811/job/LJNODmAPTzinPoP5up3LFXdqABFKDmABFKDm2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DmABFKDm0j6R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Name: Chimera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State: Finished (FINISH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Exit Code: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urier New"/>
              </a:rPr>
              <a:t>[tb054@s27 job_scripts]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тримання результат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cget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[tb054@s27 job_scripts]$ arcget gsiftp://arc.univ.kiev.ua:2811/job/LJNODmAPTzinPoP5up3LFXdqABFKDmABFKDm2iJKDmABFKDm0j6R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Results stored at: LJNODmAPTzinPoP5up3LFXdqABFKDmABFKDm2iJKDmABFKDm0j6R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Jobs processed: 1, successfully retrieved: 1, successfully cleane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[tb054@s27 job_scripts]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[tb054@s27 job_scripts]$ cd LJNODmAPTzinPoP5up3LFXdqABFKDmABFKDm2iJKDmABFKDm0j6R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[tb054@s27 LJNODmAPTzinPoP5up3LFXdqABFKDmABFKDm2iJKDmABFKDm0j6Rkm]$ 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gridlog  hello.err  hello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urier New"/>
              </a:rPr>
              <a:t>[tb054@s27 LJNODmAPTzinPoP5up3LFXdqABFKDmABFKDm2iJKDmABFKDm0j6Rkm]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ливост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 застосування грі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уже велика сумарна обчислювальна потужн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уже великі елементи збереження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на задача може запускатись повіль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есурси можуть бути недоступні або вимкнутись в процесі роб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аша програма може бути несумісна з операцйіною системою іншого клас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ли грід ефектив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елика кількість слабко залежних зад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користання потужності існуюючих комп'ютер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нічний час комп'ютери часто простоюю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нціальна потужність простоюючих комп'ютеров може бути дуже вел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уже дешев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ливість забезпеч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лишковість ресурс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ійність каналів передачі невел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малі швидкості передачі даних в межах Інтернет неможливо виконувати паралельні розраху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Що таке грід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р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андарти по 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анню обчислювальних ресур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в через інтернет в одну велику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знач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рід - Спеціальна форма розподілених обчислен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направлена на сп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не використання велико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ї кількості георгафічно разподілених ресурсів у віртуальних організа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оход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рід -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ing Gri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wer Grid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ре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ртуальні організації  (ВО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О – добровільне о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ання людей чи організацій які сп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ьно використовують  частину ресурсів грі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сурси грі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числювальні елементи – кластери, суперкомп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юте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Елементи збереження – файлові сервери, бази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жерела даних (датчики, сенсори) – установки, які видають експериментальні да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нтерфейси користувачів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– 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тали, термінальні стан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би – програми, які виконують певні інфраструктурні функ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кладні програми – наукові, промислові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435640" cy="407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GC –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гр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56360" y="3357720"/>
            <a:ext cx="2743200" cy="1647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62640" y="5200560"/>
            <a:ext cx="278136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solidFill>
            <a:srgbClr val="ccffff">
              <a:alpha val="72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GC – Large Hagron Collider Computing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CG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жерело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ані -  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20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ильйонів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 CD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щорічно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обробка 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~ 100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399"/>
                </a:solidFill>
                <a:latin typeface="Arial"/>
              </a:rPr>
              <a:t>000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тери по 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ту – обчислювальні елементи  і елементи збереження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іртуальні організ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LAS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з детектор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і люди які з ним працюю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-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е один детектор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ідповідн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ю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S –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ще один детек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 В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астери європейської грід-інфраструкту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6633"/>
                </a:solidFill>
                <a:latin typeface="Arial"/>
              </a:rPr>
              <a:t>prod.cern.ch/gs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Частина кластерів рахує для проект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6633"/>
                </a:solidFill>
                <a:latin typeface="Arial"/>
              </a:rPr>
              <a:t>http://alimonitor.cern.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3995640" cy="2400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труктурна схема – набір географічно розподілених служб, які взаємодіють між собо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707200" y="4076640"/>
            <a:ext cx="34056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формаційна систем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1360" y="4005360"/>
            <a:ext cx="18954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кер ресур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320" y="2347920"/>
            <a:ext cx="295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числювальн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4320" y="2347920"/>
            <a:ext cx="295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числювальн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7560" y="2708280"/>
            <a:ext cx="227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мент зберіг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89440" y="5284800"/>
            <a:ext cx="2955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числювальн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92680" y="5645160"/>
            <a:ext cx="227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мент зберіг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" y="5716440"/>
            <a:ext cx="295596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числювальний еле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8840" y="6076800"/>
            <a:ext cx="227304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мент зберіг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42920" y="4868640"/>
            <a:ext cx="1441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571640" y="501300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852640"/>
            <a:ext cx="1584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148360" y="313992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3284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700360" y="4581000"/>
            <a:ext cx="4608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956360" y="4581000"/>
            <a:ext cx="14436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8000" y="5805360"/>
            <a:ext cx="22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9640" y="2781360"/>
            <a:ext cx="50328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634920" y="256500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3040" y="1916280"/>
            <a:ext cx="241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формаційний 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7040" y="6481800"/>
            <a:ext cx="241956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формаційний 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5760" y="1989000"/>
            <a:ext cx="241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формаційний 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6021360"/>
            <a:ext cx="241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формаційний 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5:02:28Z</dcterms:created>
  <dc:creator>saa</dc:creator>
  <dc:description/>
  <dc:language>en-US</dc:language>
  <cp:lastModifiedBy>saa</cp:lastModifiedBy>
  <dcterms:modified xsi:type="dcterms:W3CDTF">2013-11-09T19:52:30Z</dcterms:modified>
  <cp:revision>15</cp:revision>
  <dc:subject/>
  <dc:title>Грід-системи</dc:title>
</cp:coreProperties>
</file>