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13E-DC25-4933-90E6-53EFDFD6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148-2CE0-494E-AC6F-0C7E36F5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6E42-7547-4553-B960-AEC3E425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30A7-63A1-4CAB-B41F-CDE801EC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093A-51FB-417D-9C08-72140A5B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B26C-6D2B-46DE-A0F7-99F65B61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5AB4-E111-4DB7-B0C5-CCB26A38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9BFC-EA66-4FFB-A8AB-8F2B9B1B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8B6F-65BF-4726-A7E0-39E80272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BC8B-98DF-44AD-89EF-EA20419A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BF2C-E0A8-4003-AB28-093C0CEA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ACE-A49A-4035-9EE1-96572317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D798-DBD9-4A84-A7A1-4E84AC31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3C3C-AEF4-4514-BB58-3E31001A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5EE6-D0A8-4776-A44D-523DF40E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2ECB-7E19-46D9-9315-F9D2EE4E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A425-DA6A-4DC8-A0A0-896B9092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1B7-7A05-4582-AA14-FB188938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F3C-15D5-43E1-A5D4-72B9727B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3914-5A54-4A6C-BD48-86C7B676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2F88-75E9-4FD3-B0D0-41728FAD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E06-12ED-4F1F-A5BF-99F687BC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F92-08A5-4548-AB2B-F4D914C4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414-EBEA-4BD6-8B9F-3EA024C0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3A18-BD15-4FE6-B064-C2ACFC6755C0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A510-66C3-4BE1-A4FD-0CCC1EBF04C9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linux.com/TUTORIALS/LinuxTutorialPosixThreads.html" TargetMode="External"/><Relationship Id="rId2" Type="http://schemas.openxmlformats.org/officeDocument/2006/relationships/hyperlink" Target="http://www.llnl.gov/computing/tutorials/openMP/" TargetMode="Externa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Розробка паралельних програм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даков О.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лельні та розподілені обчисленн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екц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тандарт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enM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зробка паралельних програм з використанням багатопотоковості потребує стандартних дій та стандартних прави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які структур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икл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дуже легко розпаралелюють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нхронізація доступу до даних виконується стандартним чин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учне використання багатопотоковості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ільше ручної робо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лика імовірність помил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Як розпаралелюються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грама розбивається на паралельні ділянки, які виконуються послідов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k-Joi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д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жна паралельна ділянка виконується за допомогою деякої кількості поток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а замовчення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дорівнює кількості процесор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жна встановити за допомогою системної змінної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P_NUM_THR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Fork - Join Model"/>
          <p:cNvPicPr/>
          <p:nvPr/>
        </p:nvPicPr>
        <p:blipFill>
          <a:blip r:embed="rId1"/>
          <a:stretch/>
        </p:blipFill>
        <p:spPr>
          <a:xfrm>
            <a:off x="1332000" y="4653000"/>
            <a:ext cx="48578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Зміна програмного код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міна коду виконується шляхом вказування компілятору які ділянки і як розпаралелюва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казування вводяться за допомогою директив препроцесора або спеціальних коментарів, щоб не «псувати» к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Як вводяться директиви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Фортра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Arial"/>
              </a:rPr>
              <a:t>!$OMP PARALLEL </a:t>
            </a:r>
            <a:r>
              <a:rPr b="1" i="1" lang="uk-UA" sz="1500" spc="-1" strike="noStrike">
                <a:solidFill>
                  <a:srgbClr val="000000"/>
                </a:solidFill>
                <a:latin typeface="Arial"/>
              </a:rPr>
              <a:t>[clause ...] </a:t>
            </a:r>
            <a:br>
              <a:rPr sz="1500"/>
            </a:b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5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uk-UA" sz="1500" spc="-1" strike="noStrike">
                <a:solidFill>
                  <a:srgbClr val="000000"/>
                </a:solidFill>
                <a:latin typeface="Arial"/>
              </a:rPr>
              <a:t>(scalar_logical_expression) </a:t>
            </a:r>
            <a:br>
              <a:rPr sz="1500"/>
            </a:b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5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1" i="1" lang="uk-UA" sz="1500" spc="-1" strike="noStrike">
                <a:solidFill>
                  <a:srgbClr val="000000"/>
                </a:solidFill>
                <a:latin typeface="Arial"/>
              </a:rPr>
              <a:t>(list) </a:t>
            </a:r>
            <a:br>
              <a:rPr sz="1500"/>
            </a:b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500" spc="-1" strike="noStrike">
                <a:solidFill>
                  <a:srgbClr val="000000"/>
                </a:solidFill>
                <a:latin typeface="Arial"/>
              </a:rPr>
              <a:t>SHARED </a:t>
            </a:r>
            <a:r>
              <a:rPr b="1" i="1" lang="uk-UA" sz="1500" spc="-1" strike="noStrike">
                <a:solidFill>
                  <a:srgbClr val="000000"/>
                </a:solidFill>
                <a:latin typeface="Arial"/>
              </a:rPr>
              <a:t>(list) </a:t>
            </a:r>
            <a:br>
              <a:rPr sz="1500"/>
            </a:b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500" spc="-1" strike="noStrike">
                <a:solidFill>
                  <a:srgbClr val="000000"/>
                </a:solidFill>
                <a:latin typeface="Arial"/>
              </a:rPr>
              <a:t>DEFAULT (PRIVATE | SHARED | NONE)</a:t>
            </a:r>
            <a:br>
              <a:rPr sz="1500"/>
            </a:br>
            <a:r>
              <a:rPr b="1" lang="uk-UA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500" spc="-1" strike="noStrike">
                <a:solidFill>
                  <a:srgbClr val="000000"/>
                </a:solidFill>
                <a:latin typeface="Arial"/>
              </a:rPr>
              <a:t>FIRSTPRIVATE </a:t>
            </a:r>
            <a:r>
              <a:rPr b="1" i="1" lang="uk-UA" sz="1500" spc="-1" strike="noStrike">
                <a:solidFill>
                  <a:srgbClr val="000000"/>
                </a:solidFill>
                <a:latin typeface="Arial"/>
              </a:rPr>
              <a:t>(list) </a:t>
            </a:r>
            <a:br>
              <a:rPr sz="1500"/>
            </a:b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500" spc="-1" strike="noStrike">
                <a:solidFill>
                  <a:srgbClr val="000000"/>
                </a:solidFill>
                <a:latin typeface="Arial"/>
              </a:rPr>
              <a:t>REDUCTION </a:t>
            </a:r>
            <a:r>
              <a:rPr b="1" i="1" lang="uk-UA" sz="1500" spc="-1" strike="noStrike">
                <a:solidFill>
                  <a:srgbClr val="000000"/>
                </a:solidFill>
                <a:latin typeface="Arial"/>
              </a:rPr>
              <a:t>(operator: list) </a:t>
            </a:r>
            <a:br>
              <a:rPr sz="1500"/>
            </a:b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500" spc="-1" strike="noStrike">
                <a:solidFill>
                  <a:srgbClr val="000000"/>
                </a:solidFill>
                <a:latin typeface="Arial"/>
              </a:rPr>
              <a:t>COPYIN </a:t>
            </a:r>
            <a:r>
              <a:rPr b="1" i="1" lang="uk-UA" sz="1500" spc="-1" strike="noStrike">
                <a:solidFill>
                  <a:srgbClr val="000000"/>
                </a:solidFill>
                <a:latin typeface="Arial"/>
              </a:rPr>
              <a:t>(list) </a:t>
            </a:r>
            <a:br>
              <a:rPr sz="1500"/>
            </a:br>
            <a:r>
              <a:rPr b="1" i="1" lang="uk-UA" sz="15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1" lang="uk-UA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Arial"/>
              </a:rPr>
              <a:t>!$OMP END PARALLEL</a:t>
            </a:r>
            <a:r>
              <a:rPr b="0" lang="uk-UA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/C+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Arial"/>
              </a:rPr>
              <a:t>#pragma omp parallel </a:t>
            </a:r>
            <a:r>
              <a:rPr b="1" i="1" lang="uk-UA" sz="1500" spc="-1" strike="noStrike">
                <a:solidFill>
                  <a:srgbClr val="000000"/>
                </a:solidFill>
                <a:latin typeface="Arial"/>
              </a:rPr>
              <a:t>[clause ...] newline </a:t>
            </a:r>
            <a:br>
              <a:rPr sz="1500"/>
            </a:b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5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uk-UA" sz="1500" spc="-1" strike="noStrike">
                <a:solidFill>
                  <a:srgbClr val="000000"/>
                </a:solidFill>
                <a:latin typeface="Arial"/>
              </a:rPr>
              <a:t>(scalar_expression) </a:t>
            </a:r>
            <a:br>
              <a:rPr sz="1500"/>
            </a:b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5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1" i="1" lang="uk-UA" sz="1500" spc="-1" strike="noStrike">
                <a:solidFill>
                  <a:srgbClr val="000000"/>
                </a:solidFill>
                <a:latin typeface="Arial"/>
              </a:rPr>
              <a:t>(list) </a:t>
            </a:r>
            <a:br>
              <a:rPr sz="1500"/>
            </a:b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500" spc="-1" strike="noStrike">
                <a:solidFill>
                  <a:srgbClr val="000000"/>
                </a:solidFill>
                <a:latin typeface="Arial"/>
              </a:rPr>
              <a:t>shared </a:t>
            </a:r>
            <a:r>
              <a:rPr b="1" i="1" lang="uk-UA" sz="1500" spc="-1" strike="noStrike">
                <a:solidFill>
                  <a:srgbClr val="000000"/>
                </a:solidFill>
                <a:latin typeface="Arial"/>
              </a:rPr>
              <a:t>(list) </a:t>
            </a:r>
            <a:br>
              <a:rPr sz="1500"/>
            </a:b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500" spc="-1" strike="noStrike">
                <a:solidFill>
                  <a:srgbClr val="000000"/>
                </a:solidFill>
                <a:latin typeface="Arial"/>
              </a:rPr>
              <a:t>default (shared | none)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500" spc="-1" strike="noStrike">
                <a:solidFill>
                  <a:srgbClr val="000000"/>
                </a:solidFill>
                <a:latin typeface="Arial"/>
              </a:rPr>
              <a:t>firstprivate </a:t>
            </a:r>
            <a:r>
              <a:rPr b="1" i="1" lang="uk-UA" sz="1500" spc="-1" strike="noStrike">
                <a:solidFill>
                  <a:srgbClr val="000000"/>
                </a:solidFill>
                <a:latin typeface="Arial"/>
              </a:rPr>
              <a:t>(list) </a:t>
            </a:r>
            <a:br>
              <a:rPr sz="1500"/>
            </a:b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500" spc="-1" strike="noStrike">
                <a:solidFill>
                  <a:srgbClr val="000000"/>
                </a:solidFill>
                <a:latin typeface="Arial"/>
              </a:rPr>
              <a:t>reduction </a:t>
            </a:r>
            <a:r>
              <a:rPr b="1" i="1" lang="uk-UA" sz="1500" spc="-1" strike="noStrike">
                <a:solidFill>
                  <a:srgbClr val="000000"/>
                </a:solidFill>
                <a:latin typeface="Arial"/>
              </a:rPr>
              <a:t>(operator: list) </a:t>
            </a:r>
            <a:br>
              <a:rPr sz="1500"/>
            </a:b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500" spc="-1" strike="noStrike">
                <a:solidFill>
                  <a:srgbClr val="000000"/>
                </a:solidFill>
                <a:latin typeface="Arial"/>
              </a:rPr>
              <a:t>copyin </a:t>
            </a:r>
            <a:r>
              <a:rPr b="1" i="1" lang="uk-UA" sz="1500" spc="-1" strike="noStrike">
                <a:solidFill>
                  <a:srgbClr val="000000"/>
                </a:solidFill>
                <a:latin typeface="Arial"/>
              </a:rPr>
              <a:t>(list) </a:t>
            </a:r>
            <a:br>
              <a:rPr sz="1500"/>
            </a:br>
            <a:r>
              <a:rPr b="1" i="1" lang="uk-UA" sz="1500" spc="-1" strike="noStrike">
                <a:solidFill>
                  <a:srgbClr val="000000"/>
                </a:solidFill>
                <a:latin typeface="Arial"/>
              </a:rPr>
              <a:t>structured_block</a:t>
            </a:r>
            <a:r>
              <a:rPr b="0" lang="uk-UA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ипи директи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кі ділянки розпаралелюва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pragma omp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кі ділянки виконувати в різних потока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pragma omp sections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аток набору діля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pragma omp sec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очаток діля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кі ділянки виконувати одним потоко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кі планувати виконанн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dule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, розмір порці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нхронізаці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ичний поділ, виконання тільки мастер-потоком, ба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є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кі дані є загальними, а які - ні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озпаралелення циклів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pragma omp parallel f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#include &lt;cmath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using namespace st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int main (void)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Courier New"/>
              </a:rPr>
              <a:t>#pragma omp parallel f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for (int i =0; i&lt;10; i++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cout &lt;&lt; i&lt;&lt;endl&lt;&lt;flush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 виконан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[saa@cluster omp]$ icc -openmp for.cp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for.cpp(7) : (col. 1) remark: OpenMP DEFINED LOOP WAS PARALLELIZ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[saa@cluster omp]$ ./a.ou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[saa@cluster omp]$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ілянки паралельного виконан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#pragma omp parallel section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#pragma omp section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ожна секція буде виконуватись в своєму потоці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#include &lt;cmath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sing namespace std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in (void)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Courier New"/>
              </a:rPr>
              <a:t>#pragma omp parallel sec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#pragma omp se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int i =0; i&lt;5; i++) cout &lt;&lt; i&lt;&lt;endl&lt;&lt;flus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#pragma omp se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int i =5; i&lt;10; i++) cout &lt;&lt; i&lt;&lt;endl&lt;&lt;flus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 виконан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[saa@cluster omp]$ icc -openmp section.cp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[saa@cluster omp]$ OMP_NUM_THREADS=4 ./a.ou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ипи плануван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стосовується разом з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edule(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ип, порція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ція – кількість ітераці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ип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бота статично розбивається на порції однакового розмі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бота розбивається на порції заданого розміру. Після виконання однієї порції потік динамічно виконує інш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GUIDED  розмір порції зменшується експоненційно по мірі виконання. Розмір відповідає мінімальному розміру пор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RUNTIM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ішення приймається при запуску програми за допомогою установки системної змінної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OMP_SCHED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ла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ралельні програми в спільный па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т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ото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инхронізаці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M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аралельні програми в розподіленій па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т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м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инхронізаці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нхронізаці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казується для блоку коман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tical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вказування критичного розділ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виконується тільк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ter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ток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rrier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казування ба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є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ORDER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виконання ітерацій циклу в тій же послідовності, що й в послідовній програм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riti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ourier New"/>
              </a:rPr>
              <a:t>#include &lt;cmath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ourier New"/>
              </a:rPr>
              <a:t>using namespace std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ourier New"/>
              </a:rPr>
              <a:t>int main (void)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ff"/>
                </a:solidFill>
                <a:latin typeface="Courier New"/>
              </a:rPr>
              <a:t>#pragma omp parallel f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2100" spc="-1" strike="noStrike">
                <a:solidFill>
                  <a:srgbClr val="000000"/>
                </a:solidFill>
                <a:latin typeface="Courier New"/>
              </a:rPr>
              <a:t>for (int i =0; i&lt;10; i++)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ff"/>
                </a:solidFill>
                <a:latin typeface="Courier New"/>
              </a:rPr>
              <a:t>#pragma omp critic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uk-UA" sz="2100" spc="-1" strike="noStrike">
                <a:solidFill>
                  <a:srgbClr val="000000"/>
                </a:solidFill>
                <a:latin typeface="Courier New"/>
              </a:rPr>
              <a:t>cout &lt;&lt; i&lt;&lt;endl&lt;&lt;flush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иклад виконання критичного поділу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ез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ritic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saa@cluster omp]$ OMP_NUM_THREADS=10 ./a.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75689324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З вказуванням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itic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Arial"/>
              </a:rPr>
              <a:t>[saa@cluster omp]$ icc -openmp ./single.cp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Arial"/>
              </a:rPr>
              <a:t>./single.cpp(7) : (col. 1) remark: OpenMP DEFINED LOOP WAS PARALLELIZ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Arial"/>
              </a:rPr>
              <a:t>[saa@cluster omp]$ OMP_NUM_THREADS=10 ./a.ou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идимість дани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користовується разом 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, section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бо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ісля визначення дан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RED (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н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дані спільного використання – всі складності роботи накладаються на програміс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VATE (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н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дані є особливими даними потоку, після виконання потоку не зберігають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ADPRIVATE (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н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глобальні дані є особливими даними потоку, але мають бути консистентними для всіх потоків і зберігаються після виконання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иклад особливих та загальних даних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int alpha[10], beta[10], i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ff"/>
                </a:solidFill>
                <a:latin typeface="Courier New"/>
              </a:rPr>
              <a:t>#pragma omp threadprivate(alph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main ()  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/* First parallel region *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ff"/>
                </a:solidFill>
                <a:latin typeface="Courier New"/>
              </a:rPr>
              <a:t>#pragma omp parallel private(i,bet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for (i=0; i &lt; 10; i++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alpha[i] = beta[i] = i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/* Second parallel region *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#pragma omp parall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printf("alpha[3]= %d and beta[3]= %d\n",alpha[3],beta[3]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 виконан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[saa@cluster omp]$ icc -openmp ./threadprivate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/threadprivate.c(9) : (col. 1) remark: OpenMP DEFINED REGION WAS PARALLELIZ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/threadprivate.c(14) : (col. 1) remark: OpenMP DEFINED REGION WAS PARALLELIZ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[saa@cluster omp]$ OMP_NUM_THREADS=2 ./a.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alpha[3]= 3 and beta[3]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alpha[3]= 3 and beta[3]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[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дані загуб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pha[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дані не загуб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перації редукці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(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н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користовується для вказування паралельних блоків в якому виконується операція редукці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ератори можуть бут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,-,*,+=,-=,*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 редукці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#include &lt;cmath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using namespace std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int k=0,l=0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int main (void){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ff"/>
                </a:solidFill>
                <a:latin typeface="Courier New"/>
              </a:rPr>
              <a:t>#pragma omp parallel for  shared(l) reduction(+:k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for (int i =0; i&lt;100000; i++){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k++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l++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cout &lt;&lt; "k="&lt;&lt;k&lt;&lt;endl&lt;&lt;flush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cout &lt;&lt; "l="&lt;&lt;l&lt;&lt;endl&lt;&lt;flush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езультат виконан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[saa@cluster omp]$ icc -openmp ./reduce.c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./reduce.cpp(7) : (col. 1) remark: OpenMP DEFINED LOOP WAS PARALLELIZ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[saa@cluster omp]$ OMP_NUM_THREADS=10 ./a.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k=100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l=60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теря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озпод</a:t>
            </a: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і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лені систе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ереваг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емає конкуренції за ресурс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аралельна передача і розрахн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еликі системи тільки розподілена па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я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едолі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кладність обмі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еликі затримки обмі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Літерату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вчальний посібник по багатопотоковому програмуванню</a:t>
            </a:r>
            <a:br>
              <a:rPr sz="3000"/>
            </a:br>
            <a:r>
              <a:rPr b="0" lang="uk-UA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yolinux.com/TUTORIALS/LinuxTutorialPosixThreads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вчальний посібник п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M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llnl.gov/computing/tutorials/openMP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тандарт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P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ндарт інтерфейса обміну повідомленням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арантується сумісність на рівні початкового коду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tr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Існує багато реалізаці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виконуваному коду, протоколу передачі та ін. сумісність не гарантуєть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I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дбудова над сокетами, загальною па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тью та і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сновні понятт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а – набір паралельно виконуваних процесів, котрі можуть обмінюватися між собою повідомлен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бміну повідомленнями процеси о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єднують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групи – комунікатори або комунікаційні області (доме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ають функції обміну повідомленнями всередині будь-яких комунікаційних домен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опомогою бібліоте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жен процес може визначити свій номер всередині домена та виконувати необхідну частину розрахунків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D, MISD, MIM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і процеси виконують один и той самий виконуваний фай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ізні процеси виконують різні виконувані фай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жне повідомлення має свій номер – ідентифікатор, по якому повідомлення можна розрізняти один від од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Запуск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PI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ашин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лежить від реалізаці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грами на інших машина запускає командою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LAMR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ort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LAMRSH="rsh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іртуальна машина запускає командою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amboot &lt;</a:t>
            </a:r>
            <a:r>
              <a:rPr b="0" lang="ru-RU" sz="2600" spc="-1" strike="noStrike">
                <a:solidFill>
                  <a:srgbClr val="000000"/>
                </a:solidFill>
                <a:latin typeface="Courier New"/>
              </a:rPr>
              <a:t>файл списка машин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шою в списку має бути локальна маш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de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de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Запуск програ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pirun –np &lt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ількість процесорі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грам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труктура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PI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гра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і процеси найчастіше виконують один и тот же виконуваний фай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шою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I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ункцією повинна бути викликан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Init( &amp;argc, &amp;argv )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танньою одна з функці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Finalize()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- нормальне заверше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Abort(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описувач області з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язку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код помилки MPI ); - завершення з повідомленням про помил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іж цими викликами можна викликати будь-які функції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сновний коммунікаційний доме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і процеси виконують один виконуваний фай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і процеси належать основно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ікаційному домену з і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PI_COMM_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жному процесу після запуску присвоюється н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любого коммунікаційного домену кожен процес може дізнатися свій номер й загальну кількість процесів в домен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int size, rank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urier New"/>
              </a:rPr>
              <a:t>MPI_Comm_size</a:t>
            </a: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( MPI_COMM_WORLD, &amp;size );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- кількість процесів в домен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urier New"/>
              </a:rPr>
              <a:t>MPI_Comm_rank</a:t>
            </a: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( MPI_COMM_WORLD, &amp;rank );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- номер процесу в домен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Ці визови  - тільки піс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I_Init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творення нових коммунікаційних доменів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Іноді необхідно організовувати обмін між процесами паралельно з обміном в основному коммунікаційному домен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Щоб теги повідомлень повторювали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Щоб виконувати колективні операції обмін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горитм Фок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е робиться шляхом створення нового коммунікаційного доме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піюванниям існуюч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зділенням існуючого на піддоме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ідображення груп на коммунікаційні доме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опіювання домені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ворення копії існуючого доме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мін в новому домені не перекривається з обміном в старом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і процеси старого коммунікатора мають визвати цю функці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Comm tempComm;</a:t>
            </a:r>
            <a:br>
              <a:rPr sz="2200"/>
            </a:br>
            <a:r>
              <a:rPr b="1" lang="uk-UA" sz="2200" spc="-1" strike="noStrike">
                <a:solidFill>
                  <a:srgbClr val="000000"/>
                </a:solidFill>
                <a:latin typeface="Courier New"/>
              </a:rPr>
              <a:t>MPI_Comm_dup</a:t>
            </a: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( MPI_COMM_WORLD, &amp;tempComm );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/* ... передаємо дані через tempComm ... */</a:t>
            </a:r>
            <a:br>
              <a:rPr sz="2200"/>
            </a:br>
            <a:r>
              <a:rPr b="1" lang="uk-UA" sz="2200" spc="-1" strike="noStrike">
                <a:solidFill>
                  <a:srgbClr val="000000"/>
                </a:solidFill>
                <a:latin typeface="Courier New"/>
              </a:rPr>
              <a:t>MPI_Comm_free</a:t>
            </a: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( &amp;tempComm );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озбиття існуючого домена на части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Існуючий коммунікатор можна розбити на части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і процеси старого коммунікатора повинні визивати цю функці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і процеси з однаковим «кольором» (задається) потрапляють в один коммунікато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мер процесу в новому коммунікаторі задаєть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MPI_Comm_split(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existingComm, </a:t>
            </a: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/*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розщеплюваний описувач</a:t>
            </a: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 ( MPI_COMM_WORLD) */ </a:t>
            </a: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indexOfNewSubComm, </a:t>
            </a: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/*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номер підгрупи, куди потрапляє викликаючий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процес */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rankInNewSubComm,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/* бажаний номер в новій підгрупі */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&amp;newSubComm );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/* описувач</a:t>
            </a: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області зв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язку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нової підгрупи */</a:t>
            </a: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 розщеплення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#include "mpi.h"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int main(int argc, char* argv[])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MPI_Comm subComm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int size, rank, subrank, subsiz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MPI_Comm_size(MPI_COMM_WORLD, &amp;size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MPI_Comm_rank( MPI_COMM_WORLD, &amp;rank 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//розбиваємо набір процесів на 3 груп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//нумерація процесів в кожній групі 0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MPI_Comm_split(MPI_COMM_WORLD, rank/3, rank%3, &amp;subComm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MPI_Comm_rank( subComm, &amp;subrank 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MPI_Comm_size( subComm, &amp;subsize 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printf("old size = %d new size %d ",size, subsize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printf("old rank = %d new rank %d\n",rank, subrank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MPI_Comm_free(&amp;subComm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Багатопотоковіс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ьна па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ть – дані спільні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тік – послідовність команд, які виконуються паралельно з іншими потоками в одному адресовому просторі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сі (майже всі) ресурси потоків – спільні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ваг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тота взаємодії між пото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ливість використовувати декілька процесорів одним проце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а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одуктивні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долі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ність синхроніз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а імовірність помил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омпіляція і виконан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[saa@cluster mpi]$ mpicc ./comm_split.c -o comm_spl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[saa@cluster mpi]$ mpirun -np 10 -wd /net/s1/$PWD ./comm_spl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old size = 10 new size 1 old rank = 9 new rank 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ld size = 10 new size 3 old rank = 8 new rank 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ld size = 10 new size 3 old rank = 6 new rank 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ld size = 10 new size 3 old rank = 7 new rank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ld size = 10 new size 3 old rank = 0 new rank 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ld size = 10 new size 3 old rank = 1 new rank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ld size = 10 new size 3 old rank = 2 new rank 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ld size = 10 new size 3 old rank = 4 new rank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ld size = 10 new size 3 old rank = 5 new rank 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ld size = 10 new size 3 old rank = 3 new rank 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творення коммунікатора на базі груп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ворюється група процесів на базі існуючого коммуніка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/з групи добавляються/видаляються номера процес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базі групи створюється новий коммунік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і процеси з загальним коммунікатором повинні викликати відповідні функції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творення групи на базі коммунікатор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упа – набір номерів процес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е виконувати кожний процес паралельної прог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ожному процесі можна створбвати свої груп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urier New"/>
              </a:rPr>
              <a:t>MPI_Group group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urier New"/>
              </a:rPr>
              <a:t>MPI_Comm_group(MPI_COMM_WORLD, &amp;group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перації з група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алення процесів з груп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давання процесів в груп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єднанн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гру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алення гру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urier New"/>
              </a:rPr>
              <a:t>MPI_Group group, subgroup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nt ranks[5], i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urier New"/>
              </a:rPr>
              <a:t>for(i = 0; i&lt;5; i++) ranks[i]=i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urier New"/>
              </a:rPr>
              <a:t>MPI_Group_excl(group,5,ranks,&amp;subgroup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творення нового коммунікатора на базі груп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MPI_Comm subCom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MPI_Group  subgrou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urier New"/>
              </a:rPr>
              <a:t>MPI_Comm_create(MPI_COMM_WORLD</a:t>
            </a: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, subgroup,&amp;subCom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 роботи з група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#include "mpi.h"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int main(int argc, char* argv[])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MPI_Comm subCom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int size, rank, subrank, subsize,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int ranks[5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MPI_Group group, subgroup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MPI_Init(&amp;argc,&amp;argv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MPI_Comm_size(MPI_COMM_WORLD, &amp;size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MPI_Comm_rank( MPI_COMM_WORLD, &amp;rank 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MPI_Comm_group(MPI_COMM_WORLD, &amp;grou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for(i = 0; i&lt;5; i++) ranks[i]=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MPI_Group_excl(group,5,ranks,&amp;subgrou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MPI_Comm_create(MPI_COMM_WORLD, subgroup,&amp;subComm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if( subComm == MPI_COMM_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printf ("%d not in communicator\n",rank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MPI_Comm_rank( subComm, &amp;subrank 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MPI_Comm_size( subComm, &amp;subsize 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printf("old size = %d new size %d ",size, subsize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printf("old rank = %d new rank %d\n",rank, subrank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if( subComm != MPI_COMM_NULL)   MPI_Comm_free(&amp;subComm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MPI_Group_free(&amp;subgrou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MPI_Group_free(&amp;grou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MPI_Finalize(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омпіляція та виконан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[saa@cluster mpi]$ mpicc ./comm_group.c -o comm_gro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[saa@cluster mpi]$ mpirun -np 10 -wd /net/s1/$PWD ./comm_gro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 not in communica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 not in communica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 not in communica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 not in communica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 not in communica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ld size = 10 new size 5 old rank = 8 new rank 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ld size = 10 new size 5 old rank = 9 new rank 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ld size = 10 new size 5 old rank = 5 new rank 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ld size = 10 new size 5 old rank = 6 new rank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ld size = 10 new size 5 old rank = 7 new rank 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Отримання ім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’</a:t>
            </a:r>
            <a:r>
              <a:rPr b="0" lang="uk-UA" sz="3800" spc="-1" strike="noStrike">
                <a:solidFill>
                  <a:srgbClr val="006633"/>
                </a:solidFill>
                <a:latin typeface="Garamond"/>
              </a:rPr>
              <a:t>я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машини, де працює процес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r nm[4096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 name_size = 4096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MPI_Get_processor_name(nm, &amp;nm_size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перації передачі дани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і передачі даних виконуються в межах коммуніка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і пересилаються у вигляді повідомл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ідомлення має номер (те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дному повідомленні можуть бути дані будь-якої склад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ії передачі да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пка-крап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ективн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нхронні – блокується поки не заверши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синхронні – не блокують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перації крапка-крапка (блокуючі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urier New"/>
              </a:rPr>
              <a:t>int buf[10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urier New"/>
              </a:rPr>
              <a:t>MPI_Send( buf, 5, MPI_INT, 1, 0, MPI_COMM_WORLD );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риманн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urier New"/>
              </a:rPr>
              <a:t>int buf[10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urier New"/>
              </a:rPr>
              <a:t>MPI_Status statu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urier New"/>
              </a:rPr>
              <a:t>MPI_Recv( buf, 10, MPI_INT, 0, 0, MPI_COMM_WORLD, &amp;status );</a:t>
            </a:r>
            <a:r>
              <a:rPr b="0" lang="uk-UA" sz="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ргумен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уфер дани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ількість елементів даних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ип кожного елемента даних буфе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омер процесу кому/від кого передавати/прийма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оже бути 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MPI_ANY_SOUR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ег повідомленн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оже бути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300" spc="-1" strike="noStrike">
                <a:solidFill>
                  <a:srgbClr val="000000"/>
                </a:solidFill>
                <a:latin typeface="Arial"/>
              </a:rPr>
              <a:t>MPI_ANY_TAG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ммунікатор в якому передава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зультат операції (тільки для отриманн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 : файл дани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ує дані розрахунку в фай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читує  з файла дані, записані процесом 1 і працює з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Щоб процес 2 нормально відпрацивав, необхідно, щоб перед зчитуваннямданих дані вже були в файл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к виріши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безпечити гарантію, що  процес 2 начне зчитувати дані только післе того, як процес 1 їх запиш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езультат операції (статус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ні можуть прий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відомо від к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 невідомим тег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відомій кількост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прийомі може виникнути помил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значення кількості дан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MPI_Status status;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int count;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MPI_Recv( ... , MPI_INT, ... , &amp;status );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Courier New"/>
              </a:rPr>
              <a:t>MPI_Get_count( &amp;status, MPI_INT, &amp;count );</a:t>
            </a: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/* ... тепер count містить кількість прийнятих комірок *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олективні (розподілені) операції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PI_Broadc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MPI_Redu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PI_Ga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PI_Sc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PI_All_Ga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конуються всіма процесами для ефективного виконання сумування, множення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#include "mpi.h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int main(int argc, char* argv[])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MPI_Comm subCom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int size, rank, subrank, sub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int vector[16],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int resultVector[1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MPI_Init(&amp;argc,&amp;argv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MPI_Comm_size(MPI_COMM_WORLD, &amp;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MPI_Comm_rank( MPI_COMM_WORLD, &amp;rank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for( i=0; i&lt;16; i++ ) vector[i] = rank*100 +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MPI_Reduce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vector,             /* кожна задача в коммунікаторі дає вектор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resultVector,       /* задача номер 'root' збирає дані сюди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16,                 /* кількість комірок в початковому та результуючому масивах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MPI_INT,            /* тип елемента даних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MPI_SUM,            /* описувач операції: поелементне складання векторів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0,                  /* номер задачі, збираючої результати в 'resultVector'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MPI_COMM_WORLD      /* описувач області св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язку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if( rank==0 ) for(i=0; i&lt;16; i+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printf("resultVector[%d]=%d ",i,resultVector[i]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MPI_Finaliz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 виконан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[saa@cluster mpi]$ mpirun -np 10 -wd /net/s1/$PWD ./redu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resultVector[0]=4500 resultVector[1]=4510 resultVector[2]=4520 resultVector[3]=4530 resultVector[4]=4540 resultVector[5]=4550 resultVector[6]=4560 resultVector[7]=4570 resultVector[8]=4580 resultVector[9]=4590 resultVector[10]=4600 resultVector[11]=4610 resultVector[12]=4620 resultVector[13]=4630 resultVector[14]=4640 resultVector[15]=46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ипи дани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різних апаратних платформах однакові типи даних представляються по різно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обхідно при передачі перетворювати представлення даних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D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кожного типу своя функція перетвор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на створювати свої типи даних, які теж будуть передаватися корект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будовані типи дани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CHAR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SHORT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INT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LONG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UNSIGNED_CHAR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UNSIGNED_SHORT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UNSIGNED_LONG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UNSIGNED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FLOAT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DOUBLE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LONG_DOUBLE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BYTE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PACK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Fortra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CHARACTER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INTEGER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REAL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DOUBLE_PRECISION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COMPLEX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DOUBLE_COMPLEX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LOGICAL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BYTE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Courier New"/>
              </a:rPr>
              <a:t>MPI_PACK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творення нових типів дани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складних структур даних можна створити свій ти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 спрощує серіалізаці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вий тип створюється на основі вже існуючи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Функції створення нових типів даних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MPI_Type_struct(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count, </a:t>
            </a: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/* кількість полів */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int *len, </a:t>
            </a: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/* масив з довжинами полів */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/* (на той випадок, якщо це масиви) */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MPI_Aint *pos, /* масив зі зміщенням полів */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/* від початку структури, в байтах */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MPI_Datatype *types, /* масив з описувачами типів </a:t>
            </a: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полів */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MPI_Datatype *newtype ); /* “ссылка” на створюваний </a:t>
            </a: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ourier New"/>
              </a:rPr>
              <a:t>тип *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 створення типу структур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#include &lt;stddef.h&gt; /* підключення макрос 'offsetof()' 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typedef struct {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int i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double d[3]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long l[8]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char c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} AnyStruct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AnyStruct st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MPI_Datatype anyStructType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int len[5] = { 1, 3, 8, 1, 1 }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MPI_Aint pos[5] = { </a:t>
            </a:r>
            <a:br>
              <a:rPr sz="1300"/>
            </a:b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offsetof(AnyStruct,i), offsetof(AnyStruct,d), offsetof(AnyStruct,l)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offsetof(AnyStruct,c), </a:t>
            </a:r>
            <a:r>
              <a:rPr b="1" lang="uk-UA" sz="1300" spc="-1" strike="noStrike">
                <a:solidFill>
                  <a:srgbClr val="000000"/>
                </a:solidFill>
                <a:latin typeface="Courier New"/>
              </a:rPr>
              <a:t>sizeof(AnyStruc</a:t>
            </a: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t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MPI_Datatype typ[5] = { MPI_INT,MPI_DOUBLE,MPI_LONG,MPI_CHAR,</a:t>
            </a:r>
            <a:r>
              <a:rPr b="1" lang="uk-UA" sz="1300" spc="-1" strike="noStrike">
                <a:solidFill>
                  <a:srgbClr val="000000"/>
                </a:solidFill>
                <a:latin typeface="Courier New"/>
              </a:rPr>
              <a:t>MPI_UB</a:t>
            </a: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 }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MPI_Type_struct( 5, len, pos, typ, &amp;anyStructType )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MPI_Type_commit( &amp;anyStructType ); /* підготовка завершена *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ourier New"/>
              </a:rPr>
              <a:t>MPI_Send( st, 1, anyStructType, ... )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Упакування даних (серіалізаці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пакування– запис різнотипних структур даних в один маси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urier New"/>
              </a:rPr>
              <a:t>int MPI_Pack(void *buf, int count, MPI_Datatype dtype,  void *packbuf, int packsize, int *packpos,  MPI_Comm comm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INPUT PARAMET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buf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 - input buffer start (choi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- number of input data items (integ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dtype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- datatype of each input data item (handl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packsize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           - output buffer size, in bytes (integ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comm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- communicator for packed message (handl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INPUT/OUTPUT PARAME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packpos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           - current position in buffer, in bytes (integ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OUTPUT PARAME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packbuf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- output buffer start (choi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  2: загальна змінна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=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ік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читуєм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ік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більшу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=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ік1 : Запису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за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a=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ік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читуєм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a=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ік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більшу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ік2: Запису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за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Результат  - правиль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ік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читуєм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ік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читуєм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a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ік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більшу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=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ік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більшу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a=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ік 2: Запису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за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a=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ті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Запису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за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a=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Результат  - неправиль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озпакування дани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int MPI_Unpack(void *packbuf, int packsize, int *packpos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void *buf, int count, MPI_Datatype dtype,  MPI_Comm com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INPUT PARAMET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packbuf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           - input buffer start (choi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packsize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           - size of input buffer, in bytes (integ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- number of items to be unpacked (integ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dtype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- datatype of each output data item (handl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comm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- communicator for packed message (handl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INPUT/OUTPUT PARAMET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packpos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           - current position in bytes (integ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OUTPUT PARAME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700" spc="-1" strike="noStrike">
                <a:solidFill>
                  <a:srgbClr val="000000"/>
                </a:solidFill>
                <a:latin typeface="Courier New"/>
              </a:rPr>
              <a:t>buf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   - output buffer start (choi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 упакування-розпакуван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#define msgTag 10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struct {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int i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float f[4]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char c[8]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} 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Передач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int bufPos = 0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char tempBuf[ sizeof(s) 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MPI_Pack(&amp;s.i, 1, MPI_INT, tempBuf, sizeof(tempBuf), &amp;bufPos, MPI_COMM_WORLD 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MPI_Pack( s.f, 4, MPI_FLOAT, tempBuf, sizeof(tempBuf), &amp;bufPos, MPI_COMM_WORLD 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MPI_Pack( s.c, 8, MPI_CHAR, tempBuf, sizeof(tempBuf), &amp;bufPos, MPI_COMM_WORLD 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urier New"/>
              </a:rPr>
              <a:t>MPI_Send( tempBuf, bufPos, MPI_BYTE, targetRank, msgTag, MPI_COMM_WORLD );</a:t>
            </a:r>
            <a:r>
              <a:rPr b="0" lang="uk-UA" sz="7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е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int bufPos = 0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char tempBuf[ sizeof(s) 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MPI_Recv( tempBuf, sizeof(tempBuf), MPI_BYTE, sourceRank, msgTag, MPI_COMM_WORLD, &amp;status 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MPI_Unpack( tempBuf, sizeof(tempBuf), &amp;bufPos,&amp;s.i, 1, MPI_INT, MPI_COMM_WORLD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MPI_Unpack( tempBuf, sizeof(tempBuf), &amp;bufPos, s.f, 4, MPI_FLOAT,MPI_COMM_WORLD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MPI_Unpack( tempBuf, sizeof(tempBuf), &amp;bufPos, s.c, 8, MPI_CHAR, MPI_COMM_WORLD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Асинхронні операці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ункція прийому-передачі не блокуєть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йом-передачу можна виконувати паралельно з обробкою дани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 даним, що передаються не можна звертатися в процесі передачі-прийо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обхідно спеціально перевіряти завершення операції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Функції асинхронної передачи-прийому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urier New"/>
              </a:rPr>
              <a:t>MPI_Isend (&amp;buf,count,datatype,dest,tag,comm,&amp;request)</a:t>
            </a:r>
            <a:r>
              <a:rPr b="0" lang="uk-UA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urier New"/>
              </a:rPr>
              <a:t>MPI_Irecv (&amp;buf,count,datatype,source,tag,comm,&amp;request)</a:t>
            </a:r>
            <a:r>
              <a:rPr b="0" lang="uk-UA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і параметри аналогічн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бавляеться ще од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тус виконанн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просу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еревірка стан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вір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urier New"/>
              </a:rPr>
              <a:t>MPI_Test(MPI_Request *req, int *flag, MPI_Status *st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ус може бути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</a:rPr>
              <a:t>MPI_STATUS_IGN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чікування заверш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urier New"/>
              </a:rPr>
              <a:t>MPI_Wait(MPI_Request *preq, MPI_Status *st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ікування завершення декількох запро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PI_Waitall(int count, MPI_Request *reqs, MPI_Status *s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 асинхронної операці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MPI_Request reqs[4]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MPI_Status stats[4]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MPI_Irecv(&amp;buf[0], 1, MPI_INT, prev, tag1, MPI_COMM_WORLD, &amp;reqs[0]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MPI_Irecv(&amp;buf[1], 1, MPI_INT, next, tag2, MPI_COMM_WORLD, &amp;reqs[1]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MPI_Isend(&amp;rank, 1, MPI_INT, prev, tag2, MPI_COMM_WORLD, &amp;reqs[2]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MPI_Isend(&amp;rank, 1, MPI_INT, next, tag1, MPI_COMM_WORLD, &amp;reqs[3]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{ do some work }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MPI_Waitall(4, reqs, stats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озширені можливості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PI-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ралельний ввід-вивід в різні частини фай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ступ до па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ті на віддаленій машин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нхронізаці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ворення та запинка процес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і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єднанн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до працюючої програм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итання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ритичні ділян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итичний ділянка – це код, який оперує з сумісно використовуваними дани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ан конкуренції за ресурс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ce conditio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– ситуація в якій паралельний доступ до даних може призвести до того, що  дані опиняться у невизначеному або зруйнованому стан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заємовиключаючий доступ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Щоб гарантувати консистентність даних – необхідно, щоб всі звернення до даних, які можуть призвести до їх руйнування виконувались строго послідовно  – взаємовиключаючим чином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ідтримка багатопотоковост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Існує декілька стандарт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N threads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перша біблиотека багатопоточної робо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dows thread  - M$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іблиоте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threads  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андар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SIX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створення багатопотокових програ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елика кількість користуващьких бібліотек по створенню багатопотоковості прогр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green threa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14:35:04Z</dcterms:created>
  <dc:creator>saa</dc:creator>
  <dc:description/>
  <dc:language>en-US</dc:language>
  <cp:lastModifiedBy>saa</cp:lastModifiedBy>
  <dcterms:modified xsi:type="dcterms:W3CDTF">2013-11-22T15:05:37Z</dcterms:modified>
  <cp:revision>10</cp:revision>
  <dc:subject/>
  <dc:title>Слайд 1</dc:title>
</cp:coreProperties>
</file>