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03C1-600E-451C-A933-1546AB25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D773-DEF7-449C-B0A5-1D74D794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9BD2-A437-43DC-BADA-6B78F700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8C81-088A-4246-A4B9-7D5516C7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9A68-E6CF-45C4-8FD7-5998E911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9898-A125-4050-8B6D-6956BECF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AF9A-5501-4121-B757-64D28DC1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4D4F-FDF3-412A-856C-B03B2B35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D62D-456B-45C7-8EBA-A3F59387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0CCF-19DA-4B93-99F7-367CB382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C7F7-DF0B-4F30-AD69-DD679716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761E-377E-4D31-9191-77E7BF18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4F70-9B7A-437E-88BE-E7277BE6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B3C6-DB75-46BA-9FDC-540D06C0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760B-7D30-43BD-AF62-737D60FA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306C-DBB4-4B92-A876-A5015069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5B55-8F31-427D-BA97-6E8B5ABF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795-F5BC-49C2-BDED-409F2607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7AB0-5E0F-45C3-9566-FFD0F510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65C4-34AB-441F-8389-37F826FD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DE29-2907-4DED-B39A-10DA6303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2D8F-2E49-4A6C-B361-C85C8320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1A6A-6686-4D82-9C98-DCF96A77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90D0-6145-4A8B-86E9-4FB70CA7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23B1-BD33-440E-8DB2-1FE566EE7C97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5CAE-08F4-463E-A033-C6A28460DAFC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kernel.org/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Технології паралельних та розподілених обчислень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даков О.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аралельні та розподілені обчислення” Лекція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клад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3b812f"/>
                </a:solidFill>
                <a:latin typeface="Arial"/>
              </a:rPr>
              <a:t>Beowulf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 кластер – декілька образів операційної систе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3b812f"/>
                </a:solidFill>
                <a:latin typeface="Arial"/>
              </a:rPr>
              <a:t>MOSIX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 кластер – один образ операційної систем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нципи побудов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Прозорість ресурсі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ташування – не залежить від розташування ресур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іграції – не залежить від переміщень ресур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піювання – не залежить від кількості копій ресур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нкуренції – усі конфлікти по сумісному використанню ресурсів вирішуються автоматич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аралелізму – паралельне виконання можливе без участі користув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Децентралізаці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ідсутність однієї точки зб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Масштабовані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ожна нарощувати або скорочувати кількість ресурс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Стійкі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разі помилки система повинна відновлювати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орівняння типів операційних систе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00000" y="1555920"/>
          <a:ext cx="6973920" cy="432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5920"/>
                    <a:ext cx="6973920" cy="43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Фізичні та логічні ресурс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фізичні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о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’я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анилище дани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унікаційна під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ог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ні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і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ресний прості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й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соби міжпроцесорної взаємод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веє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ідомленн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існо використовувана область пам’я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оцес, потік, адресний простір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3b812f"/>
                </a:solidFill>
                <a:latin typeface="Arial"/>
              </a:rPr>
              <a:t>Процес (task, process)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 – прикладна програма що виконуєть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3b812f"/>
                </a:solidFill>
                <a:latin typeface="Arial"/>
              </a:rPr>
              <a:t>Адресний простір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 – як пам’ять сприймається процес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3b812f"/>
                </a:solidFill>
                <a:latin typeface="Arial"/>
              </a:rPr>
              <a:t>Потік (thread, lwp)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 – частина процесу, котра виконується паралельно або псевдопаралельно з іншими такими ж частин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3b812f"/>
                </a:solidFill>
                <a:latin typeface="Arial"/>
              </a:rPr>
              <a:t>Файл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 – послідовність байтів, до кожного байту можна звернутися за його номер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Адресні простори (віртуалізація пам’яті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1897200"/>
            <a:ext cx="216000" cy="431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760840"/>
            <a:ext cx="21600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3697200"/>
            <a:ext cx="216000" cy="432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4921200"/>
            <a:ext cx="21600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2000" y="4921200"/>
            <a:ext cx="43164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63640" y="4921200"/>
            <a:ext cx="50472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1897200"/>
            <a:ext cx="792000" cy="431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2760840"/>
            <a:ext cx="36036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3697200"/>
            <a:ext cx="2232000" cy="432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92360" y="2760840"/>
            <a:ext cx="36036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4921200"/>
            <a:ext cx="21600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697200"/>
            <a:ext cx="3456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50920" y="2760840"/>
            <a:ext cx="64944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00360" y="2760840"/>
            <a:ext cx="431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зайнята част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24000" y="1897200"/>
            <a:ext cx="1440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4000" y="1897200"/>
            <a:ext cx="3456000" cy="431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астина що використовує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4057560"/>
            <a:ext cx="360360" cy="1008000"/>
          </a:xfrm>
          <a:custGeom>
            <a:avLst/>
            <a:gdLst/>
            <a:ahLst/>
            <a:rect l="l" t="t" r="r" b="b"/>
            <a:pathLst>
              <a:path w="227" h="635">
                <a:moveTo>
                  <a:pt x="227" y="0"/>
                </a:moveTo>
                <a:cubicBezTo>
                  <a:pt x="113" y="196"/>
                  <a:pt x="0" y="393"/>
                  <a:pt x="0" y="499"/>
                </a:cubicBezTo>
                <a:cubicBezTo>
                  <a:pt x="0" y="605"/>
                  <a:pt x="189" y="612"/>
                  <a:pt x="227" y="63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2905200"/>
            <a:ext cx="647640" cy="2160360"/>
          </a:xfrm>
          <a:custGeom>
            <a:avLst/>
            <a:gdLst/>
            <a:ahLst/>
            <a:rect l="l" t="t" r="r" b="b"/>
            <a:pathLst>
              <a:path w="408" h="1361">
                <a:moveTo>
                  <a:pt x="408" y="0"/>
                </a:moveTo>
                <a:cubicBezTo>
                  <a:pt x="204" y="204"/>
                  <a:pt x="0" y="408"/>
                  <a:pt x="0" y="635"/>
                </a:cubicBezTo>
                <a:cubicBezTo>
                  <a:pt x="0" y="862"/>
                  <a:pt x="204" y="1111"/>
                  <a:pt x="408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2112840"/>
            <a:ext cx="863280" cy="2952720"/>
          </a:xfrm>
          <a:custGeom>
            <a:avLst/>
            <a:gdLst/>
            <a:ahLst/>
            <a:rect l="l" t="t" r="r" b="b"/>
            <a:pathLst>
              <a:path w="544" h="1860">
                <a:moveTo>
                  <a:pt x="544" y="0"/>
                </a:moveTo>
                <a:cubicBezTo>
                  <a:pt x="272" y="185"/>
                  <a:pt x="0" y="371"/>
                  <a:pt x="0" y="681"/>
                </a:cubicBezTo>
                <a:cubicBezTo>
                  <a:pt x="0" y="991"/>
                  <a:pt x="272" y="1425"/>
                  <a:pt x="544" y="18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7640" y="2112840"/>
            <a:ext cx="1044720" cy="2952720"/>
          </a:xfrm>
          <a:custGeom>
            <a:avLst/>
            <a:gdLst/>
            <a:ahLst/>
            <a:rect l="l" t="t" r="r" b="b"/>
            <a:pathLst>
              <a:path w="658" h="1860">
                <a:moveTo>
                  <a:pt x="658" y="0"/>
                </a:moveTo>
                <a:cubicBezTo>
                  <a:pt x="352" y="162"/>
                  <a:pt x="46" y="325"/>
                  <a:pt x="23" y="635"/>
                </a:cubicBezTo>
                <a:cubicBezTo>
                  <a:pt x="0" y="945"/>
                  <a:pt x="261" y="1402"/>
                  <a:pt x="522" y="18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9640" y="3986280"/>
            <a:ext cx="288720" cy="1079280"/>
          </a:xfrm>
          <a:custGeom>
            <a:avLst/>
            <a:gdLst/>
            <a:ahLst/>
            <a:rect l="l" t="t" r="r" b="b"/>
            <a:pathLst>
              <a:path w="182" h="680">
                <a:moveTo>
                  <a:pt x="182" y="0"/>
                </a:moveTo>
                <a:cubicBezTo>
                  <a:pt x="102" y="283"/>
                  <a:pt x="23" y="567"/>
                  <a:pt x="0" y="6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41640" y="148428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ний простір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37080" y="240192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ний простір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4160" y="326556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ний простір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45080" y="530064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ізична пам’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587700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03080" y="53928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98800" y="4386240"/>
            <a:ext cx="455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ідображення частини адресного простору у фізичну пам’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2997360"/>
            <a:ext cx="432000" cy="2016000"/>
          </a:xfrm>
          <a:custGeom>
            <a:avLst/>
            <a:gdLst/>
            <a:ahLst/>
            <a:rect l="l" t="t" r="r" b="b"/>
            <a:pathLst>
              <a:path w="272" h="1270">
                <a:moveTo>
                  <a:pt x="272" y="0"/>
                </a:moveTo>
                <a:cubicBezTo>
                  <a:pt x="136" y="75"/>
                  <a:pt x="0" y="151"/>
                  <a:pt x="0" y="363"/>
                </a:cubicBezTo>
                <a:cubicBezTo>
                  <a:pt x="0" y="575"/>
                  <a:pt x="136" y="922"/>
                  <a:pt x="272" y="12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роцеси, потоки (віртуалізація процесорів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3502080"/>
            <a:ext cx="64090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4365720"/>
            <a:ext cx="64090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0360" y="299736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 процесор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0360" y="386244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 процесор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2920" y="5157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5157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5157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0800000">
            <a:off x="826560" y="1773000"/>
            <a:ext cx="5257800" cy="1225440"/>
          </a:xfrm>
          <a:prstGeom prst="flowChartDocumen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4940280"/>
            <a:ext cx="5040360" cy="1225440"/>
          </a:xfrm>
          <a:prstGeom prst="flowChartDocumen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0" y="5157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0360" y="5157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61080" y="5157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57340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8000" y="57340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29080" y="57340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21080" y="57340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13080" y="57340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33800" y="57340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87280" y="24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2492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2492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2360" y="24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84720" y="2492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05440" y="2492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31760" y="2492280"/>
            <a:ext cx="371520" cy="1873440"/>
          </a:xfrm>
          <a:custGeom>
            <a:avLst/>
            <a:gdLst/>
            <a:ahLst/>
            <a:rect l="l" t="t" r="r" b="b"/>
            <a:pathLst>
              <a:path w="234" h="1180">
                <a:moveTo>
                  <a:pt x="234" y="0"/>
                </a:moveTo>
                <a:cubicBezTo>
                  <a:pt x="124" y="174"/>
                  <a:pt x="14" y="348"/>
                  <a:pt x="7" y="545"/>
                </a:cubicBezTo>
                <a:cubicBezTo>
                  <a:pt x="0" y="742"/>
                  <a:pt x="159" y="1074"/>
                  <a:pt x="189" y="11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76360" y="3573360"/>
            <a:ext cx="1284480" cy="2160720"/>
          </a:xfrm>
          <a:custGeom>
            <a:avLst/>
            <a:gdLst/>
            <a:ahLst/>
            <a:rect l="l" t="t" r="r" b="b"/>
            <a:pathLst>
              <a:path w="809" h="1452">
                <a:moveTo>
                  <a:pt x="0" y="1452"/>
                </a:moveTo>
                <a:cubicBezTo>
                  <a:pt x="366" y="1278"/>
                  <a:pt x="733" y="1104"/>
                  <a:pt x="771" y="862"/>
                </a:cubicBezTo>
                <a:cubicBezTo>
                  <a:pt x="809" y="620"/>
                  <a:pt x="517" y="310"/>
                  <a:pt x="22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08000" y="4365720"/>
            <a:ext cx="142920" cy="792000"/>
          </a:xfrm>
          <a:custGeom>
            <a:avLst/>
            <a:gdLst/>
            <a:ahLst/>
            <a:rect l="l" t="t" r="r" b="b"/>
            <a:pathLst>
              <a:path w="90" h="499">
                <a:moveTo>
                  <a:pt x="90" y="499"/>
                </a:moveTo>
                <a:cubicBezTo>
                  <a:pt x="52" y="291"/>
                  <a:pt x="15" y="8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73440" y="51577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ік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2160" y="57340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ік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29080" y="2637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ік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6520" y="1916280"/>
            <a:ext cx="224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ний простір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86520" y="4869000"/>
            <a:ext cx="224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ний простір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Файлові системи (віртуалізація систем збереження даних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"/>
          <p:cNvSpPr/>
          <p:nvPr/>
        </p:nvSpPr>
        <p:spPr>
          <a:xfrm>
            <a:off x="900000" y="458136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95640" y="4581360"/>
            <a:ext cx="19447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40360" y="4581360"/>
            <a:ext cx="25923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43280" y="479736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29800" y="479736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’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3800" y="4797360"/>
            <a:ext cx="255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режевий комп’ю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00000" y="3573360"/>
            <a:ext cx="107964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24560" y="366552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1280" y="3573360"/>
            <a:ext cx="172908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72360" y="36450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00720" y="3573360"/>
            <a:ext cx="151128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88720" y="364500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43640" y="3573360"/>
            <a:ext cx="151128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68200" y="366552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00000" y="2492280"/>
            <a:ext cx="194328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8000" y="2492280"/>
            <a:ext cx="194328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0360" y="2492280"/>
            <a:ext cx="194328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258560" y="414972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547640" y="4149720"/>
            <a:ext cx="1440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19640" y="41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40000" y="4149720"/>
            <a:ext cx="93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020000" y="4149720"/>
            <a:ext cx="720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47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11280" y="3068640"/>
            <a:ext cx="79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834920" y="3068640"/>
            <a:ext cx="21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95640" y="3068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56000" y="3068640"/>
            <a:ext cx="86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20000" y="3068640"/>
            <a:ext cx="216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52920" y="258444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02720" y="258444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66360" y="251316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64000" y="4149720"/>
            <a:ext cx="115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Заособи  міжпроцесної взаємодії (віртуалізація засобів комунікації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"/>
          <p:cNvSpPr/>
          <p:nvPr/>
        </p:nvSpPr>
        <p:spPr>
          <a:xfrm>
            <a:off x="826920" y="2060640"/>
            <a:ext cx="3240360" cy="29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2060640"/>
            <a:ext cx="3600720" cy="29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87640" y="5445000"/>
            <a:ext cx="32400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78880" y="566100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режі та комуніка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03280" y="5013360"/>
            <a:ext cx="1584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227280" y="5013360"/>
            <a:ext cx="17305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71640" y="2349360"/>
            <a:ext cx="136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26000" y="236844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29440" y="234936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6000" y="2349360"/>
            <a:ext cx="136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19640" y="2421000"/>
            <a:ext cx="136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74360" y="244008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967440" y="2401920"/>
            <a:ext cx="136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22160" y="242100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71640" y="4005360"/>
            <a:ext cx="22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06520" y="407664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ільна пам’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16000" y="2781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987280" y="278136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67280" y="4076640"/>
            <a:ext cx="2448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12000" y="40971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ільні фай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08720" y="2852640"/>
            <a:ext cx="647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44000" y="2852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96000" y="2852640"/>
            <a:ext cx="1728720" cy="216000"/>
          </a:xfrm>
          <a:custGeom>
            <a:avLst/>
            <a:gdLst/>
            <a:ahLst/>
            <a:rect l="l" t="t" r="r" b="b"/>
            <a:pathLst>
              <a:path w="1089" h="136">
                <a:moveTo>
                  <a:pt x="0" y="0"/>
                </a:moveTo>
                <a:cubicBezTo>
                  <a:pt x="159" y="68"/>
                  <a:pt x="318" y="136"/>
                  <a:pt x="499" y="136"/>
                </a:cubicBezTo>
                <a:cubicBezTo>
                  <a:pt x="680" y="136"/>
                  <a:pt x="991" y="23"/>
                  <a:pt x="1089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94000" y="301608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іртуаль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ал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76360" y="2781360"/>
            <a:ext cx="1728720" cy="216000"/>
          </a:xfrm>
          <a:custGeom>
            <a:avLst/>
            <a:gdLst/>
            <a:ahLst/>
            <a:rect l="l" t="t" r="r" b="b"/>
            <a:pathLst>
              <a:path w="1089" h="136">
                <a:moveTo>
                  <a:pt x="0" y="0"/>
                </a:moveTo>
                <a:cubicBezTo>
                  <a:pt x="159" y="68"/>
                  <a:pt x="318" y="136"/>
                  <a:pt x="499" y="136"/>
                </a:cubicBezTo>
                <a:cubicBezTo>
                  <a:pt x="680" y="136"/>
                  <a:pt x="991" y="23"/>
                  <a:pt x="1089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20360" y="3068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іртуаль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ал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08360" y="2781360"/>
            <a:ext cx="1655640" cy="2663640"/>
          </a:xfrm>
          <a:custGeom>
            <a:avLst/>
            <a:gdLst/>
            <a:ahLst/>
            <a:rect l="l" t="t" r="r" b="b"/>
            <a:pathLst>
              <a:path w="1044" h="1716">
                <a:moveTo>
                  <a:pt x="1" y="0"/>
                </a:moveTo>
                <a:cubicBezTo>
                  <a:pt x="0" y="521"/>
                  <a:pt x="0" y="1043"/>
                  <a:pt x="91" y="1315"/>
                </a:cubicBezTo>
                <a:cubicBezTo>
                  <a:pt x="182" y="1587"/>
                  <a:pt x="409" y="1716"/>
                  <a:pt x="545" y="1633"/>
                </a:cubicBezTo>
                <a:cubicBezTo>
                  <a:pt x="681" y="1550"/>
                  <a:pt x="825" y="1081"/>
                  <a:pt x="908" y="816"/>
                </a:cubicBezTo>
                <a:cubicBezTo>
                  <a:pt x="991" y="551"/>
                  <a:pt x="1021" y="173"/>
                  <a:pt x="1044" y="45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40000" y="5013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іртуальний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анал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14000" y="172080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’ютер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70160" y="162864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’ютер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ережеві та розподілені О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b812f"/>
                </a:solidFill>
                <a:latin typeface="Arial"/>
              </a:rPr>
              <a:t>Мережеві ОС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віртуалізація файлових систем та каналів обміну для різних комп’ютер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b812f"/>
                </a:solidFill>
                <a:latin typeface="Arial"/>
              </a:rPr>
              <a:t>Розподілені ОС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віртуалізація процесорів, пам’яті файлових систем та каналів обміну для різних комп’ютер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лан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пераційні системи для паралельних та розподілених обчислен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грамні технології для паралельних та розподілених обчислен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паратні засоби паралельних та розподілених обчислен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nix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-подібні операційні системи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Unix 1969 рі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Основні принцип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ростота перед інтелектуальніст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Надавати механізм, а не стратегі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рограми повинні робити мало, але робити це добр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езультати роботи однієї програми можна одразу ж подавати на вхід іншо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Будь-який ресурс – це файл (по можливості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асоби розробки програм і самої операційної системи повинні бути включені в операційну систем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Ієрархічна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труктур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68360" y="1125360"/>
            <a:ext cx="8351640" cy="4967640"/>
            <a:chOff x="468360" y="1125360"/>
            <a:chExt cx="8351640" cy="4967640"/>
          </a:xfrm>
        </p:grpSpPr>
        <p:sp>
          <p:nvSpPr>
            <p:cNvPr id="248" name=""/>
            <p:cNvSpPr/>
            <p:nvPr/>
          </p:nvSpPr>
          <p:spPr>
            <a:xfrm>
              <a:off x="468360" y="5587920"/>
              <a:ext cx="82803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42160" y="5661000"/>
              <a:ext cx="28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паратне забезпечен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8360" y="3932280"/>
              <a:ext cx="828036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76360" y="3860640"/>
              <a:ext cx="5229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Ядро (</a:t>
              </a: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керування апаратним забезпеченням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розподіл пам’яті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забезпечення роботи з файловою системою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Планування виконання процесі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Організація міжпроцесорної вазємодії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8360" y="3141720"/>
              <a:ext cx="8280360" cy="57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17240" y="3232080"/>
              <a:ext cx="558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истемні бібліотеки та бібліотеки користувач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8360" y="2205000"/>
              <a:ext cx="511164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4120" y="2349360"/>
              <a:ext cx="514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истемні програми і програми користувач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84720" y="2205000"/>
              <a:ext cx="266400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84720" y="227664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ограми-оболон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84720" y="1125360"/>
              <a:ext cx="2662560" cy="64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04680" y="1197000"/>
              <a:ext cx="147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ористува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0" name=""/>
            <p:cNvCxnSpPr>
              <a:stCxn id="256" idx="0"/>
              <a:endCxn id="258" idx="2"/>
            </p:cNvCxnSpPr>
            <p:nvPr/>
          </p:nvCxnSpPr>
          <p:spPr>
            <a:xfrm flipV="1">
              <a:off x="7416360" y="1772640"/>
              <a:ext cx="1080" cy="43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61" name=""/>
            <p:cNvSpPr/>
            <p:nvPr/>
          </p:nvSpPr>
          <p:spPr>
            <a:xfrm>
              <a:off x="2268360" y="285264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27640" y="3716280"/>
              <a:ext cx="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27640" y="530064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80000" y="263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67640" y="285264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иконання процес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8355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жимі задачі процес виконується тільки від імені задачі та має доступ тільки до свого адресного простору та своїх ресурс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отриманні переривання, сигналу або при виклику системної функції процес переключається в режим яд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жимі ядра процес має повний доступ до всх ресурс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жимі ядра процес виконує тільки код яд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і процеси виконуються аналогічн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0800000">
            <a:off x="5651280" y="1340640"/>
            <a:ext cx="3168360" cy="136836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51640" y="3213000"/>
            <a:ext cx="3168360" cy="7192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651640" y="4365720"/>
            <a:ext cx="3241440" cy="143964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24360" y="452916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жим (простір) яд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межені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30920" y="1773360"/>
            <a:ext cx="29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жим (простір) задачі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уп тільки до своїх ресурс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943240" y="3213000"/>
            <a:ext cx="24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ний виз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ривання, сиг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9308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93080" y="3933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ланування процесі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жний процес виконується протягом інтервалу (кванту) ча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бо після закінчення кванта, або за «бажанням» процесу керування передається іншому процесов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ування нового процесу в режимі яд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існення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empti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першого проце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уск другого проце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а повторює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0800000">
            <a:off x="5651280" y="1340640"/>
            <a:ext cx="3168360" cy="86364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1640" y="2492280"/>
            <a:ext cx="3168360" cy="7192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830920" y="1773360"/>
            <a:ext cx="29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 1 режим задач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3240" y="2492280"/>
            <a:ext cx="24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ний викли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ривання, сиг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093080" y="2205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093080" y="3213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64000" y="3500280"/>
            <a:ext cx="3600720" cy="13687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435640" y="3716280"/>
            <a:ext cx="3529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цес 1 режим яд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конання коду планувальника. Зупинка (витіснення) процесу 1. Запуск процесу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08720" y="5157720"/>
            <a:ext cx="3168720" cy="86364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20000" y="486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580000" y="5229360"/>
            <a:ext cx="29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 2 режим задач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ерек</a:t>
            </a: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лючення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онтекст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жен процес використовує свої ресурс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переході з одного режиму в інший, зупинці одного процесу і запуску іншого необхідно, щоб регістри процесора, віртуална пам’ять та ін. відповідали новому процесу та режиму (</a:t>
            </a:r>
            <a:r>
              <a:rPr b="0" lang="ru-RU" sz="2600" spc="-1" strike="noStrike">
                <a:solidFill>
                  <a:srgbClr val="3b812f"/>
                </a:solidFill>
                <a:latin typeface="Arial"/>
              </a:rPr>
              <a:t>робота в контексті нового процес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цього виконується перевантаження регістрів процесора та інші операції – </a:t>
            </a:r>
            <a:r>
              <a:rPr b="0" lang="ru-RU" sz="2600" spc="-1" strike="noStrike">
                <a:solidFill>
                  <a:srgbClr val="3b812f"/>
                </a:solidFill>
                <a:latin typeface="Arial"/>
              </a:rPr>
              <a:t>переключення контекст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еключення контексту – досить «важковагова» операці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оцеси і пото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виконання процесів необхідно повністю переключати контекс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виконання потоків контекст переключати потрібно не повніст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тік –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ght weight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користовувати процеси – простіше, але продуктивність нижч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користовувати потоки складніше, але продуктивність вищ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бмін даним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процесів при обміні даними необхідне переключення контекст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потоків – усі дані спільні і переключення контексту не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С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ux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1991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дро </a:t>
            </a: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kernel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ножина  різноманітних варіантів – поставок, </a:t>
            </a:r>
            <a:r>
              <a:rPr b="0" lang="ru-RU" sz="3000" spc="-1" strike="noStrike">
                <a:solidFill>
                  <a:srgbClr val="3b812f"/>
                </a:solidFill>
                <a:latin typeface="Arial"/>
              </a:rPr>
              <a:t>сумісних з ядром за системними виклик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кожної поставки свої особливості інсталяції, адміністрування, свої програми, версії, бібліоте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Ядро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ux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00 Мбайт коду (архів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0 МБайт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ерсія 2.6.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ша цифра – старший ном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руга цифра – сері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ретя цифра – номер випуск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рні серії – стабильні яд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парні серії – ядра в стадії розроб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оставки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Linux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йбільш характерні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Hat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т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хідн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bi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ack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to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сі мають свої особливості ядра, але усі будуть працювати зі стандартним ядром відповідної серії, яке необхідно компілюва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Операційні системи для паралельних та розподілених обчислень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ункції операційних сист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режеві та розподілені операційні систе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подібні операційні систе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Інсталяція, адміністрування та робота в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Інсталяці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тод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D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режа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, ftp, px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кальний дис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вантаження інсталят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казання місцезнаходження інсталяці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значення обладн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збиття жорсткого дис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бір пакетів для інсталяці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піювання інсталяці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чаткова конфігураці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ка завантажув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труктура файлової систем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Єдине дерево файл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талог – файл, який містить інші фай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талоги разділяються символом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/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рневий каталог позначається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/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точний каталог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талог верхнього рівня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.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5148360" y="1413000"/>
          <a:ext cx="3441600" cy="460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413000"/>
                    <a:ext cx="3441600" cy="46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онтуванн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строї відображаються на певні каталоги файлової системи (монтуютьс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«заходженні» до каталогу монтування робота виконується із відповідним пристроє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4683240" y="1916280"/>
          <a:ext cx="4460760" cy="285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240" y="1916280"/>
                    <a:ext cx="446076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значення стандартних каталогі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63680" y="1924200"/>
          <a:ext cx="8353440" cy="292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924200"/>
                    <a:ext cx="8353440" cy="29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Як розмітити розділи на жорсткому диску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йпростіщий варіант – два розділ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A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файл подкачки) розмі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*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ь інший доступний прості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ефективного використання рекомендуеться зробити наступні окремі фізичні розділи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boo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од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hom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usr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інод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usr/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tm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б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var/t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ибір пакетів та інсталяці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комендується вибрати ту конфігурацію, яка найбільше підходи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виконання лабораторних робіт найбільш підходить робоча станція, яка містить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соби розроб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грамне забезпечення для наукових обчисле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режеві утілі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внтажувач краще установити в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ster bo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икористання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ux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ристувачі, груп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хід до системи та права доступ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бота у командному рядк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Інтерпретатор командного рядк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сновні команд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Шляхи та системні змінні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еренаправлення вводу-вивод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ценарії командного рядк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снови адмініструванн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обота з користувачам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тримання інформації про систем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обота з файловими системам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стройка мережі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Інсталяція програ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омпіляція ядр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ористувачі та груп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ристувачеві системи відповідає 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ім’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logi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т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номе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uid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мер використовується системо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Ім’я використовується користувач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ідповідність між номером та ім’ям задається в систем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ристувач може належати до однієї або декількох гру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жна група має 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ім’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та 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номе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gid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клад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in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saa(1000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алежить до груп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saa(1000),wheel(1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хід до системи та права доступ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входу до системи користувач повинен ввест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gin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і паро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ісля цього він потрапляє до системи з правами відповідного користувач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ава дають можливість використовувати ті чи інші ресурси (файли, пам’ять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жен ресурс (файл, програма) має свої права доступу, які відповідають 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користувачеві, групі та всім інши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хід до систем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5762880" cy="358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пераційні систем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b812f"/>
                </a:solidFill>
                <a:latin typeface="Arial"/>
              </a:rPr>
              <a:t>Операційна систем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набір програмних засобів для керування апаратурою та прикладними програмами, а ткож для забезпечення їх взаємодією одна з одною та з користувач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ераційна система виконує віртуалізацію апаратних та інших ресурсів для прикладних програм і користувач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іртуальна пам’я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іртуальний процесо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іртуальна файлова систе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іртуальні канали обміну да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ава на ресурс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айли та інші ресурси належать власнику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та групі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d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ава доступу відповідаю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итанню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пис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w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конанню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ласник та адміністратор мають право змінювати права на ресурс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Інтерпретатор командного ряд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nix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подібних системах використовується інтерпретатор командного ряд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андний рядок – дуже зручний для роботи інтерфей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ристувач вводить команди, а система їх викону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обота з графічною інформацією потребує графічного інтерфейс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Інтерпретатор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bash (Bourne-Again SHell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ристувач вводить команди та натискає клавішу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&lt;ENTE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анди можуть містити параметри, які вказуються через символи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&lt;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ПРОБІЛ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&gt;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анди можуть мати ключі (опції), які змінюють поведінку команд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ції починаються з символ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826920" y="4581360"/>
            <a:ext cx="4727880" cy="137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сновні команд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x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кожна команда виконує свої функції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робить мало, але добр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c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&lt;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ім’я каталога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&gt;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зробити каталог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&lt;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ім’я каталога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&gt;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точни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одивитись вміст каталог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cat  &lt;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ім’я файла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&gt;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…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&lt;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ім’я файла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&gt;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онкатенація файлів на стандартне виведе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man &lt;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імя команди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&gt;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дивитись документацію про коман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лючі та опції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жна команда має ключі, які змінюють її поведінк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ls –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видати інформацію у розширеному вигляд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man –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лючове слов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шук інформації за ключевим слов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екстовий редактор та перегляда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дактор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v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аб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vi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ехід до режиму команд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&lt;Esc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ехід до режиму редагування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хід з редактора у режимі команд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берегти файл у режимі команд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w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йти не зберігаючись у режимі команд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q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!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берегти файл, який тільки для читання, у режимі команд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w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!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гляд файлів команда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l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Інші команд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жна команда – це програма що виконуєть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граму можна виконати, запустивши відповідний файл, із вказанням повного шляху (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/bin/l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грами, що знаходяться у стандартних шляхах запускаються тільки із вказанням ім’я програми (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l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Шляхи та інші системні змінні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андартні шляхи зберігаються у системній змінній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Щоб додати свій шлях, необхідно змінити змінну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port PATH=$PATH:&lt;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ій шлях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жна установити таким чином будь-які змінн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сі змінні можна подивитись командою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po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еренаправлення вводу-вивод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ивід однієї програми можна перенаправити на вхід іншої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нвеєр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s|less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(Список файлів каталога можна продивлятись у переглядачі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ожна перенаправити виведення в файл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s &gt; /tmp/file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ожна перенаправити дані з файлу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t &lt;/tmp/fi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ожна перенаправляти майже усе, навіть мережеві з’єднанн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332000" y="4869000"/>
            <a:ext cx="5762520" cy="124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обота з процесам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анда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p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исок усіх процес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жен процес має свій номер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p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анда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kil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ослати сигнал процес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анда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top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інтерактивна робота з процес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 командному ряд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бінація клавіш 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ctrl+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авершити поточну програм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бінація клавіш 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ctrl+z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упинити поточну програм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анда 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f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оновити останню зупинену програм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іртуальний ресур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ворюється ілюзія того, що програма або користувач монопольно використовує ресурс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b812f"/>
                </a:solidFill>
                <a:latin typeface="Arial"/>
              </a:rPr>
              <a:t>Віртуальний процесо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у системі один процесор і «одночасно» виконується багато прогр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b812f"/>
                </a:solidFill>
                <a:latin typeface="Arial"/>
              </a:rPr>
              <a:t>Віртуальна пам’я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усі програми використовують однакові адреси пам’яті, але за цими адресами у кожної програми свої дан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b812f"/>
                </a:solidFill>
                <a:latin typeface="Arial"/>
              </a:rPr>
              <a:t>Віртуальна файлова систем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програма використовує файли незалежно від того, де вони фізично знаходять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b812f"/>
                </a:solidFill>
                <a:latin typeface="Arial"/>
              </a:rPr>
              <a:t>Віртуальні канали обміну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дві програми взаємодіють одна з одною незалежно від того, де вони фізично виконують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ценарії командного ряд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анди можна записати послідовно в файл, котрий буде виконуватись, як одна команда (сценарій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547640" y="3645000"/>
            <a:ext cx="576288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Адмініструванн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дміністратор – користувач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ro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(uid=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дміністратор має усі системні пра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кі операції, я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давання та видалення користувачів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нтування та розмонтування дисків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строювання мережі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інсталяція системних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інсталяція яд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зволені зазвичай тільки адміністратор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обота з користувачам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исок користувачів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etc/passw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дати користувача </a:t>
            </a:r>
            <a:r>
              <a:rPr b="0" lang="uk-UA" sz="3000" spc="-1" strike="noStrike">
                <a:solidFill>
                  <a:srgbClr val="006633"/>
                </a:solidFill>
                <a:latin typeface="Arial"/>
              </a:rPr>
              <a:t>adduser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&lt;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ім’я користувача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алити користувача </a:t>
            </a:r>
            <a:r>
              <a:rPr b="0" lang="uk-UA" sz="3000" spc="-1" strike="noStrike">
                <a:solidFill>
                  <a:srgbClr val="006633"/>
                </a:solidFill>
                <a:latin typeface="Arial"/>
              </a:rPr>
              <a:t>userdel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&lt;</a:t>
            </a:r>
            <a:r>
              <a:rPr b="0" lang="uk-UA" sz="3000" spc="-1" strike="noStrike">
                <a:solidFill>
                  <a:srgbClr val="006633"/>
                </a:solidFill>
                <a:latin typeface="Arial"/>
              </a:rPr>
              <a:t>і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м’я користувача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мінити пароль користувачу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passwd &lt;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ім’я користувача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тримання інформації про систем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айлова система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/pro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містить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айли з інформаціє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анда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dmes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останні системні повідомл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талог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/var/lo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усі журнали з інформаціє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айл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/var/log/messages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сі системні повідомл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обота із файловими системам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тування команда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mount &lt;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файл пристрою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&gt;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&lt;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каталог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&gt;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unt /dev/fd0 /mnt/flopp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озмонтування команда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umou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&lt;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каталог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айл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/etc/fsta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містить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исок файлових систем, котрі монтуються при старт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Настройка мережі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жному мережевому адаптеру відповідає свій мережевий інтерфей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анда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ifconfi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дозволяє продивлятись та встановлювати параметр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Інсталяція програ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неджер пакетів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rp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ста компіляці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ma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make inst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омпіляція ядр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талог </a:t>
            </a:r>
            <a:r>
              <a:rPr b="0" lang="uk-UA" sz="3000" spc="-1" strike="noStrike">
                <a:solidFill>
                  <a:srgbClr val="006633"/>
                </a:solidFill>
                <a:latin typeface="Arial"/>
              </a:rPr>
              <a:t>/usr/src/linux-2.6.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ерія 2.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make menuconf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make dep bzImage modules modules_install inst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ерія 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make menuconf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make all modules_install inst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ипи операційних систе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3b812f"/>
                </a:solidFill>
                <a:latin typeface="Arial"/>
              </a:rPr>
              <a:t>Багатозадачні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– в операційній системі може одночасно виконуватись декілька задач (можливий псевдопаралелізм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Із підтримкою </a:t>
            </a:r>
            <a:r>
              <a:rPr b="0" lang="uk-UA" sz="2100" spc="-1" strike="noStrike">
                <a:solidFill>
                  <a:srgbClr val="3b812f"/>
                </a:solidFill>
                <a:latin typeface="Arial"/>
              </a:rPr>
              <a:t>багатопроцесорності 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– задачі й сама операційна система може виконуватись одразу на декількох процесорах однієї машини (SMP, NUM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3b812f"/>
                </a:solidFill>
                <a:latin typeface="Arial"/>
              </a:rPr>
              <a:t>Мережеві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– операційні системи різних комп’ютерів повинні взаємодіяти між собою. Ніяких інших вимог не висуваєтьс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3b812f"/>
                </a:solidFill>
                <a:latin typeface="Arial"/>
              </a:rPr>
              <a:t>Розподілені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– з точки зору прикладних програм декілька комп’ютерів представляються єдиною великою системою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клад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Більшість сучасних операційних систем є багатозадачними, багатопроцесорними, мережевеми (MS Windows NT, Unix/Linu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Якщо WWW документ знаходиться на машині з Unix, то його можна «скачати» і прочитати під Wind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Якщо файли знаходяться на Windows машині, то їх можна використовувати на декількох інших Windows або Unix машина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клади розподілених систе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812f"/>
                </a:solidFill>
                <a:latin typeface="Arial"/>
              </a:rPr>
              <a:t>Кластер робочих станці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задача запускається на тій машині, яка менш за всіх завантаже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812f"/>
                </a:solidFill>
                <a:latin typeface="Arial"/>
              </a:rPr>
              <a:t>MOSI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задача, запущена на одному комп’ютері може переміщатися між усіма комп’ютерами систе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812f"/>
                </a:solidFill>
                <a:latin typeface="Arial"/>
              </a:rPr>
              <a:t>VAX VM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усі програми що працюють в операційній системі можуть використовувати усі ресурси усіх комп’ютерів систе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Типи розподілених О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812f"/>
                </a:solidFill>
                <a:latin typeface="Arial"/>
              </a:rPr>
              <a:t>Single system im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операційна система керує всіма ресурсами усіх комп’ютерів систе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812f"/>
                </a:solidFill>
                <a:latin typeface="Arial"/>
              </a:rPr>
              <a:t>Distributed system im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операційна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стема кожного комп’ютера керує тільки ресурсами свого комп’юте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12:05:24Z</dcterms:created>
  <dc:creator>saa</dc:creator>
  <dc:description/>
  <dc:language>en-US</dc:language>
  <cp:lastModifiedBy>saa</cp:lastModifiedBy>
  <dcterms:modified xsi:type="dcterms:W3CDTF">2013-09-07T18:29:57Z</dcterms:modified>
  <cp:revision>109</cp:revision>
  <dc:subject/>
  <dc:title>Слайд 1</dc:title>
</cp:coreProperties>
</file>