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E631-8C24-45B4-9133-6951239A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7FBC-4769-4A12-93F9-F8C3D352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CC7B-F260-47BC-925E-3E8236DC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188-CFA2-4A2E-9E9A-344F474F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F438-8531-4263-96D5-230AB852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8F43-8C7C-41C2-85B9-9EE49F7E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3081-26C7-418B-95AD-8077A416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3A3E-1C33-4177-9B19-47DFBFC6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08D0-D0ED-45C7-BCBA-88C421CA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1364-BBEF-487E-B04F-BF4CE533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CF45-882F-4121-B6C0-1F691C30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0236-B0AE-4F22-938F-51207C34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3E4C-3E1C-4E0B-9578-1E2B66B9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A8D1-E3AD-4B69-B373-BE5FF401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88FC-1E27-4F15-AEF5-086C3184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091D-2F06-4757-B3E0-7BC208BE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64B5-D684-42A5-AF91-5B092E3A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33DC-28A8-4AB4-87CF-C037B315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A6C9-FFA9-40E0-994B-6B73E122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8A17-6B30-4B9A-8156-ABAA33DD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B15C-7785-46C8-B2E6-7B718EC8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BF38-929B-43B5-B4A0-1351841B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000-1557-4539-B31B-70303895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4DAD-CF38-48C1-B867-D97B2D95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2258-764E-45EF-96E0-A8C0C9A7C8D9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2BD6-435E-4D79-8674-8D930677E27D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Класифікація паралельних та розподілених систем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даков О.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аралельні та розподілені обчислення” Лекція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Декілька потоків команд декілька потоків даних (MIMD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екомпозиція функцій та декомпозиція дани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сі сучасні мультипроцесорні маши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ізні програми одночасно обробляють різні дан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оделі розподілених систе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10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лієнт  – серв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ервер працює постійно і надає свої функ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лієнт використовує функції сервера при необхід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днорангові (мультиагентні системи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pear-to-pear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сі частини розподіленої прикладної програми рівноправ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92480" y="2081160"/>
            <a:ext cx="923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в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7040" y="1557360"/>
            <a:ext cx="814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ліє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46120" y="1484280"/>
            <a:ext cx="814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ліє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14120" y="2708280"/>
            <a:ext cx="814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ліє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084720" y="2421000"/>
            <a:ext cx="574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8000" y="1773360"/>
            <a:ext cx="432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7956360" y="1916280"/>
            <a:ext cx="43164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9200" y="4076640"/>
            <a:ext cx="749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г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50840" y="4076640"/>
            <a:ext cx="749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г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42840" y="5229360"/>
            <a:ext cx="749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г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012000" y="4581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3640" y="4581360"/>
            <a:ext cx="50508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35640" y="4221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лієнт-серверні програ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ні приложения є клієнтами, інші серве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Інтернет сервіс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tp, imap, p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истеми роботы з базами дан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йлові сервери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tbios, samba, nfs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сктопні програми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истеми розподілу навантаж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ультиагентні систе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жна програма є одночасно і клієнтом і сервер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истема електронної пошт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smt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ірінгові мережі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rrent,edonkey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итеми моніторингу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nm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истеми балансування навантаження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ix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 функціями що виконуют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окопродуктивн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і систе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Високонадійні систе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Системи під загальним керування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Системи збереження дани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Системи балансування навантаж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Особливості апаратного забезпеченн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Однопроцесорні систе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Симетричні мультипроцесорні систе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Векторно-конвеєрні систе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Масивно-паралельні систе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NUMA систе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Кластер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Симетричні мультипроцесорні систем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екілька процесорів, що працюють зі спільною пам’яттю і мають однакову швидкість доступу до всієї пам’ят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00000" y="3500280"/>
            <a:ext cx="1668600" cy="148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екторно-конвеєрні систе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46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екілька векторно-конвеєрних процесорів які мають декілька функціональних пристроїв і дозволяють швидко передавати один одному інформаці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020000" y="1628640"/>
            <a:ext cx="1871640" cy="17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асивно-паралельна систем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130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Декілька обчислювалльних вухзлів з одним або декількома центральними процесорами та великою кількістю периферійних процесор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093080" y="1844640"/>
            <a:ext cx="1552320" cy="10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UMA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стем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елика кількість плат із невеликою кількістю процесорів і невеликим об’ємом пам’яті, що з’єднані раз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дресний простір є спільни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24720" y="1916280"/>
            <a:ext cx="1052640" cy="192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Класифікації паралельних та розподілених систе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 типом моделі обчислен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 розв’язуваними задач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 особливостями апаратного забезпеч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 особливостями програмного забезпеч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ласте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екілька незалежних машин, що зв’язані між собою і працюють як одна логічна систе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093080" y="1700280"/>
            <a:ext cx="1590480" cy="184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Інші класифікації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 типом операційної системи (з однією копією, із розподіленими копіям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 однорідністю (гомогенний, гетерогенний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Історичні відомост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947 – перша Е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950 -  в СРСР запущена МЭС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955 – IBM випустила першу машину для обчислень з плаваючою точкою (розробник Gene Amdah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957 – виникла корпорація 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958 – була створена корпорація С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960 – у СРСР почалась побудова машини із переферійними процесо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962 – перші мультипроцесорні маш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964 – CDC випустила перший промисловий суперкомп’ю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967 – БЭСМ-6 із конвеєрною обробкою та віртуальною пам’ятт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976 – CRAY-1 перший промисловий векторно-конвеєрний суперкомп’ю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Історичні відомост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1977 – перші масивно-паралельні систе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1979 – M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1981 – Carnegie-Mellon University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 RP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1983 – DEC перший VAX кластер, язик С+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1984 – початок проекту GNU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1996 – Проект Beowu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1998 – GRID стандар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Векторно-конвеєрні суперкомп’ютер</a:t>
            </a:r>
            <a:r>
              <a:rPr b="0" lang="uk-UA" sz="3800" spc="-1" strike="noStrike">
                <a:solidFill>
                  <a:srgbClr val="006633"/>
                </a:solidFill>
                <a:latin typeface="Garamond"/>
              </a:rPr>
              <a:t>и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ra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Компанія CDC 1976 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ізніше компанія Cray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ізніше компанія SG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651640" y="1628640"/>
            <a:ext cx="309708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AX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ласте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5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83 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екілька машин, що працюють як одна систе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сока масштабованість, надійні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270180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eowulf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ласте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96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. Проект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SA Beowulf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ворення високопродуктивної системи на базі широкодоступних компонен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ший кластер – 16 процесорів, мереж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stEthern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Lineup of original 486 PCs on the floor of the computer room"/>
          <p:cNvPicPr/>
          <p:nvPr/>
        </p:nvPicPr>
        <p:blipFill>
          <a:blip r:embed="rId1"/>
          <a:stretch/>
        </p:blipFill>
        <p:spPr>
          <a:xfrm>
            <a:off x="468360" y="3860640"/>
            <a:ext cx="3672000" cy="216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итанн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Класифікація систе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За типом моделі програмуванн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 Зі спільною пам’яттю (усі процесори можуть звертатися до одних і тих самих даних одночасно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 З обміном повідомленнями (кожен процесор може відправити іншому свої дані у вигляді повідомлен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110040" y="3500280"/>
            <a:ext cx="5925960" cy="2424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972400" y="58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4360" y="3860640"/>
            <a:ext cx="1881000" cy="1690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46720" y="553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arallel Random Access Machine (PRAM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Усі процесори можуть одночасно звертатися до пам’яті для зчитування та запису дани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Схеми синхронізації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EREW (exclusive read exclusive wri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CRER (concurrent read exclusive wri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ERCW (exclusive read  concurrent wri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CRCW (concurrent read  concurrent wri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ssage pass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Кожен процесор може передати/прийняти дані іншому/від іншого процесора у вигляді повідомл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Типи обміну повідомленням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Point-to-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Scat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Ga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Клисифікація Флінна (1966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Може відповідати як фізичній так і логічній систем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SISD (single instruction single dat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SIMD (single instruction multiple dat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MISD (multiple instruction single dat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MIMD (multiple instruction multiple dat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Один потік команд, один потік даних (SISD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Звичайна послідовна Е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Суперскалярний процесор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отік команд та потік даних залишається один, але процесор може опрацювати за один такт декілька команд що ідуть послідов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Система пакетного режиму (batch queue syste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Задачі ставлятся в чергу, як тільки виконалась одна, запускається наступ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Один потік команд декілька потоків даних (SIMD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екомпозиція даних без декомпозиції функці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екторні та матричні процесо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цесори з SIMD інструкціями (SSE, MM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дна й та ж програма, яка запускається на декількох процесорах, але з різними параметрам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Один потік даних, декілька потоків команд (MISD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Декомпозиція функцій без декомпозиції дани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рактичних схем обчислювальних машин неісну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рикладом може бути обробка тих самих даних з допомогою різних програм (взлом, розшифровк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3:32:20Z</dcterms:created>
  <dc:creator>saa</dc:creator>
  <dc:description/>
  <dc:language>en-US</dc:language>
  <cp:lastModifiedBy>saa</cp:lastModifiedBy>
  <dcterms:modified xsi:type="dcterms:W3CDTF">2013-09-07T18:28:31Z</dcterms:modified>
  <cp:revision>31</cp:revision>
  <dc:subject/>
  <dc:title>Слайд 1</dc:title>
</cp:coreProperties>
</file>