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F7354-D552-420E-AF99-0EAB23378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D8515-39BC-4419-85F6-8759B70D2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A6A47-6E3B-4549-BC22-49C30A634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FD715-45A7-47E4-84C7-3BCFC3407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690A6-8B67-4883-8C16-0DB060E8B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F927A-B016-4262-A8D7-1910CF7CF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D064C-FCAE-4FF7-AFE0-EA5C6356A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E3DE3-3698-48FA-95A4-19842665B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D76CC-1B40-4179-93AB-4ABE55521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A7FAF-D22A-408E-B769-07A15EA2C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313D9-1EAE-4760-964B-52B5973A8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6DBFA-73A1-4CD9-8BF8-C129526B8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09E23-D3FD-4671-8341-79591C569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17C95-A7E8-46E7-8FBD-C6F459379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FBA45-FE11-481D-9630-C2FFFA872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28436-1A5E-487E-8D25-094B6BB15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0FAE6-ED22-4663-A6F4-F310F3EDD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8D4F7-9E07-4A3F-9B0F-9BE0FC5F5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3C4F4-57BD-4279-9B4F-EBB97583F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4F611-A07D-446F-92EB-1B52C6955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D9C39-B822-4B7F-A73A-9D7C86639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DD8DE-C54E-4C76-B2C7-71C595B10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CF895-9111-4F83-846C-541E51AE6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E6AA3-D5A6-4257-B3A5-5AAA2DCA0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AF745-A7FD-4648-BCAC-BCF8BDDF8317}" type="slidenum">
              <a:rPr b="0" lang="uk-UA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66218-D49D-44DB-8AFA-5AC393B39F65}" type="slidenum">
              <a:rPr b="0" lang="uk-UA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Розпод</a:t>
            </a:r>
            <a:r>
              <a:rPr b="0" lang="uk-UA" sz="4200" spc="-1" strike="noStrike">
                <a:solidFill>
                  <a:srgbClr val="006633"/>
                </a:solidFill>
                <a:latin typeface="Garamond"/>
              </a:rPr>
              <a:t>і</a:t>
            </a: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лені системи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Arial"/>
              </a:rPr>
              <a:t>Переваг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Немає конкуренції за ресурс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Паралельна передача і розрахнок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Великі системи тільки розподілена пам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ят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Arial"/>
              </a:rPr>
              <a:t>Недолік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Складність обміну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Великі затримки обміну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22T15:03:03Z</dcterms:created>
  <dc:creator>saa</dc:creator>
  <dc:description/>
  <dc:language>en-US</dc:language>
  <cp:lastModifiedBy>saa</cp:lastModifiedBy>
  <dcterms:modified xsi:type="dcterms:W3CDTF">2013-11-22T15:05:27Z</dcterms:modified>
  <cp:revision>1</cp:revision>
  <dc:subject/>
  <dc:title>Розподілені системи</dc:title>
</cp:coreProperties>
</file>