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18.wmf" ContentType="image/x-wmf"/>
  <Override PartName="/ppt/media/image16.png" ContentType="image/png"/>
  <Override PartName="/ppt/media/image34.jpeg" ContentType="image/jpeg"/>
  <Override PartName="/ppt/media/image40.wmf" ContentType="image/x-wmf"/>
  <Override PartName="/ppt/media/image30.wmf" ContentType="image/x-wmf"/>
  <Override PartName="/ppt/media/image33.jpeg" ContentType="image/jpeg"/>
  <Override PartName="/ppt/media/image5.wmf" ContentType="image/x-wmf"/>
  <Override PartName="/ppt/media/image28.wmf" ContentType="image/x-wmf"/>
  <Override PartName="/ppt/media/image38.wmf" ContentType="image/x-wmf"/>
  <Override PartName="/ppt/media/image8.wmf" ContentType="image/x-wmf"/>
  <Override PartName="/ppt/media/image13.png" ContentType="image/png"/>
  <Override PartName="/ppt/media/image9.png" ContentType="image/png"/>
  <Override PartName="/ppt/media/image12.png" ContentType="image/png"/>
  <Override PartName="/ppt/media/image37.wmf" ContentType="image/x-wmf"/>
  <Override PartName="/ppt/media/image7.wmf" ContentType="image/x-wmf"/>
  <Override PartName="/ppt/media/image36.wmf" ContentType="image/x-wmf"/>
  <Override PartName="/ppt/media/image39.wmf" ContentType="image/x-wmf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10.png" ContentType="image/png"/>
  <Override PartName="/ppt/media/image35.jpeg" ContentType="image/jpe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1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03B-7605-4A5A-A983-0354D391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BFF-CA14-4463-B26C-AE01FFB5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9AB-3A1D-4417-93BA-6000F55D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1B8-49EE-43B6-AFCA-2371E2BB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03E4-B960-4B46-9706-602CE3CC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F6BD-4CA6-49A7-9E12-07B163AC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A7C4-5FAA-4A16-92A9-5F00DCC2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CE4A-DCD4-4858-8F62-17F29AAD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1813-AFC3-441E-900D-4E12CC33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F960-DEF1-40DB-B283-BB7C5739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B38D-D181-41C6-8145-E4A197DC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C1A-7C25-421E-A287-4778E9E8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307C-CE56-493D-A946-5B8A7AB7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206D-50ED-4BC4-AEEE-985B6CD6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D4F9-C604-4BD4-91B6-4970B85F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03C9-148D-4454-88AB-241951AB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C098-CBE3-48A5-94D6-1C9000F5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DC7-DA1A-4594-AF90-05A8FFE0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8AC-60B9-4D52-82E6-5BB20E69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C7C-B504-447F-AA35-CB950A01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70D5-B98C-489B-976C-4393BB37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8DA-6488-4CE6-8144-3C59BC46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408-CE6A-46C1-8E3D-C5C7275B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104-F8C7-48EB-A582-C403A9C2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3DD1-CDF3-45CD-90FE-822C0D3397E1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841A-1033-421C-82CA-9DA0167A9BEF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Основн</a:t>
            </a:r>
            <a:r>
              <a:rPr b="0" lang="uk-UA" sz="5000" spc="-1" strike="noStrike">
                <a:solidFill>
                  <a:srgbClr val="006633"/>
                </a:solidFill>
                <a:latin typeface="Garamond"/>
              </a:rPr>
              <a:t>і підходи до розпаралелюванн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екція 8 “Паралельні обчисленн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аков О.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Максимальне прискорення і оптимальна кількість процесорі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ожна показати, що максимально можливе прискорення при незмінній кількості операцій рівне кількості процесор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кщо кількість процесорів рівне T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/T</a:t>
            </a:r>
            <a:r>
              <a:rPr b="0" lang="uk-UA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  <a:ea typeface="Arial"/>
              </a:rPr>
              <a:t>то час виконання паралельного алгоритму не буде більше ніж у 2 рази перевищувати оптимальний час виконання при оптимальному розпаралелюванн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1700280"/>
                <a:ext cx="10810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020000" y="3429000"/>
                <a:ext cx="11509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Фактори обмеження і збільшення продуктивності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Гіпотеза Мінського – принципова непаралельність алгорит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акон Амдала – наявність принципово послідовних част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Гетерогенність – дисбаланс навантаж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длінійне прискорення – апаратне і алгоритміч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Гіпотеза Мінськог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70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ехай програма має р послідовних част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ехай перехід на ту чи іншу частини виконується шляхом бінарного розвітвл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сього виконається част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кщо всю програму виконувати на р процесорах, то прискорення буде не більше, ні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ля деяких ефективних послідовних алгоритмів гіпотеза справедли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4720" y="1197000"/>
            <a:ext cx="287280" cy="289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72360" y="1917720"/>
            <a:ext cx="287280" cy="289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1917720"/>
            <a:ext cx="287280" cy="289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2781360"/>
            <a:ext cx="287280" cy="288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80360" y="2781360"/>
            <a:ext cx="287280" cy="288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85080" y="2781360"/>
            <a:ext cx="287280" cy="288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604360" y="2781360"/>
            <a:ext cx="287280" cy="288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380000" y="1557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80360" y="234936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093080" y="3357720"/>
                <a:ext cx="8636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093080" y="4365720"/>
                <a:ext cx="83808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Закон Амдала (Amdahl, 1967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явність послідовних частин приводить до суттєвого зниження продуктивност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хай є система з р процесор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хай є алгоритм, яких складається з частин, які виконуються паралельно і частин, які виконуються послідов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хай доля послідовних частин рівн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оді доля паралельних частин рівна (1-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люстрація закону Амдал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" descr="ris_1_29"/>
          <p:cNvPicPr/>
          <p:nvPr/>
        </p:nvPicPr>
        <p:blipFill>
          <a:blip r:embed="rId1"/>
          <a:stretch/>
        </p:blipFill>
        <p:spPr>
          <a:xfrm>
            <a:off x="1332000" y="1557360"/>
            <a:ext cx="64087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цінка часу виконанн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ас виконання послідовного алгорит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ас виконання послідовної частини паралельного алгорит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ас виконання паралельної частини алгоритму на р процесор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ас виконання всього паралельного алгорит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67640" y="1916280"/>
                <a:ext cx="31284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596360" y="2852640"/>
                <a:ext cx="5047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524720" y="4076640"/>
                <a:ext cx="9349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093080" y="5229360"/>
                <a:ext cx="20509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α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оефіцієнт прискорення і ефективність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13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рискор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Ефективні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Час виконання на паракомп'ютер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Оптимальна кількість процесор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659640" y="1587600"/>
                <a:ext cx="1800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659640" y="2638440"/>
                <a:ext cx="17287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е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732720" y="3789360"/>
                <a:ext cx="1655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p</m:t>
                        </m:r>
                      </m:lim>
                    </m:limLow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732720" y="5129280"/>
                <a:ext cx="1368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Графіки залежносте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284720" y="1484280"/>
          <a:ext cx="48592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484280"/>
                    <a:ext cx="48592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-36360" y="1484280"/>
          <a:ext cx="4752720" cy="450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6360" y="1484280"/>
                    <a:ext cx="475272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659640" y="3139920"/>
            <a:ext cx="1224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88000" y="3213000"/>
            <a:ext cx="1224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Централізована схе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ловний процесор роздає робочим зада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обочі виконують і повертають результат головному процесо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ловний процесор – вузьке місце – суттєво послідовна частина алгорит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ловний процесор в один момент часу може обробити тільки дані з одного робітн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23560" y="2060640"/>
            <a:ext cx="226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ловний проце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32120" y="3305160"/>
            <a:ext cx="1181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б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09308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03560" y="4149720"/>
            <a:ext cx="1181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б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72360" y="2781360"/>
            <a:ext cx="36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ецентралізована схе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екілька головних процесорі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 першому етапі створення черги завдан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алі головні процесори беруть задачі з черги і працюють по централізованій схем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Меньше вузьких місць, більше нкладні витра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ris_7_1"/>
          <p:cNvPicPr/>
          <p:nvPr/>
        </p:nvPicPr>
        <p:blipFill>
          <a:blip r:embed="rId1"/>
          <a:stretch/>
        </p:blipFill>
        <p:spPr>
          <a:xfrm>
            <a:off x="1332000" y="3789360"/>
            <a:ext cx="544356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ла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аректеристики ефективност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ктори обмеження продуктивност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Централізована і децентралізована сх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ринцип здвоє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онвеє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озпаралелювання цикл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Геометричне розпаралелюва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зання систем лінійних р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ня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Обміну дани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Обмін даними - найвпливовіша частина паралельного алгорит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бмін = зменшення ефективност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Топологія – характер 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єднань між процесо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ізична, віртуальна, лог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пільна па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ть – накладні витрати на синхронізаці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зподілена па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ть – накладн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итрати на передачу дан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Деякі типи топології-для кожної задачі і системи - сво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1104840" cy="1087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22000" y="265572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і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700360" y="1413000"/>
            <a:ext cx="1293840" cy="1198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53280" y="27288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1113120" cy="1052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201640" y="265572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7164360" y="1557360"/>
            <a:ext cx="1052640" cy="189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04160" y="20080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інійка (фер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79440" y="3789360"/>
            <a:ext cx="21600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47800" y="4292640"/>
            <a:ext cx="21600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24160" y="4292640"/>
            <a:ext cx="21564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063440" y="407664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24160" y="407664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3080" y="4869000"/>
            <a:ext cx="215640" cy="21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4869000"/>
            <a:ext cx="215640" cy="21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66720" y="4869000"/>
            <a:ext cx="216000" cy="21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98720" y="4869000"/>
            <a:ext cx="216000" cy="21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58720" y="450864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4581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6672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39800" y="4508640"/>
            <a:ext cx="358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600" y="532116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інарне 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4581360"/>
            <a:ext cx="21600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2720" y="5157720"/>
            <a:ext cx="21600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5013360"/>
            <a:ext cx="21600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60720" y="4292640"/>
            <a:ext cx="21600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25800" y="4076640"/>
            <a:ext cx="21600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4720" y="4653000"/>
            <a:ext cx="21600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421080" y="4869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276720" y="4508280"/>
            <a:ext cx="288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852720" y="436536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744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81440" y="486900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64000" y="4005360"/>
            <a:ext cx="216000" cy="21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76720" y="4797360"/>
            <a:ext cx="21600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4076640"/>
            <a:ext cx="21600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4869000"/>
            <a:ext cx="216000" cy="21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5157720"/>
            <a:ext cx="21600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292360" y="4292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4149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27640" y="4365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5013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940360" y="5157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08720" y="4292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08720" y="4365720"/>
            <a:ext cx="142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5364000" y="4869000"/>
            <a:ext cx="64800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364000" y="4365720"/>
            <a:ext cx="648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724000" y="443700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54720" y="53211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і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29280" y="539280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ний 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83400" y="4005360"/>
            <a:ext cx="216000" cy="21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96120" y="4797360"/>
            <a:ext cx="21600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04120" y="4076640"/>
            <a:ext cx="21600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04120" y="4869000"/>
            <a:ext cx="216000" cy="215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799400" y="5157720"/>
            <a:ext cx="216000" cy="216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11760" y="4292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70680" y="414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447040" y="4365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12120" y="5013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8159760" y="515736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348680" y="539280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іль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араметри топології при кількості вузлів p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24000" y="1700280"/>
          <a:ext cx="8569080" cy="376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00280"/>
                    <a:ext cx="856908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Принцип здвоєння – гіперкуб і бінарне дерево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920" y="378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Бінарне дерево – кожен з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заний з дво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765000"/>
            <a:ext cx="81932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іперкуб - кожний процесор зв'язаний рівно з n сусід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265800" cy="17636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292720" y="4365720"/>
            <a:ext cx="3470400" cy="185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68360" y="3429000"/>
            <a:ext cx="36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&lt;=&gt; i+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ітерац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ї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080" y="5084640"/>
            <a:ext cx="12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&lt;=&gt; 2*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&lt;=&gt; 2*i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0640" y="6303960"/>
            <a:ext cx="76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ж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 2 процесора можуть взаємодіяти між собою парал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roadcast, Gather, Scatt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1268280"/>
            <a:ext cx="6202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цесор 1 має дані, які потрібно передати решт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опологія гіперкуб – принцип здвоюв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тепер процесори 1 і 2 містять дані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тепер процесори 1, 2, 3, 4 містять дані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тепер всі процесори містять дані]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21480" y="2610000"/>
            <a:ext cx="216000" cy="217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40760" y="2610000"/>
            <a:ext cx="216000" cy="217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61120" y="3043080"/>
            <a:ext cx="216000" cy="217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08760" y="3043080"/>
            <a:ext cx="216000" cy="217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521480" y="3259080"/>
            <a:ext cx="216000" cy="217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40760" y="3259080"/>
            <a:ext cx="216000" cy="217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61120" y="3692520"/>
            <a:ext cx="216000" cy="217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808760" y="3692520"/>
            <a:ext cx="216000" cy="217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232760" y="3330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77120" y="282708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77120" y="3186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024760" y="282708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08760" y="2682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953480" y="3330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448400" y="3762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377120" y="347472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8097840" y="354636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385120" y="2898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64400" y="2898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08760" y="3402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82040" y="291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42400" y="234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90040" y="270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95120" y="219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512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47480" y="334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007840" y="392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439480" y="3349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ерваги і недоліки принципу здвоєнн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ваги г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куб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менша кількість операцій обміну серед усі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доліки гіперкуб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ід час обміну всі процесори простоюю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а можливості виконувати обмін одночасно з розрахун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ваги бінарного дере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ількістьоперацій обміну обмін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(P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ори, які виконали передачу можуть виконувати іншу ро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 з найефективніших топологій за сукупнустю фактор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доілки гіперкуб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ори, які чекають на дані простою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нвеє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нвеєрна обробка  – метод розпаралелення суттєво послідовних операці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цесори з'єднуються так, щоб результат роботи одного процесора потрапляв на вхід іншого (лінійна топологі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кладна операція розбивається на декілька послідовних стадій, кожна стадія виконується своїм процесор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619280" y="4508640"/>
            <a:ext cx="47880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ли конвеєр ефектив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и випад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 допомогою конвеєра необхідно вирішити декілька послідовних за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 допомогою конвеєра необхідно вирішити одну задачу для великої послідовності вхідних дан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 кожен процесор ще до завершення своєї роботи може відправити дані наступному процесору та запустити його робо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: конвеєр першого тип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клад : Знаходження суми, добутку, … чисе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оцесор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кожного процесора є свої дані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ідно знайти суму, добуток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ор 1 передає дані процесору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ор 2 додає свої дані і передає процесору 3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ор1 починає конвеєр добутку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885080" y="1916280"/>
                <a:ext cx="719280" cy="66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Аналіз ефективності конвеє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85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Час вирішення 1-ї задач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Час вирішення всіх наступних за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Час вирішення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за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ас вир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ення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ч на 1 процесор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 для тих же дан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рискор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-&gt;in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кон Амдал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7308720" y="1773360"/>
          <a:ext cx="1173240" cy="3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1773360"/>
                    <a:ext cx="11732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7667640" y="2421000"/>
          <a:ext cx="51264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2421000"/>
                    <a:ext cx="5126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6093000" y="3276720"/>
          <a:ext cx="288900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3000" y="3276720"/>
                    <a:ext cx="28890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7308720" y="3860640"/>
          <a:ext cx="1047960" cy="439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8720" y="3860640"/>
                    <a:ext cx="104796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43640" y="4437000"/>
          <a:ext cx="2416320" cy="511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43640" y="4437000"/>
                    <a:ext cx="24163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7164360" y="5013360"/>
          <a:ext cx="750960" cy="511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4360" y="5013360"/>
                    <a:ext cx="7509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Як розпаралелювати задач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Розпаралелити – визначити який процесор в який момент часу виконує які операц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дина ціль розпаралелювання – зменшення часу розрахунк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е всі задачі однаково ефективно розпаралелюють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Ефективність розпаралелювання залежить від алгоритму задачі, обчислювальної системи, кількості дани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е існує універсального способу знайти як найефективніше розпаралелити зада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кщо є схема розпаралелювання – її можна проаналізува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нвеєр другого тип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клад : сортування масива значен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вході є великий масив да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жен процесор отримує інформацію від попереднього та передає найбільше зі своїх значень  наступному процесо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результаті процесор з меншим номером буде містити елементи масиву з меншими значення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403280" y="4508640"/>
            <a:ext cx="551196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нвеєр третього тип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ночасна передача даних та обробка 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-ahead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кщо отримані від попереднього процесора дані можна передати на наступний процесор, а потім почати їх обробк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348000" y="3716280"/>
            <a:ext cx="4897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клад – зворотній хід методу Гауса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98520" y="1125360"/>
          <a:ext cx="845172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1125360"/>
                    <a:ext cx="84517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ралельна програ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ор 1 –розрахову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 передає його дал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ор 2 прийма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дає його далі, розрахову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і теж передає його дал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ор 3 прийма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рийма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, передає і далі, розрахову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і передає його дал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зрахунок виконується паралельно з передачою да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ізні процесори працюють одночасн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Ефективні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лгорит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процесорних операці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дача даних порядку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операці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і збільшенням порядку матриці прискорення  рос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сновки стосовно конвеє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йпростіший та дешевий варіант розпаралеленн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ливість розпаралелення принципово послідовних операці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ливість одночасного виконання передачі  даних та їх обробки (асинхронні операції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йменше простоювання процесор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фективність завжди меньше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озпаралелення циклів-розбиття на блоки </a:t>
            </a:r>
            <a:r>
              <a:rPr b="1" lang="uk-UA" sz="3400" spc="-1" strike="noStrike">
                <a:solidFill>
                  <a:srgbClr val="006633"/>
                </a:solidFill>
                <a:latin typeface="Garamond"/>
              </a:rPr>
              <a:t>for</a:t>
            </a:r>
            <a:r>
              <a:rPr b="0" lang="uk-UA" sz="3400" spc="-1" strike="noStrike">
                <a:solidFill>
                  <a:srgbClr val="006633"/>
                </a:solidFill>
                <a:latin typeface="Garamond"/>
              </a:rPr>
              <a:t>(i=0; i&lt;n; i+=1){sum+=f(i);}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мування асоціатив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икл разбивається на бло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жен процесор виконує свій блок циклу паралельно з інши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зультати роботы всох процесорів складають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// p – кількість процесор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// k – номер поточного Процесора від 0 до p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// f() – підпрогр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sum=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(i=k; i&lt;n; i+=p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sum+=f(i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reduce(0,sum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цінка кількості операці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86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ас виконання послідовного алгорит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f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ількість операцій розрахунку функц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ас виконання паралельного сумуванн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ас передачі дан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ефіцієнт прискор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020000" y="1989000"/>
                <a:ext cx="1079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093080" y="3573360"/>
                <a:ext cx="11509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f>
                      <m:fPr>
                        <m:type m:val="lin"/>
                      </m:fPr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093080" y="4581360"/>
                <a:ext cx="1366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659640" y="5084640"/>
                <a:ext cx="2305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t</m:t>
                        </m:r>
                      </m:num>
                      <m:den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Ефективність розпаралелення сумування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ефіцієнт ефективност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скорення при розпаралеленні буде кол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великій кількості процесор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збільшенні кількості процесорів ефективність пада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збільненні кількості процесорних операцій ефективність рост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593040" y="1460520"/>
          <a:ext cx="229392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3040" y="1460520"/>
                    <a:ext cx="22939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6659640" y="2492280"/>
          <a:ext cx="86508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2492280"/>
                    <a:ext cx="865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6659640" y="2997360"/>
                <a:ext cx="1728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6659640" y="3789360"/>
                <a:ext cx="1657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Геометричне розпаралелювання (блочні методи 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я розбивається на части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x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локі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жен блок зберігається в пам'яті одного вузла масивно паралельної системи (кластер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ять: «На матрицю накладається процесорна сіт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жному вуз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іт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у матриц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ідповідає процесор з координатам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иконання операцій з матрицями процесори повинні обмінюватись даними між соб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5364000" y="1844640"/>
          <a:ext cx="3462480" cy="28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844640"/>
                    <a:ext cx="346248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4912560" y="4816440"/>
            <a:ext cx="42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мінюються лише сусідні процесо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і лише даними на “меж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 “площа” межі м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фективність вис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Декомпозиція, Зв'язок, Синхронізаці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композиція – розбивання задачі на складові части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композиція да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композиція функці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бінована декомпозиц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в'язок – взаємодія між складовими частинами задач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нхронізація – забезпечення того, що в деякий момент всі процесори знаходяться в строго визначеному ста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емноження матриц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чне представлення дає можливість розраховувати блок результату паралельно з іншими блоками результа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зглянемо приклад для квадратної сітки розмірності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блоків розмірності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а матриці розмірності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ількість процесорі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68360" y="1197000"/>
          <a:ext cx="6192720" cy="183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619272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6227640" y="765000"/>
          <a:ext cx="2376720" cy="197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765000"/>
                    <a:ext cx="237672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лгоритм Фокс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жен процесор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зраховує свій блок матриці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 кожному процесорі виділяється місце для збереження своії 4-х блокі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блок результат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блок матриці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який зберігається на потосному процесорп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блок матриці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який отриманий з іншого проце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блок матриці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який отриманий з іншого процесо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и правої матриці весь час переміщують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крнується ініціалізаці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бнуляє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ає блок матриці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го проце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– складає блок матриці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ного проце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лгоритм Фокса (продовженн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жній ітерації алгоритма, номер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=1,k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ин процесор кожного рядку відправляє свій блок матриці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 всі процесори свого рядка, номер стовбчи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ля ряд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-l+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(k)+1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цесори приймаютб ці дані в матрицю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конується звичайне матричне помноженн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=C+A1*B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триц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ередається сусіду звер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юється для наступног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67640" y="1844640"/>
            <a:ext cx="28908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956720" y="1844640"/>
            <a:ext cx="28872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44000" y="1844640"/>
            <a:ext cx="28872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378560" y="1844640"/>
            <a:ext cx="28908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669080" y="2133720"/>
            <a:ext cx="28908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956720" y="2133720"/>
            <a:ext cx="288720" cy="288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45440" y="2133720"/>
            <a:ext cx="289080" cy="288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80360" y="2133720"/>
            <a:ext cx="288720" cy="288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669080" y="2421000"/>
            <a:ext cx="289080" cy="288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8160" y="2421000"/>
            <a:ext cx="28908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245440" y="2421000"/>
            <a:ext cx="289080" cy="288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80360" y="2421000"/>
            <a:ext cx="288720" cy="288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669080" y="2709720"/>
            <a:ext cx="28908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58160" y="2709720"/>
            <a:ext cx="28908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245440" y="2709720"/>
            <a:ext cx="28908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380360" y="2709720"/>
            <a:ext cx="28872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66200" y="4435560"/>
            <a:ext cx="288720" cy="288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54920" y="4435560"/>
            <a:ext cx="289080" cy="288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242200" y="4435560"/>
            <a:ext cx="289080" cy="288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377120" y="4435560"/>
            <a:ext cx="289080" cy="288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67640" y="4724280"/>
            <a:ext cx="28908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956720" y="4724280"/>
            <a:ext cx="28872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44000" y="4724280"/>
            <a:ext cx="28872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78560" y="4724280"/>
            <a:ext cx="28908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667640" y="5011560"/>
            <a:ext cx="28908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56720" y="5011560"/>
            <a:ext cx="28872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244000" y="5011560"/>
            <a:ext cx="28872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378560" y="5011560"/>
            <a:ext cx="28908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67640" y="5300640"/>
            <a:ext cx="28908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956720" y="5300640"/>
            <a:ext cx="28872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244000" y="5300640"/>
            <a:ext cx="28872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378560" y="5300640"/>
            <a:ext cx="289080" cy="289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"/>
          <p:cNvCxnSpPr>
            <a:stCxn id="357" idx="0"/>
            <a:endCxn id="354" idx="0"/>
          </p:cNvCxnSpPr>
          <p:nvPr/>
        </p:nvCxnSpPr>
        <p:spPr>
          <a:xfrm flipH="1" rot="16200000">
            <a:off x="7666560" y="1699920"/>
            <a:ext cx="2520" cy="289440"/>
          </a:xfrm>
          <a:prstGeom prst="curvedConnector5">
            <a:avLst>
              <a:gd name="adj1" fmla="val -14400000"/>
              <a:gd name="adj2" fmla="val 4993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stCxn id="357" idx="0"/>
            <a:endCxn id="355" idx="0"/>
          </p:cNvCxnSpPr>
          <p:nvPr/>
        </p:nvCxnSpPr>
        <p:spPr>
          <a:xfrm flipH="1" rot="16200000">
            <a:off x="7810920" y="1555560"/>
            <a:ext cx="2520" cy="5785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8" name=""/>
          <p:cNvCxnSpPr>
            <a:stCxn id="357" idx="0"/>
            <a:endCxn id="356" idx="0"/>
          </p:cNvCxnSpPr>
          <p:nvPr/>
        </p:nvCxnSpPr>
        <p:spPr>
          <a:xfrm flipH="1" rot="16200000">
            <a:off x="7954560" y="1411920"/>
            <a:ext cx="2520" cy="8658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9" name=""/>
          <p:cNvCxnSpPr>
            <a:stCxn id="368" idx="2"/>
            <a:endCxn id="367" idx="2"/>
          </p:cNvCxnSpPr>
          <p:nvPr/>
        </p:nvCxnSpPr>
        <p:spPr>
          <a:xfrm rot="5400000">
            <a:off x="8244720" y="2855880"/>
            <a:ext cx="2160" cy="288000"/>
          </a:xfrm>
          <a:prstGeom prst="curvedConnector5">
            <a:avLst>
              <a:gd name="adj1" fmla="val 14400000"/>
              <a:gd name="adj2" fmla="val 49937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0" name=""/>
          <p:cNvCxnSpPr>
            <a:stCxn id="368" idx="2"/>
            <a:endCxn id="366" idx="2"/>
          </p:cNvCxnSpPr>
          <p:nvPr/>
        </p:nvCxnSpPr>
        <p:spPr>
          <a:xfrm rot="5400000">
            <a:off x="8100720" y="2711520"/>
            <a:ext cx="2160" cy="57636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68" idx="2"/>
            <a:endCxn id="369" idx="2"/>
          </p:cNvCxnSpPr>
          <p:nvPr/>
        </p:nvCxnSpPr>
        <p:spPr>
          <a:xfrm rot="5400000">
            <a:off x="7955640" y="2566800"/>
            <a:ext cx="2160" cy="86580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7812000" y="22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12000" y="220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7524720" y="22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7236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7811640" y="2492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7524720" y="2565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74360" y="3305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ача блок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иц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52472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759636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52472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759636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781380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88508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781380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788508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802800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809928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802800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809928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831708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838836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831708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838836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"/>
          <p:cNvCxnSpPr>
            <a:stCxn id="373" idx="0"/>
            <a:endCxn id="385" idx="2"/>
          </p:cNvCxnSpPr>
          <p:nvPr/>
        </p:nvCxnSpPr>
        <p:spPr>
          <a:xfrm flipH="1" rot="16200000">
            <a:off x="6945120" y="5011560"/>
            <a:ext cx="1154880" cy="2520"/>
          </a:xfrm>
          <a:prstGeom prst="curvedConnector5">
            <a:avLst>
              <a:gd name="adj1" fmla="val -19800"/>
              <a:gd name="adj2" fmla="val -11750000"/>
              <a:gd name="adj3" fmla="val -198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72" idx="0"/>
            <a:endCxn id="384" idx="2"/>
          </p:cNvCxnSpPr>
          <p:nvPr/>
        </p:nvCxnSpPr>
        <p:spPr>
          <a:xfrm flipH="1" rot="16200000">
            <a:off x="7810560" y="5011560"/>
            <a:ext cx="1154880" cy="2160"/>
          </a:xfrm>
          <a:prstGeom prst="curvedConnector5">
            <a:avLst>
              <a:gd name="adj1" fmla="val -19800"/>
              <a:gd name="adj2" fmla="val 15240000"/>
              <a:gd name="adj3" fmla="val -198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70" idx="0"/>
            <a:endCxn id="382" idx="2"/>
          </p:cNvCxnSpPr>
          <p:nvPr/>
        </p:nvCxnSpPr>
        <p:spPr>
          <a:xfrm flipH="1" rot="16200000">
            <a:off x="7234200" y="5011560"/>
            <a:ext cx="1154880" cy="2160"/>
          </a:xfrm>
          <a:prstGeom prst="curvedConnector5">
            <a:avLst>
              <a:gd name="adj1" fmla="val -19800"/>
              <a:gd name="adj2" fmla="val -11740000"/>
              <a:gd name="adj3" fmla="val -198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371" idx="0"/>
            <a:endCxn id="383" idx="2"/>
          </p:cNvCxnSpPr>
          <p:nvPr/>
        </p:nvCxnSpPr>
        <p:spPr>
          <a:xfrm flipH="1" rot="16200000">
            <a:off x="7522920" y="5011560"/>
            <a:ext cx="1154880" cy="2520"/>
          </a:xfrm>
          <a:prstGeom prst="curvedConnector5">
            <a:avLst>
              <a:gd name="adj1" fmla="val -19800"/>
              <a:gd name="adj2" fmla="val 14850000"/>
              <a:gd name="adj3" fmla="val -198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9" name=""/>
          <p:cNvSpPr/>
          <p:nvPr/>
        </p:nvSpPr>
        <p:spPr>
          <a:xfrm>
            <a:off x="7021800" y="581184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ача блок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иц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цінка часу Алгоритма Фокс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ас однієї ітерації дорівню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 расилання блоку матриці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 відправки блоків матриці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 помноження матриц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1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ас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ітерацій 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разів більш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ефіцієнт прискоренн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835280" y="3716280"/>
                <a:ext cx="4176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</m:e>
                    </m:ra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403280" y="5470560"/>
                <a:ext cx="511344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p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m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m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m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mp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p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Характерист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 складає як конвеєрні так і паралельні опера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статньо ефективний при великих розмірностях матриц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Існують інші алгоритми з великою кількістю синхроних або асинхроних операці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0" y="1916280"/>
          <a:ext cx="4643280" cy="38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464328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звязання систем лінійних  рівнянь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Є система лінійних  рівнян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триця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змірності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x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триці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розмірності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x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триця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 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відом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956720" y="1773360"/>
                <a:ext cx="79200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и послідовного виключення невідомих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тод Гаус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д матрицям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иконуються елементарні перетворення, щоб звести матрицю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 трикутного вигля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ісля чого рішення знаходиться за допомогою оберного вигляду метода Гау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ключення невідом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жному рядку вибирається ведучий елемент – найбільший по моду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очний рядок розраховується з усіх розташованих нажче, норморованих на ведучий елеме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цьому на місці ведучого елемента у всіх нижче розташованих радках будуть нулі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зпаралелення прямого ход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843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ядки розподіляються по процесорам рівномірно, кожен процесор має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/p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рядкі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й процесор має рядки з номерами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+kp (k=1,n/p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ередачу краще виконати конвеєрно по принципу привільованої передач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ерший процесор знаходить ведучий елемент, розраховує результат ділення свого рядка на ведучий елемен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зультат ділення та номер ведучого елемента пересилається на наступний процес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ерший процесор продовжує виключення своїх рядкі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ругий процесор приймає дані від першого , виконує виключення і теж передає дані далі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948360" y="1339920"/>
            <a:ext cx="1871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48360" y="1555920"/>
            <a:ext cx="1871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48360" y="1771560"/>
            <a:ext cx="1871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48360" y="2517840"/>
            <a:ext cx="1871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948360" y="2733840"/>
            <a:ext cx="1871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948360" y="2949480"/>
            <a:ext cx="1871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48360" y="3525840"/>
            <a:ext cx="1871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48360" y="3741840"/>
            <a:ext cx="1871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948360" y="3957480"/>
            <a:ext cx="1871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4" name=""/>
          <p:cNvCxnSpPr>
            <a:stCxn id="438" idx="1"/>
            <a:endCxn id="441" idx="1"/>
          </p:cNvCxnSpPr>
          <p:nvPr/>
        </p:nvCxnSpPr>
        <p:spPr>
          <a:xfrm flipH="1" flipV="1" rot="10800000">
            <a:off x="6947280" y="2625480"/>
            <a:ext cx="2520" cy="1008720"/>
          </a:xfrm>
          <a:prstGeom prst="curvedConnector5">
            <a:avLst>
              <a:gd name="adj1" fmla="val -14400000"/>
              <a:gd name="adj2" fmla="val 49982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7093080" y="90792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о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чий е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62200" y="2060640"/>
            <a:ext cx="175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о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наступн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238560"/>
            <a:ext cx="96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ор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75360" y="4749840"/>
            <a:ext cx="1871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975360" y="5181480"/>
            <a:ext cx="1871640" cy="21600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75360" y="5757840"/>
            <a:ext cx="1871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75360" y="5973840"/>
            <a:ext cx="1871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975360" y="6189840"/>
            <a:ext cx="1871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189920" y="4292640"/>
            <a:ext cx="196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ор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ключення та 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18280" y="5470560"/>
            <a:ext cx="96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ор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948360" y="4941720"/>
            <a:ext cx="1871640" cy="21600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"/>
          <p:cNvCxnSpPr>
            <a:stCxn id="455" idx="1"/>
            <a:endCxn id="450" idx="1"/>
          </p:cNvCxnSpPr>
          <p:nvPr/>
        </p:nvCxnSpPr>
        <p:spPr>
          <a:xfrm flipH="1" flipV="1" rot="10800000">
            <a:off x="6947280" y="5048640"/>
            <a:ext cx="27720" cy="816840"/>
          </a:xfrm>
          <a:prstGeom prst="curvedConnector5">
            <a:avLst>
              <a:gd name="adj1" fmla="val -846052"/>
              <a:gd name="adj2" fmla="val 50000"/>
              <a:gd name="adj3" fmla="val -8460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</p:cNvCxnSpPr>
          <p:nvPr/>
        </p:nvCxnSpPr>
        <p:spPr>
          <a:xfrm flipV="1" rot="10800000">
            <a:off x="6658920" y="5864760"/>
            <a:ext cx="316440" cy="732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Інші алгоритми передач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038480" cy="8287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4211640" y="2852640"/>
            <a:ext cx="3949560" cy="7938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211640" y="4076640"/>
            <a:ext cx="3984480" cy="758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4211640" y="5157720"/>
            <a:ext cx="3984480" cy="8971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519840" y="179244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ичайне кіль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99760" y="299088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ифіковане кіль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2720" y="44370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ійне кіль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6520" y="537372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ифіковане подвій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іль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цінка часу передач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лідовний алгоритм – порядку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і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алельний алгорит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ідовних операц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ідовних пересилок да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новлення з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116000" y="4653000"/>
                <a:ext cx="63356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pτ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p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Характеристики алгоритмів і обчислювальних систе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Час обчислення на одному процесорі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Час обчислення на 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процесора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ількість операцій послідовного алгоритму N</a:t>
            </a:r>
            <a:r>
              <a:rPr b="0" lang="uk-UA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ількість операцій паралельного алгоритму N</a:t>
            </a:r>
            <a:r>
              <a:rPr b="0" lang="uk-UA" sz="3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Час виконання однієї арифметичної операці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8388360" y="1700280"/>
                <a:ext cx="3110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956720" y="2133720"/>
                <a:ext cx="5396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916360" y="5300640"/>
                <a:ext cx="6476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Ілюстраці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фективність росте при збільшенні порядку матриц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ин з найефективніших метод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0" y="1700280"/>
          <a:ext cx="4572000" cy="38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457200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рівняння різних методів передач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468360" y="1989000"/>
          <a:ext cx="8136000" cy="22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8136000" cy="22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Ітеративні метод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 Якобі виражає значення невідомого через значення інших невідоми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Ітеративно знаходяться всі знач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900000" y="3573360"/>
          <a:ext cx="8244000" cy="21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573360"/>
                    <a:ext cx="8244000" cy="21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слідовний варіан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//xnew – наступне наближенн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//xold – попереднє наближенн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Arial"/>
              </a:rPr>
              <a:t>//eps – умова завершення ітераційного процес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(;;)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(i=0;i&lt;n;i++)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xnew[i]=0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7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(j=0; j&lt;i; j++)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xnew[i]+=a[i][j]*xold[j]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(j=i+1; j&lt;n-1; j++)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xnew[i]+=a[i][j]*xold[j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xnew[i]=(b[i]-xnew[i])/a[i][i]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(abs(abs(xnew)-abs(xold))&lt; eps) </a:t>
            </a:r>
            <a:r>
              <a:rPr b="1" lang="uk-UA" sz="17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xold=xnew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зпралеле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жен елемент нового наближення може бути розрахований паралельно з іншими елементами цього ж наближ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жен процесор ма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/p=q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ядків матриці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жен процесор розраховує свою частину наближ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жен процесор передає всім іншим свою частину наближ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ралельна реалізаці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(;;){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(i=c*n/p;i&lt;(c+1)*n/p;i++){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xnew[i]=0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(j=0; j&lt;i; j++){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xnew[i]+=a[i][j]*xold[j]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(j=i+1; j&lt;n-1; j++){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xnew[i]+=a[i][j]*xold[j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xnew[i]=(b[i]-xnew[i])a[i][i]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allgather(xnew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(abs(abs(xnew)-abs(xold))&lt; eps) 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xold=xnew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цінка час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ас паралельних розрахунків складається з часу роботы процесора та часу виконання передач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00000" y="3789360"/>
                <a:ext cx="40323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Ілюстраці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зпаралелюються досить ефектив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требує синхронізації, що снижує ефективні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0" y="1989000"/>
          <a:ext cx="3581280" cy="29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9000"/>
                    <a:ext cx="3581280" cy="29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орівняння різних матричних методі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0" y="1773360"/>
          <a:ext cx="460836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460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озвязання диференційних рівнянь  в частних похідних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никають в різноманітних физичних задач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зрахунок прогнозу погод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зрахунок теплових властивос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Електр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зрахунок міцності конструкці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еродинамі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Характеристики эффективности распараллелива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96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Коефіцієнт прискоренн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 скільки разів час виконання паралельного алгоритму мен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Ідеальне прискоренн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деальне прискорення = кількість процесор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Коефіцієнт ефективності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ідношення отриманого прискорення до ідеа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ий процент процесорів працю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Коефіцієнт надлишковості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аралельний алгоритм може потребувати додаткових операц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Якість розпаралелюванн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буток всіх коефіцієн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464600" y="1701720"/>
          <a:ext cx="62064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4600" y="1701720"/>
                    <a:ext cx="6206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323120" y="3460680"/>
          <a:ext cx="54612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23120" y="3460680"/>
                    <a:ext cx="5461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319880" y="4618080"/>
          <a:ext cx="54612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9880" y="4618080"/>
                    <a:ext cx="546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451640" y="2852640"/>
                <a:ext cx="15552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3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327800" y="5548320"/>
          <a:ext cx="660600" cy="23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27800" y="5548320"/>
                    <a:ext cx="660600" cy="2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– рівняння Лаплас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никає в електротехнічних задач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івняння Лапла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раничні умов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найти потенціал електричного поля в области з циліндричною симетріє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границі области потенціал ріве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(x,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6516720" y="3933720"/>
                <a:ext cx="1368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6372360" y="5229360"/>
                <a:ext cx="16556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6732720" y="2276640"/>
            <a:ext cx="13683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7524720" y="2565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794720" y="30160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7596360" y="1700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576560" y="1216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искретизація задач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область накладається сітка з кроко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хідні замінюються різними апроксимаці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огічно другі похід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івня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3080" y="1773360"/>
            <a:ext cx="1439640" cy="718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64360" y="141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308720" y="141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51640" y="141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596360" y="141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740720" y="141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85080" y="141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28000" y="141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172360" y="141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41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459640" y="141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604360" y="141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91280" y="162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91280" y="1773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91280" y="1916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91280" y="206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91280" y="2205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91280" y="2349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9128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091280" y="2637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4360" y="107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786720" y="150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6804000" y="3213000"/>
                <a:ext cx="1800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6588000" y="4221000"/>
                <a:ext cx="25560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u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e>
                            </m:d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7794720" y="107316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658360" y="20080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588000" y="4724280"/>
                <a:ext cx="2556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u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780000" y="5516640"/>
                <a:ext cx="51847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e>
                    </m:d>
                    <m:r>
                      <m:t xml:space="preserve">+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e>
                    </m:d>
                    <m:r>
                      <m:t xml:space="preserve">+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e>
                    </m:d>
                    <m:r>
                      <m:t xml:space="preserve">+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звязання рівнянь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 Якоб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ражаємо значення у вузлі сітки через 4 сусідні знач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бираємо початкове наближення у вузл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Інтеративно повторюємо до сходж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110200" y="5734080"/>
                <a:ext cx="4033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7667640" y="1197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164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96360" y="1628640"/>
            <a:ext cx="144360" cy="144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7440" y="16286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,j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318160" y="15573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+1,j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29440" y="1484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-1,j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434360" y="22240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52720" y="62064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236000" y="3933720"/>
                <a:ext cx="649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5651640" y="2781360"/>
                <a:ext cx="32763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зпаралеле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сітку накладається процесорна сіт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жному вузлу процесорної сітки відповідає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/p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узлів сітки дискретиза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кожного вузла процесорної сітки ітерації можна проводити паралель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ісля ітерації необхідний обмін на границі сі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77080" y="1557360"/>
            <a:ext cx="64764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524720" y="1557360"/>
            <a:ext cx="64764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77080" y="2133720"/>
            <a:ext cx="647640" cy="647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524720" y="2133720"/>
            <a:ext cx="647640" cy="647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77080" y="148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093080" y="148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08720" y="148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24720" y="148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04000" y="1557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04000" y="1916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04000" y="21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804000" y="1700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740720" y="1341360"/>
            <a:ext cx="71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464240" y="404640"/>
            <a:ext cx="154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зе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орно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і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804000" y="1988640"/>
            <a:ext cx="144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784920" y="301608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узел сі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ретиз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237440" y="4149720"/>
            <a:ext cx="64764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237440" y="4724280"/>
            <a:ext cx="64764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237440" y="5300640"/>
            <a:ext cx="64764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885080" y="4724280"/>
            <a:ext cx="64764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588000" y="4724280"/>
            <a:ext cx="64800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524720" y="45086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667640" y="45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7524720" y="51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66764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74072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7740720" y="50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020000" y="49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701964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цінка ефективност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сітк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час виконання послідовного алгоритма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цесорі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с складається з процесорної роботи та обмі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скорення росте зі збільшенням кількості даних задачі та падає зі збільшенням кількості процесор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543040" y="4654440"/>
                <a:ext cx="297684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Характеристики системи обміну інформаціє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38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 передачі одиниці інформ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 початкової затрим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тент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 встановлення зв'я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ідношення між часом обробки і часом передачі одиниці інформ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ідношення між часом обробки одиниці інформації і часом встановлення зв'яз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380360" y="1628640"/>
                <a:ext cx="339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7380360" y="2565360"/>
                <a:ext cx="34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236000" y="3716280"/>
                <a:ext cx="647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236000" y="4581360"/>
                <a:ext cx="5760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Характеристики маштабуємост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арактерна розмірність задач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ількість вхідних да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ількість операцій алгорит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отація великого 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к веде себе кількість N(n) при наближенні об'єму вхідних даних до безкінечност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78880" y="177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6160" y="3283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5800" y="4941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Приклади маштабуємост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3960" y="1130400"/>
          <a:ext cx="6423120" cy="48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130400"/>
                    <a:ext cx="642312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17:58:06Z</dcterms:created>
  <dc:creator>saa</dc:creator>
  <dc:description/>
  <dc:language>en-US</dc:language>
  <cp:lastModifiedBy>saa</cp:lastModifiedBy>
  <dcterms:modified xsi:type="dcterms:W3CDTF">2013-12-01T19:56:17Z</dcterms:modified>
  <cp:revision>12</cp:revision>
  <dc:subject/>
  <dc:title>Основні підходи до розпаралелювання</dc:title>
</cp:coreProperties>
</file>