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8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216-3557-496D-B19D-D0947ED3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8BF-4907-447E-ADC5-77B7E0F7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1A3-F991-4AF5-A598-3FA1FCBB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0E4-610D-4B3A-A212-2982A1F1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87BF-052B-4BCC-BE6B-F55F85BC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4066-2EDA-449C-B44C-C26A263C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5563-BE85-4702-9A9B-E1A0D97A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E6CC-D656-4675-8D60-77613531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6E6-FEE3-4C2C-95FC-44406FE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EA15-5C07-47F5-AAF7-9C091EAD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B7C1-EED5-44EE-AE4B-5D8D52A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957-8B7E-416A-9D01-0606F98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956F-13A9-444E-A39F-FB85DE25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B30F-5933-49C6-A60F-9A50E4B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83F-260E-4F08-93E0-6A2C1BAB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2928-6C23-4AD4-9772-742FC669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619F-1FC5-4EC7-A56E-FA344C6A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804-91EE-4745-AF04-2EBC7444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3BC-5C7E-4CDD-8986-6459C755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94A-6C82-4201-90C6-DD7240BE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520-84D9-459D-8527-09F59CAF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892-2043-4D2A-A9FD-1C45FFD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BB3-7320-4D64-B1DA-6C19DCAF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99F-ABBD-464D-AD71-82C4617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699-3C2E-47EB-B5D5-CE673218FD61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E73-E4CF-4FE2-8F87-2E9633BEDFFE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20872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сокопродуктивн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 обчислювальні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алельні і розподілені обчислення” Лекція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нвеєр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(pipeline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у складну операцію можна розбити на декілька прост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що складну операцію необхідно виконати з великою кількістю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ідних даних, то можлива паралельна обро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ший результат отримується за час складної операції, а всі інші за час найповільнішої стад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406480" y="1350360"/>
            <a:ext cx="957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д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5400000">
            <a:off x="6125040" y="1350360"/>
            <a:ext cx="9579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д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6912720" y="1345680"/>
            <a:ext cx="967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д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155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155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24720" y="155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08760" y="1197000"/>
            <a:ext cx="122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ходные дан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,d2,d3,d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67640" y="1268280"/>
            <a:ext cx="125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ые дан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1,o2,o3,o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932360" y="3213000"/>
          <a:ext cx="3095640" cy="1354320"/>
        </p:xfrm>
        <a:graphic>
          <a:graphicData uri="http://schemas.openxmlformats.org/drawingml/2006/table">
            <a:tbl>
              <a:tblPr/>
              <a:tblGrid>
                <a:gridCol w="1022400"/>
                <a:gridCol w="417600"/>
                <a:gridCol w="417240"/>
                <a:gridCol w="408240"/>
                <a:gridCol w="452160"/>
                <a:gridCol w="3780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09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932360" y="4797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011080" y="48895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конвеєрної оброб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платформі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стадії конвеє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ладання 6 стаді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івняння поряд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із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ання ман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ізація результ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ірка на виключну ситуаці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г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великій кількості вхідних даних можна отримати прискорення в 4-10 раз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02480" y="1989000"/>
            <a:ext cx="103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84280" y="2781360"/>
            <a:ext cx="1563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од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8480" y="3645000"/>
            <a:ext cx="1343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3200" y="4437000"/>
            <a:ext cx="1340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беріг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764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27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5636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56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прискорення за рахунок конвеєрної обробки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loop unroll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кл - різні опер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i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вір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риманн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анн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[i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більшенн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дуже ефек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гортання циклів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 unrollin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мість цикла виконуємо послідовні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1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2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3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4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5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+=a[n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римуємо значне прискорення за рахунок конвеєрної оброб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уперскалярна оброб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дин потік інструкці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кілька функціональних пристрої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дночасно зчитується декілька інструкці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езалежні інструкції обробляються одночасно на декількох функціональних пристро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і функціональні пристрої працюють зі скалярними дани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Якщо інструкції залежні одна від одної, то один з функціональних пристроїв простоює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41760" y="1628640"/>
            <a:ext cx="46022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суперскалярної оброб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+jb)*(c+jd)=ac-bd+j(bc+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і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ідовних операці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гі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гі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гі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гі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-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+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елізм на рівні інструк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перскалярна обробка на 2-х функціональних пристроях (5 послідовних операці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вантаже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часно 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часно 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-b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часно 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+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кторна оброб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ункціональний пристрії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обляє послідовно по одній інструк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Інструкції можуть бути векторними – одна інструкція відразу обробляє масив да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иви зберігаються в векторних регі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ії з двома векторними регістрами можна виконати за допомогою однієї команд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427640" y="2095560"/>
            <a:ext cx="4491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векторної оброб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ладання двох масив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i]+b[i]=c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ідовний варі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[1]=a[1]+b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[2]=a[2]+b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[N]=a[N]+b[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рядка 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а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оє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кторна оброб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кторний регіст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[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кторний регістр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а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[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[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нією машинною інструкціє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оєнн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[]=a[]+b[]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ією машинною інструкціє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ка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+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антаження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анн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оєнн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екторно-конвеєрна оброб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3887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веєр дуже ефективний для векторних опера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[]=a[]+b[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завжди працює ефективно для довгих послідовностей однакових опера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788000" y="1473120"/>
            <a:ext cx="4105080" cy="1106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3489480" cy="1014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859280" y="4941720"/>
            <a:ext cx="3457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учасні мікропроцесо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овуються всі розглянуті підходи в комбіна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ен тип процесора має свої особливості і потребує свого підходу при програмуванні для отримання максимальної продуктивн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l Pentiu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перскаля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чілочисельних конвеє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з плаваючою точк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веє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стад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re-fetch (PF), Decode stage 1(D1), Decode stage 2 (D2), Execute (E), and Write back (W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ілочисельних операції за такт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441680" y="2205000"/>
            <a:ext cx="4702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сокопродуктивні обчислюваль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l Pentium I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ordering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ставлення порядку викон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E – streaming SIMD ext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-2 FPU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ераці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701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l Pentium 4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еш декодованих інструкц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більшення кількості стадій конвеєра до 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E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140360" y="2276640"/>
            <a:ext cx="48052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MX, SSE, SSE2, SSE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MX – multimedia exten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6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х біто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торних регістри (4 елемента вектора) для операцій з ціли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можна використовувати спільно 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SE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reaming SIMD exten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128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ітових векторних регістри (4 елемента вектора) для операцій з плаваючою крапкою одинарної точ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а використовувати спільно 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SE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дані інструкції для інтерпретації кожного регістра як 2 значення тип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SE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дані операції з комплексними числами і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к працюють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MD 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розширення</a:t>
            </a:r>
            <a:r>
              <a:rPr b="0" lang="uk-UA" sz="4200" spc="-1" strike="noStrike">
                <a:solidFill>
                  <a:srgbClr val="0000ff"/>
                </a:solidFill>
                <a:latin typeface="Garamond"/>
              </a:rPr>
              <a:t>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ані записуються у векторні регіст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зивається одна інструкція для виконання операції з цими регістр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залежності від команди дані інтерпретуються як байти, слова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ія виконує за допомогою векторно-конвеєрної оброб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4328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928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7672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692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2292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4036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1989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4880" y="19162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акування бай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2492280"/>
            <a:ext cx="4334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75280" y="2492280"/>
            <a:ext cx="4334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06920" y="2492280"/>
            <a:ext cx="4334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92280"/>
            <a:ext cx="4334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43280" y="2997360"/>
            <a:ext cx="8654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06920" y="2997360"/>
            <a:ext cx="8654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43280" y="3500280"/>
            <a:ext cx="172908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06520" y="241452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акування с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06880" y="291780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акува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07960" y="3422520"/>
            <a:ext cx="21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акуван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5928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0692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2292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036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6360" y="4292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4328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5928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7672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0692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2292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036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486900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328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5928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7672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272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0692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2292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94036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6360" y="558972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73280" y="4456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6000" y="4456080"/>
            <a:ext cx="20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ель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ання одн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інстру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yperthread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уперскалярних процесорах з великою кількістю стадій конвеєра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entium 4, Xeon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 на практиці використовується тілько 15% відсоткі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ункціональних елементів, інші простоюю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, щоб завантажити невикористовувані стадії конвеєрів було запропоновано на тих же функціональних елементах виконувати два потоки команд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Ця технологія називається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yperthreading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або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ckson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і процесори в системі виглядають як д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19051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ли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yperthreading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ефективний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фектив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 ефективна обробка перерив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 ефективний ввід/вивід (дисковий, мережев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ідкачка сторінок (робота в умовах невистачання пам'ят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уск додат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дображення на пам'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 ефективне одночасне виконання різноманітн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MD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гатопотоков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 ефективне використання ке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ефектив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часне виконання однаков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гатопотокові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малому об'ємі ке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ISC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процесо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ISC – reduced instruction s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меншення кількості складних інструкці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рахунок цього збільшення продуктивност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обливост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більшено кількість регіст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більшення кількості конвеєрів і простих стадій конвеє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рації з пам'яттю тільки зчитування/зап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 відповідальність за оптимізацію покладається на компі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ладні операції виконуються повільно, але іх м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SC – complex instruction s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більшення кількості складних інструкці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обливост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більшення кількості складних функціональних пристрої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ільше інструкцій для роботи з пам'ятт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ше регіст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ідвищення «інтелектуальності» процес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ілятор повинен враховувати особливості процес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ладні операції виконуються швидше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ле іх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арактеристики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P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цесор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това част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ількість операцій за один та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звичай 1-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ктивність – кількість операцій в секун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ікова: теоретично максимально-можли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міряна: виміряна певним тес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диниці продуктивн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P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мильйон інструкцій в секун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арактеристика для порівняння продуктивності різних процесо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OP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ількість операцій з плаваючою крапкою за секун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арактеристика продуктивності при вирішені прикладних зада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FLOPS, GFLOPS, TFLOPS, PFL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ікова продуктивні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ксимально теоретично можл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більш точна характеристика проце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550800" y="3716280"/>
          <a:ext cx="8183520" cy="22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3716280"/>
                    <a:ext cx="81835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Типи високопродуктивни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процесорні систем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U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метричні багатопроцесорні системи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кторно-конвеєрні системи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V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A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числювальнікласте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акомп'ют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розрахунку пікової продуктивност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l Xeon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операції з числами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 плаваючою крапкою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двійної точності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за одни такт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това частота 2.4 ГГц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=2*2.4 = 4.8 GFL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ікової продуктивності досягти важ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міряна продуктивні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міряна продуктивність залежить від 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ефективний тільки для певних послідовностей коман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деяких задач буде ефективніше одна система, а для деяких ін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дартні т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p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Як використовувати можливості паралельної обробки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P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шинні інструкції необхідно виконувати в оптимальній послідовн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ілятор повинен враховувати особливості проце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иметричні багатопроцесорні системи (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MP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кілька повністю еквівалентних процесорів, які працюють з загальною пам'яттю і підключені до загальної ш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5067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лив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елізм на рівні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гатопоточні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идка обробка перерив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ідвищеня продуктивності вводу/ви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кладност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езпечення синхронізації при зверненнях до загальної пам'я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езпечення когерентності кеш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влення операцій різними процес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більшення кількості суттєво послідовних операцій, таких як передача по загальній ши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иження ефективності при збільшенні кількості процесо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инхронізація при зверненнях до загальної пам'ят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зверненнях до загальних даних можливі конфлікти зчитування-запи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зультат двох одночасних операцій зчитування та запису або двох одночасних операцій запису не визнач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і операції зчитування можуть виконуватися одночас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09360" y="3645000"/>
            <a:ext cx="1701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97440" y="206064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а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12000" y="278136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25800" y="213372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а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308720" y="285264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2000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10360" y="4816440"/>
            <a:ext cx="24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у р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 сказать нельз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нхрон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омарні опер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одільні операції – якщо виконується атомарна операція з деякими даними, то інша атомарна операція з цими даними одночасно з першою виконуватися не мож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конуєтьс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іальними машинними інструкціями або блокуванн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incl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ін-блок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ний код, який періодично в циклі перевіряє умову доступності загальною змінн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ін-блокування найшвидший тип блокування, але витрачає процесорний ча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користання блокува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хоплення блокування, чекаємо якщо вже захопл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ична ділянка: звернення до спільно використовуваним д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ільнення блок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ор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хоплення блокування, чекаємо якщо уже захопл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ична ділянка: звернення до спільно використовуваним да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ільнення блок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а когерентності кеш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еш кожного процесора зберігає копію даних з загальної пам'ят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що ці дані зберігаються в кешах різних процесорів, то кожен процесор змінює дані ікш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ке значення є правильним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обхідно забезпечити непротирічність даних в кешах та пам'яті (когерентні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6200" y="2852640"/>
            <a:ext cx="160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71920" y="2814480"/>
            <a:ext cx="141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78480" y="1484280"/>
            <a:ext cx="1084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'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84280" y="3228840"/>
            <a:ext cx="1611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читав у к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н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71920" y="3209760"/>
            <a:ext cx="1611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читав у к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н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011640" y="22050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93080" y="22050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83560" y="4292640"/>
            <a:ext cx="159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вої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0840" y="4292640"/>
            <a:ext cx="159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вої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96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4360" y="4724280"/>
            <a:ext cx="93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948360" y="472428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33040" y="5516640"/>
            <a:ext cx="2459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ому дорівнює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о писати в пам'я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безпечення когерентності кеш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гальний ке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ілька процесорів мають загальний кеш і всі дані в кеше синхронізова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хоплення (моніторинг ши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us snoopin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будь-яких зверненнях до даних по шині система моніторингу визначає який процесор прочитав які дані і чи нема відповідних даних в кеші іншого процесора, якщо є, то повертає ї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лог кешів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he director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ернення до пам'яті виконується через каталог, в якому зберігається інформація про те, які дані зберігаються в кеші якого процесо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рез каталог виконується передача інформ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днопроцесорні ЭВ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ин процес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гальна ш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елізм на рівні інструкцій за рахунок особливостей архітектури процес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часна робота периферії і процес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56000" y="1844640"/>
            <a:ext cx="4426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еставлення порядка виконання вводу-вивод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становка поряд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учасні процеси можуть переставляти місцями операції зчитування запису аб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мпілятор може зберігати копії даних в регістрах і теж переставляти поряд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ставлення порядку виконання різними процесорами може призвести до запису в пам'ять неправильних дани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ідсрочка операції запису може призвести до неправильної роботи програм на різних процесора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однопроцесорній системі такого відбутися не мож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51040" y="2081160"/>
            <a:ext cx="141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16280" y="2060640"/>
            <a:ext cx="141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999400" y="1216080"/>
            <a:ext cx="1471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'я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225400" y="2781360"/>
            <a:ext cx="2050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читує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a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ам'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вж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63040" y="4600440"/>
            <a:ext cx="26496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умний процесо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іщо пис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кіль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ів. Запишу, к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закін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4036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8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72680" y="2924280"/>
            <a:ext cx="1377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читуєм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44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4400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748280" y="3789360"/>
            <a:ext cx="100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Бар'є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ар'єр – вид блокування, який гарантує, що всі операції, які йдут до бар'єру гарантовано виконуються після переходу через бар'є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ар'єр пам'ят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'єр зчиту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'єр запис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звичай використовується спеціальна машинна інструкці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40360" y="1197000"/>
            <a:ext cx="2532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ії до бар'є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читуванн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читуванн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ії можуть переставлятися або відкладат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33000" y="4076640"/>
            <a:ext cx="2533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'єр – виконує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і попередні опер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9308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57040" y="5229360"/>
            <a:ext cx="256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ії після бар'є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308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Забезпечення сумісності за рахунок компілятор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ілятору можна вказувати інструкції в яких випадках можна переставляти дані, а в яких – 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допомогою спеціально скомпільованого коду можна забезпечити також когерентність кеш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бота із спільною шино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і між пам'яттю і процесорами передаються по одній загальній ши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хоплення ш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ача/прийом да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дпускання ш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дача по шині – суттєво послідовна операція і знижує ефективность паралеліз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збільшенні кількості процесорів збільшується кількість захоплень і імовірність того, що шина буде захоплена, коли вона потрібна – процесори простоюю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Зменшення ефективності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MP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ри збільшенні кількості процесор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ільше процесор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е одночасно працюючих пото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 інтенсивна взаємодія між процес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е конфліктів при захопленні ш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ільше операцій для забеспечення когерентності ке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фективность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MP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стеми знижується при збільшенні кількості процесорі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084720" y="2133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036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84720" y="2612880"/>
            <a:ext cx="2590920" cy="1176480"/>
          </a:xfrm>
          <a:custGeom>
            <a:avLst/>
            <a:gdLst/>
            <a:ahLst/>
            <a:rect l="l" t="t" r="r" b="b"/>
            <a:pathLst>
              <a:path w="1632" h="695">
                <a:moveTo>
                  <a:pt x="0" y="695"/>
                </a:moveTo>
                <a:cubicBezTo>
                  <a:pt x="49" y="540"/>
                  <a:pt x="98" y="385"/>
                  <a:pt x="181" y="287"/>
                </a:cubicBezTo>
                <a:cubicBezTo>
                  <a:pt x="264" y="189"/>
                  <a:pt x="355" y="151"/>
                  <a:pt x="499" y="106"/>
                </a:cubicBezTo>
                <a:cubicBezTo>
                  <a:pt x="643" y="61"/>
                  <a:pt x="892" y="30"/>
                  <a:pt x="1043" y="15"/>
                </a:cubicBezTo>
                <a:cubicBezTo>
                  <a:pt x="1194" y="0"/>
                  <a:pt x="1308" y="15"/>
                  <a:pt x="1406" y="15"/>
                </a:cubicBezTo>
                <a:cubicBezTo>
                  <a:pt x="1504" y="15"/>
                  <a:pt x="1594" y="15"/>
                  <a:pt x="1632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51440" y="3952800"/>
            <a:ext cx="13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ільк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75080" y="15764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кор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43640" y="24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11080" y="3881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актичні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MP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звичай до 8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ph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о 64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більш ефективні 2-4 проце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раз 24 ядра на маши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тим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снують компілятори з авторозпаралеленн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ne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th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V SHM, S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IS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 процесо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уть бути відсутні наступні функ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омарні опер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безпечення когерентності ке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р'є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я (або майже вся) відповідальність за синхронізацію лягає на програмі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 flipV="1">
            <a:off x="7308720" y="1557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32720" y="1483920"/>
            <a:ext cx="0" cy="374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екторно-конвеєрні суперкомп'ютер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кторно-конвеєрні процесори підключені до загальної пам'яті як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ідсутній ке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ор може взаємодіяти 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м'ятт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троями вводу-ви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 іншими процес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213372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16720" y="314172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16720" y="5229360"/>
            <a:ext cx="1584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6551640" y="3615840"/>
            <a:ext cx="40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'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3182760" y="3665160"/>
            <a:ext cx="40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 вводу-ви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59280" y="836640"/>
            <a:ext cx="40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 взаємодії між процес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0108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010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0108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363640" y="22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363640" y="33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364000" y="5445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788508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UMA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неоднорідний доступ до пам'я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бір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, зв'язаних комутатор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уп процесорів до «своєї» пам'яті виконується швид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ступ процесорів до «чужої» пам'яті виконується в декілька раз повільніше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A facto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я пам'ять складає один загальний адресний прості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51640" y="1700280"/>
            <a:ext cx="10526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калярна оброб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дин потік інструкці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дин функціональний проистрі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сі інструкції обробляються послідов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жна інструкція працює зі скалярними дани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калярні дані – не мас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l 808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06920" y="1628640"/>
            <a:ext cx="4537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лив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і ж, що 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ерентність кеші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NUM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апаратне забезпечення когерен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не забезпечення когерен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безпечення ефективного використання пам'ят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и консистентности пам'я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ійна систем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копія ОС для всієї системи (я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ель програмування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гальна пам'я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зміри системи обмежені розміром адресного простор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е сучасні суперкомп'ютери з загальною пам'яттю будуються по такый схем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асивно-паралельні комп'ютер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бір блоків з загальною пам'яттю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, SMP, PV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з'єднаних за допомогою комуникаційної підсисте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сивно-паралельні комп'ютери – системи з розпаралеленою пам'ятт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жен блок (вузел) може звертатись тільки до своєї локальній пам'ят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і з пам'яті інших блоків можуть передаватися тільки по мереж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звичай існуює один або декілька центральних блоків і велика кількість рабочих вуз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ажний елемент - комутато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стер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 – набір обчислювальних систем, які можуть працювати незалежно, з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зані між собою і використовуються як одна логічна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і машини кластера працюють як один великий комп'ютер для рішення деяких зада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1995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ливості кластер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узли кластера є обчислювальними системами, які виконують свою копію ядра операційної систе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т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астер є однією системою лише в контексті тих задач, для яких він призначений, при розгляді з інших точок зору машини кластера можуть виявитися нез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заними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і сучасні суперкомп'ютери є кластерами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ластери легко будувати на базі широкодоступних компонент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'ютери загального призна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оби комуникаціїии загального признач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сновні функції в кластерних системах виконує програмне забезпеченн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Засоби комунікації для кластерни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тер в основному керується програм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соби комунікації – найбільш критична апаратна частина для класте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хнології комунік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Gigabit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ri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S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g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арактеристики засобів комунік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видкість передачі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ільки часу займає передача одиниці інформ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атентність (початкова затрим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ільки часу приходить від початку передачі даних до приходу інформації на прийм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полог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уктура з'єднань між вузл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 пере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утація канал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утація пакет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Кластери типу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owul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ипу Beowu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омп'ютер широкого використ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поділений образ операційної систе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ентралізована мод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етероге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жливі розшир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ільна пам'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іграція процес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екпоінт/ре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х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900000" y="1628640"/>
          <a:ext cx="7452000" cy="42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4520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узли класте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worker node)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нання розраху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Збереження даних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storage nod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ереження доступних да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Вузли управліня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management node)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ограмне забезпечення для адміністрування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ази даних системної інформації  (NIS master, LDAP 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Вузли доступу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login nod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хід користувачів з Інтерн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Вузли розподілу навантаження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(workload management node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вер і планувальщик системи управління навантаженн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унік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режа швидкого обміну да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ережа монітори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ешування оперативної пам'я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ш – пам'ять зі швидким доступом (швидше, ніж з оперативна пам'я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ш інструкцій – пам'ять для інструкцій (8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4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еш даних – пам'ять (8-6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ш першого, іншого, третього рі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1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-6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2 128K-2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3 4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ор з кеша може зчитувати та записувати дані порціями (рядок кеша) звичайн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ор може виконувати дії з кешем не звертаючись до ш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лива паралельна обробка даних процесором і передача по ши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обота вузлів в кластер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бота кластера як однієї системи визначається програмним забезпеченн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узли кластера повинні “довіряти” один одн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ожливість запускати програми на різних вузлах  кластеру без введення паро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Файли даних повинні бути доступними всім вузл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дель програм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мін повідомленнями  (MPI, PV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ільна пам'я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 багатопроцесорних вузл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и наявності відповідної мережі (SCI, QSN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бін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хідні вузл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хідний вуз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рандмауэ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аршрутизатор для вузлів класт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эшуючий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пуск програм на робочих вузл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нтерфейс системи моніторин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Часто користувачі не мають прямого доступу ні на які вузли, окрім вхід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3813120"/>
            <a:ext cx="2448000" cy="8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229440" y="4029120"/>
            <a:ext cx="2519280" cy="8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04000" y="1916280"/>
            <a:ext cx="1944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хідний ву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андмау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шрутиза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48640" y="4173480"/>
            <a:ext cx="2251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конання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732720" y="345276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596360" y="34524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8244000" y="3452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7667640" y="126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50520" y="9079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І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6445080" y="3284640"/>
            <a:ext cx="2519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29440" y="3500280"/>
            <a:ext cx="2519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ази даних системної інформ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Вузол управління містить авторитетні копії баз даних системної інформ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писок користувачі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Список гру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Нова інформація додається і змінюється лише на вузлі управлі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Решта вузлі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При необхідності звертаються до бази дан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Можуть містити репліки головної бази дани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При будь-якому акті авторизації або аутенфік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Звертання ідуть до головного серве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Може виконуватися кеширування на локальних вузлах (NSC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27040" y="1700280"/>
            <a:ext cx="2227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948280" y="3645000"/>
            <a:ext cx="2120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і інші ву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S client (sl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 client (sla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6732720" y="2924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596360" y="292428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24400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истема моніторинг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генти збору інформ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узол колектора (вхідний або управлінн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грегація і аналіз інформ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стема вмикання-вимикання вуз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ANGL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41240" y="888840"/>
            <a:ext cx="736920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истема розподілення навантаженн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ально ефективне використання ресурсів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аксимальна швидкість виконання розрахун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доволення потреб користувачів у необхідних ресурс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ам'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ісце на д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еціальні ресурси (стример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Збільшення ефективності використання ресурс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акетний реж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увачі вказують необхід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увачі ставлять свої задачі в чер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а виконує задачі в черзі в порядку пріорит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зподілення наванта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уск програм оптимальним (в плані швидкості) чи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нтроль використання ресурс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 перевищенні лімітів задача завершується примус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алізації систем пакетного режим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QS – network queuing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BS – portable batch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L – load lev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QS -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Batch Queing Syste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COND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S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B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Агент менеджера ресурсів (pbs_mom) – machine oriented miniser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ір інформації про завантаженість свого вуз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пуск програм на своєму вуз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пинка задач на своєму вуз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Сервер (pbs_serve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грегація інформації від аген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тримка че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пуск задач за допомогою агентів на заданих вуз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ланувальни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дача інформації серверу про оптимальний вибіл ресурсів для різн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45080" y="3284640"/>
            <a:ext cx="2519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29440" y="3500280"/>
            <a:ext cx="2519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41280" y="1700280"/>
            <a:ext cx="2227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940360" y="3645000"/>
            <a:ext cx="25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і вуз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неджера ресур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732720" y="2924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596360" y="292428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244000" y="292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руктурна схема PB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"/>
          <p:cNvSpPr/>
          <p:nvPr/>
        </p:nvSpPr>
        <p:spPr>
          <a:xfrm>
            <a:off x="762120" y="1700280"/>
            <a:ext cx="3266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ий ву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залежний від ма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іни-серв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зада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бір інформації про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99200" y="1773360"/>
            <a:ext cx="3266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бочий ву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залежний від ма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іни-серв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зада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бір інформації про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4005360"/>
            <a:ext cx="4032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незалеж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я ч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ргегація інформ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уск задач за допомогою аген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084280" y="4076640"/>
            <a:ext cx="33231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узол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ува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залеж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нування виконання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трима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тимальної ефектив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00720" y="501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835280" y="3284280"/>
            <a:ext cx="215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843280" y="3284280"/>
            <a:ext cx="32414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передня вибір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кщо дані і інструкції знаходяться в кеші, то операції з ними виконуються дуже швид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роцесорах використовуються різноманітні методи, щоб збільшити імовірність того, що необхідні дані знаходяться в кеші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переднє завантаженн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бачення «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розгалужен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максимальної швидкод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і/код повинні зчитуватися/записуватися порціями «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кратн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розміру рядка кеш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і/код повинні вміщуватись в кеш і кеш повинен бути завантажений максималь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Агент менеджера ресурсів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лієнт-серверна ідеологі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з'єднатися до серверу і планувальнику для передачі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ухає порт з можливістю з'єд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еріодично передає серверу інформацію про завантаженість і заняті ресурс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Виконує вказівки сервера і планувальника по запуску і зупинці зада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813 ?        S     29:34 /usr/local/torque/sbin/pbs_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866 ?        S      0:00  \_ -b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867 ?        S      0:01      \_ pbs_dem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920 ?        S      0:00      \_ /bin/bash -x /var/spool/torque/mom_priv/jobs/8097.cluste.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1940 ?        S      0:00          \_ mpirun -np 4 /usr/local/gromacs/i686-pc-linux-gnu/bin/mdrun_m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Сервер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рганізація че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грегація використання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рга (кла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ожну чергу попадають задачі с певними вимогами по ресурс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дачі з однаковими вимогами виконуються послідо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вер вказує агентам, що запуск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увальни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основі інформації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енеджера ресурс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имог користувач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меж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планувати виконання всіх задач з максимальною ефективніст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ценарій запуску (паспорт задачі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дача може бути запущена на будь-якому вузлі класт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Щоб все запустилось правильно користувач повинен вказати як запускати зад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Ім'я і шлях до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обхідні ресур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S надає користувачеві змінні середовищ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Імена машин на яких були запущені задач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Імена машин і каталог з яких була запущена 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Особливості кластера типу beowul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Гетерогенність – не перешк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езалежність від програмного і апаратного забезпеч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остота організ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сока надійні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сока маштабуємі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изьке співвідношення ціна/які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долі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атичний розподіл навантаж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еобхідність складний настройок для отримання оптимальної продуктивност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уповільнення  за рахунок не потрапляння в кеш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ння двох матри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=0; i&lt;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for(j=0; j&lt;n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(k=0; k&lt;n; k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[i][j]+=a[i][k]*b[k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і в пам'яті зберігаються порядкі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сідні елементи рядка знаходяться в сусідніх адресах пам'ят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сідні елементи стовбчика знаходяться «далеко» один від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ідні елементи матриц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ь в кеш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ідний елемент матриц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м будуть відсут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640" y="3284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5280" y="3284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092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3284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13800" y="3284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2944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00" y="3284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77440" y="3284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93080" y="3284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458136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5280" y="458136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092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458136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3800" y="458136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2944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4000" y="458136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5964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77440" y="458136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93080" y="458136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587700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8472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5280" y="587700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3092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436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036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96360" y="587700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3800" y="587700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2944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44000" y="587700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77440" y="587700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93080" y="5877000"/>
            <a:ext cx="21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04" idx="0"/>
            <a:endCxn id="105" idx="0"/>
          </p:cNvCxnSpPr>
          <p:nvPr/>
        </p:nvCxnSpPr>
        <p:spPr>
          <a:xfrm flipH="1" rot="16200000">
            <a:off x="5866560" y="3177000"/>
            <a:ext cx="216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H="1" rot="16200000">
            <a:off x="6118560" y="3174840"/>
            <a:ext cx="2520" cy="216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H="1" rot="16200000">
            <a:off x="6334560" y="3174480"/>
            <a:ext cx="252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8000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344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9440" y="177336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93080" y="177336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216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5816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836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0580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821800" y="177336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8200" y="2081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33000" y="2075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8640" y="2075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6360" y="2060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8520" y="2075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29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02360" y="445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29280" y="575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/>
          <p:nvPr/>
        </p:nvCxnSpPr>
        <p:spPr>
          <a:xfrm flipH="1" rot="16200000">
            <a:off x="5903280" y="4472280"/>
            <a:ext cx="216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 rot="16200000">
            <a:off x="6082560" y="4472280"/>
            <a:ext cx="216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H="1" rot="16200000">
            <a:off x="6334920" y="4472280"/>
            <a:ext cx="216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36" idx="0"/>
            <a:endCxn id="143" idx="0"/>
          </p:cNvCxnSpPr>
          <p:nvPr/>
        </p:nvCxnSpPr>
        <p:spPr>
          <a:xfrm flipH="1" rot="16200000">
            <a:off x="6514920" y="5121000"/>
            <a:ext cx="2160" cy="15138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43" idx="0"/>
            <a:endCxn id="151" idx="0"/>
          </p:cNvCxnSpPr>
          <p:nvPr/>
        </p:nvCxnSpPr>
        <p:spPr>
          <a:xfrm flipH="1" rot="16200000">
            <a:off x="8136000" y="5013000"/>
            <a:ext cx="2160" cy="1729440"/>
          </a:xfrm>
          <a:prstGeom prst="curvedConnector5">
            <a:avLst>
              <a:gd name="adj1" fmla="val -14400000"/>
              <a:gd name="adj2" fmla="val 49989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37" idx="0"/>
            <a:endCxn id="144" idx="0"/>
          </p:cNvCxnSpPr>
          <p:nvPr/>
        </p:nvCxnSpPr>
        <p:spPr>
          <a:xfrm flipH="1" rot="16200000">
            <a:off x="6730920" y="5121000"/>
            <a:ext cx="2160" cy="15138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клад прискорення за рахунок кешуванн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ння двох матри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i=0; i&lt;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(k=0; k&lt;n; k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for(j=0; j&lt;n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[i][j]+=a[i][k]*b[k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і в пам'яті зберігаються порядкі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сідні елементи рядка знаходяться в сусідніх адресах пам'ят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щ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іняти місцями, то всі необхідні елементи будуть послідовно завантажуватись в кеш за рахун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313992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8472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5280" y="313992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092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436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8036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13992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13800" y="313992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2944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44000" y="313992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677440" y="313992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93080" y="313992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1640" y="443700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5280" y="443700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092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4836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8036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443700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13800" y="443700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2944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44000" y="443700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7440" y="443700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893080" y="443700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51640" y="5732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072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15280" y="5732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3092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436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8036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5732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3800" y="5732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2944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00" y="5732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45964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77440" y="5732640"/>
            <a:ext cx="21564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893080" y="5732640"/>
            <a:ext cx="216000" cy="215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187" idx="0"/>
            <a:endCxn id="188" idx="0"/>
          </p:cNvCxnSpPr>
          <p:nvPr/>
        </p:nvCxnSpPr>
        <p:spPr>
          <a:xfrm flipH="1" rot="16200000">
            <a:off x="5866200" y="3031560"/>
            <a:ext cx="252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58000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344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9440" y="162864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4364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1628640"/>
            <a:ext cx="21564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216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816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7236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0580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821800" y="1628640"/>
            <a:ext cx="216000" cy="216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88200" y="1936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33000" y="1930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8640" y="19303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6360" y="1916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8520" y="19303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29640" y="308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02360" y="431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2928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188" idx="0"/>
            <a:endCxn id="189" idx="0"/>
          </p:cNvCxnSpPr>
          <p:nvPr/>
        </p:nvCxnSpPr>
        <p:spPr>
          <a:xfrm flipH="1" rot="16200000">
            <a:off x="6082920" y="3030840"/>
            <a:ext cx="2520" cy="218160"/>
          </a:xfrm>
          <a:prstGeom prst="curvedConnector5">
            <a:avLst>
              <a:gd name="adj1" fmla="val -14400000"/>
              <a:gd name="adj2" fmla="val 4991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03" idx="0"/>
            <a:endCxn id="204" idx="0"/>
          </p:cNvCxnSpPr>
          <p:nvPr/>
        </p:nvCxnSpPr>
        <p:spPr>
          <a:xfrm flipH="1" rot="16200000">
            <a:off x="5866200" y="4328640"/>
            <a:ext cx="252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04" idx="0"/>
            <a:endCxn id="205" idx="0"/>
          </p:cNvCxnSpPr>
          <p:nvPr/>
        </p:nvCxnSpPr>
        <p:spPr>
          <a:xfrm flipH="1" rot="16200000">
            <a:off x="6082920" y="4327920"/>
            <a:ext cx="2520" cy="218160"/>
          </a:xfrm>
          <a:prstGeom prst="curvedConnector5">
            <a:avLst>
              <a:gd name="adj1" fmla="val -14400000"/>
              <a:gd name="adj2" fmla="val 4991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19" idx="0"/>
            <a:endCxn id="220" idx="0"/>
          </p:cNvCxnSpPr>
          <p:nvPr/>
        </p:nvCxnSpPr>
        <p:spPr>
          <a:xfrm flipH="1" rot="16200000">
            <a:off x="5866560" y="5625000"/>
            <a:ext cx="2160" cy="216720"/>
          </a:xfrm>
          <a:prstGeom prst="curvedConnector5">
            <a:avLst>
              <a:gd name="adj1" fmla="val -14400000"/>
              <a:gd name="adj2" fmla="val 49916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20" idx="0"/>
            <a:endCxn id="221" idx="0"/>
          </p:cNvCxnSpPr>
          <p:nvPr/>
        </p:nvCxnSpPr>
        <p:spPr>
          <a:xfrm flipH="1" rot="16200000">
            <a:off x="6083280" y="5624280"/>
            <a:ext cx="2160" cy="218160"/>
          </a:xfrm>
          <a:prstGeom prst="curvedConnector5">
            <a:avLst>
              <a:gd name="adj1" fmla="val -14400000"/>
              <a:gd name="adj2" fmla="val 49917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48:48Z</dcterms:created>
  <dc:creator>saa</dc:creator>
  <dc:description/>
  <dc:language>en-US</dc:language>
  <cp:lastModifiedBy>saa</cp:lastModifiedBy>
  <dcterms:modified xsi:type="dcterms:W3CDTF">2013-11-09T15:09:09Z</dcterms:modified>
  <cp:revision>123</cp:revision>
  <dc:subject/>
  <dc:title>Работа на удаленных машинах и стандартные протоколы</dc:title>
</cp:coreProperties>
</file>