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DB0-0D9B-4EEB-B394-0F9CAD2E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12B-62E3-4187-BF4B-2E9B5265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C62-90C5-4183-8116-F84C02D0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512-1BB3-4D18-8633-C1A582EB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233B-82BF-42D2-8FB5-9E558A64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90B6-8E28-4F59-BFD1-3EDBC24C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AE33-DC2A-4D36-92CC-A0DADB0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80CC-BEAE-4E40-874B-B65780EF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41A6-3D99-48BA-8780-50E76859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80EF-41AD-4DE2-9D6A-2988A446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06CC-3815-4E33-BE59-8EAD36E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7D2-17E1-4B12-91F0-52F9BB3F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CE2F-4370-4C32-803E-1E1E426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9D6D-C78C-4CFA-A8C1-D2CF9651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A498-0A0C-4CEC-A9B1-07CCD0C6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E16B-AFC8-4CE8-BF8C-0DA6BB26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C800-D017-48B7-87EB-41BDF99D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2D7-8C25-4ADF-B173-BB631BC6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D58-884C-496B-B016-9C77A522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757-4120-4876-BF72-7325826A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199-0141-4356-A33B-BF11C9B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397-ACF1-4FA4-9B94-55AC1385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0F9-7510-4E04-A285-2B75ED4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363-18BD-4C1F-A0B3-7B1A7A40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9A4D-18B3-4933-BB3F-4B3CAE35B4DC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86CC-58E0-4447-8597-EB1E511F1EF0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usterresources.com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6633"/>
                </a:solidFill>
                <a:latin typeface="Garamond"/>
              </a:rPr>
              <a:t>Кластерні системи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аков О.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аралельні і розподілені обчислення” Лекці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Запуск програм і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перенаправлення вводу-вывод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523080" y="2924280"/>
            <a:ext cx="1395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итсу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9760" y="2978280"/>
            <a:ext cx="27320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а на віддален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ши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3770280"/>
            <a:ext cx="2160360" cy="1728720"/>
          </a:xfrm>
          <a:prstGeom prst="irregularSeal2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6720" y="451008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р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7" idx="2"/>
          </p:cNvCxnSpPr>
          <p:nvPr/>
        </p:nvCxnSpPr>
        <p:spPr>
          <a:xfrm rot="5400000">
            <a:off x="6293880" y="3164040"/>
            <a:ext cx="1058040" cy="1987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8" idx="1"/>
            <a:endCxn id="116" idx="2"/>
          </p:cNvCxnSpPr>
          <p:nvPr/>
        </p:nvCxnSpPr>
        <p:spPr>
          <a:xfrm rot="10800000">
            <a:off x="1220040" y="3574440"/>
            <a:ext cx="2559960" cy="1226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73080" y="477828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на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воду-выводу по мереж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H – secure sh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ерминальний досту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пуск програм на віддалених машин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Шифрування з відкрытым ключ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вторизац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ередача файл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ереадресація 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дна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H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ерв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лієнт-серверна платфор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ервер sshd  работает на тех машинах, к которым необходимо осуществлять досту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спользуется TCP/IP, TCP порт 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ерве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лушает необходимый порт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инимает соедин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Аутентифицирует и авторизует пользов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пускает команды пользов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 одному серверу может присоединяться множество кл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SH 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клиен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озволяє приєднатись до машини, де працює sshd і виконувати там команди користувач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4657680" cy="165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4657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ючі для авториз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Приватный ключ дозволяє розшифрувати дані, а публічний – зашифрува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Генерація пари ключі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Приватни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/home/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user&gt;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/.ssh/id_d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ублич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/home/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user&gt;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/.ssh/id_dsa.pu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До приватного ключа ніхто інший не повинен мати прав доступ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52801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вторизація ключ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ублічний ключ має  бути записаний на віддаленому вузлі у фай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/home/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&lt;user&gt;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/.ssh/authorized_ke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ісля цього можливий доступ без па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61070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Запуск команд на віддаленій машині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манда, яка запускается вказується як параметр s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тандартний ввід и стандартный вивід команды відповідає стандартному вводу-виводу ssh кли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клад: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виконується на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node2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wc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– на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61074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айлов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пільн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ані на вузлах зберіг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 вузли “бачать” однакові да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нфлікт при доступ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ручно, але пові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29:/mnt/home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/cluster/h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Локаль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ані на кожному вузлі сво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Швидко, але не зру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/mnt/work/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опіювання даних на класт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FTP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saa@s26 ~]$ scp root@amga.grid.org.ua:~/med*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23424" t="6213" r="19884" b="16904"/>
          <a:stretch/>
        </p:blipFill>
        <p:spPr>
          <a:xfrm>
            <a:off x="4751280" y="3716280"/>
            <a:ext cx="43927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истема розподілення навантаженн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да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аксимально ефективне використання ресурсів клас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аксимальна швидкість виконання розрахун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доволення потреб користувачів у необхідних ресурс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ам'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ісце на д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пеціальні ресурси (стример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ластери типу Beowu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бота на декількох вузл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ільн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 файлов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кетний реж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уск паралельних прогр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Збільшення ефективності використання ресурсі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кетний режи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увачі вказують необхід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увачі ставлять свої задачі в чер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ема виконує задачі в черзі в порядку пріорите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зподілення навантаж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пуск програм оптимальним (в плані швидкості) чи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нтроль використання ресурс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перевищенні лімітів задача завершується примусо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алізації систем пакетного режим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QS – network queuing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BS – portable batch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L – load lev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S -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Batch Queing 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COND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S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B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Агент менеджера ресурсів (pbs_mom) – machine oriented mini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ір інформації про завантаженість свого вуз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пуск програм на своєму вуз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упинка задач на своєму вуз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Сервер (pbs_serv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грегація інформації від аге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тримка че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пуск задач за допомогою агентів на заданих вуз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ланувальни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дача інформації серверу про оптимальний вибіл ресурсів для різн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5080" y="3284640"/>
            <a:ext cx="2519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29440" y="3500280"/>
            <a:ext cx="2519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41280" y="1700280"/>
            <a:ext cx="2227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3645000"/>
            <a:ext cx="2519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бочі вуз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еджера ресур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732720" y="2924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596360" y="2924280"/>
            <a:ext cx="287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4400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труктурна схема PB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700280"/>
            <a:ext cx="3266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бочий ву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залежний від ма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іни-серв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зада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бір інформації про ресур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9200" y="1773360"/>
            <a:ext cx="3266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бочий ву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залежний від ма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іни-серв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зада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бір інформації про ресур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4032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незалеж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я ч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ргегація інформ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пуск задач за допомогою аген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84280" y="4076640"/>
            <a:ext cx="33231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ува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залеж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нування виконання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отрим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тимальної ефектив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5013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835280" y="3284280"/>
            <a:ext cx="215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43280" y="3284280"/>
            <a:ext cx="32414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Агент менеджера ресурсів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Клієнт-серверна ідеологі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е з'єднатися до серверу і планувальнику для передачі інформ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лухає порт з можливістю з'єдн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еріодично передає серверу інформацію про завантаженість і заняті ресурс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Виконує вказівки сервера і планувальника по запуску і зупинці зад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813 ?        S     29:34 /usr/local/torque/sbin/pbs_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1866 ?        S      0:00  \_ -b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1867 ?        S      0:01      \_ pbs_dem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1920 ?        S      0:00      \_ /bin/bash -x /var/spool/torque/mom_priv/jobs/8097.cluste.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1940 ?        S      0:00          \_ mpirun -np 4 /usr/local/gromacs/i686-pc-linux-gnu/bin/mdrun_m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Інформація про ресурс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tate = f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np =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ntype =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jobs = 0/8054.cluster.univ.kiev.ua, 1/8054.cluster.univ.kiev.ua, 2/8092.cluster.univ.kiev.ua, 3/8092.cluster.univ.kiev.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tatus = arch=linux,uname=Linux ss20-6.univ.kiev.ua 2.4.29 #4 SMP Sat Mar 12 18:51:26 EET 2005 i686,sessions=11486 11485 13077 13179 13180,nsessions=5,nusers=1,idletime=75517,totmem=3137424kb,availmem=2764512kb,physmem=1032920kb,ncpus=4,loadave=2.81,gres=sse2:1+old:1+sse:1+ia32:1,netload=4091552988,size=12243388kb:16513960kb,state=free,rectime=11210933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tate = f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np =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ntype =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jobs = 0/8106.cluster.univ.kiev.ua, 1/8105.cluster.univ.kiev.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tatus = arch=linux,uname=Linux ss20-16.univ.kiev.ua 2.6.12 #2 SMP Sat Jun 25 11:53:19 EEST 2005 x86_64,sessions=2057 27304 27314 27315 14563 25193,nsessions=6,nusers=3,idletime=257369,totmem=4153400kb,availmem=3755768kb,physmem=2056928kb,ncpus=4,loadave=1.90,gres=new:1+ia32e:1+x86_64:1+sse2:1+sse3:1+sse2:1+sse:1+ia32:1,netload=344160256,size=18281492kb:30254032kb,state=free,rectime=11210933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tate = f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np = 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ntype =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jobs = 0/8054.cluster.univ.kiev.ua, 1/8054.cluster.univ.kiev.ua, 2/8092.cluster.univ.kiev.ua, 3/8092.cluster.univ.kiev.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tatus = arch=linux,uname=Linux ss20-17.univ.kiev.ua 2.4.29 #3 SMP Wed Feb 23 12:42:34 EET 2005 i686,sessions=14044 14043 17177 17178,nsessions=4,nusers=1,idletime=80182,totmem=5193984kb,availmem=4895448kb,physmem=1032504kb,ncpus=4,loadave=2.15,gres=sse2:1+old:1+sse:1+ia32:1,netload=1580948483,size=1097220kb:4128448kb,state=free,rectime=11210933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Сервер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рганізація чер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грегація використання ресур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рга (кла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кожну чергу попадають задачі с певними вимогами по ресурс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дачі з однаковими вимогами виконуються послідов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рвер вказує агентам, що запуск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ер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3610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# Create and define queue mono_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create queue mono_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mono_long queue_type = Exec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mono_long Priority =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mono_long max_running = 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mono_long resources_max.nodect =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mono_long resources_min.walltime = 36:0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mono_long resources_default.walltime = 72:0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mono_long max_user_run =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mono_long enabled =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mono_long started =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# Create and define queue stereo_sh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create queue stereo_sh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stereo_short queue_type = Exec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stereo_short Priority =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stereo_short resources_max.walltime = 64:0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stereo_short resources_min.nodect =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stereo_short max_user_run =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stereo_short enabled =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set queue stereo_short started = Tr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# Create and define queue stereo_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95280" y="1599840"/>
            <a:ext cx="51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server: cluster.univ.kiev.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Queue            Memory CPU Time Walltime Node Run Que Lm 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---------------- ------ -------- -------- ---- --- --- --  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mono_short         --      --    36:00:00    1   0   0 --   E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default            --      --       --     --    0   0 --   E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mono_long          --      --       --       1   4   0 23   E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stereo_short       --      --    64:00:00  --    0   0 --   E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stereo_long        --      --       --     --    3   1 --   E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alien              --      --       --     --    0   0 --   E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</a:t>
            </a: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---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1" lang="uk-UA" sz="1000" spc="-1" strike="noStrike">
                <a:solidFill>
                  <a:srgbClr val="000000"/>
                </a:solidFill>
                <a:latin typeface="Courier New"/>
              </a:rPr>
              <a:t>7 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анувальни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основі інформації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енеджера ресурс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имог користувач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меже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планувати виконання всіх задач з максимальною ефективніст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алізації планувальник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B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ходить в систем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U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йбільш розповсюджений кластерний планува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рганізація якості обслугову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іорите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тісне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значення обмеж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Літера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clusterresources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ценарій запуску (паспорт задачі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дача може бути запущена на будь-якому вузлі клас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Щоб все запустилось правильно користувач повинен вказати як запускати зад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Ім'я і шлях до прог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обхід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S надає користувачеві змінні середовищ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Імена машин на яких були запущені задач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Імена машин і каталог з яких була запущена 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мер запус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Сценарі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P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 $PBS_NODE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leep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Запус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qsub -lnodes=2:ppn=2 t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8115.cluster.univ.kiev.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Виконанн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[saa@cluster pbs]$ qst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Job id           Name             User             Time Use S Que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---------------- ---------------- ---------------- -------- - 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8054.cluster     dopc_ann_4       yesint           00:01:29 R stereo_l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8092.cluster     dopc_f2n8_ann    yesint           00:00:55 R stereo_l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8097.cluster     eEF1A2_n5        kanibolotsky     00:00:01 R stereo_l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8102.cluster     eEF1A2_n10       kanibolotsky            0 Q stereo_l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8103.cluster     ...01_restart-07 platon           47:06:22 R mono_l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8104.cluster     ...02_restart-07 platon           47:30:02 R mono_l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8105.cluster     ...04_restart-06 platon           47:19:13 R mono_l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8106.cluster     ...03_restart-06 platon           22:02:52 R mono_l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ourier New"/>
              </a:rPr>
              <a:t>8115.cluster     tst              saa              00:00:00 R stereo_sh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s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s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оманди роботи в пакетному режимі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уск зада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sub 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ценар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sub -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st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stat –q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stat –n1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сценар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ї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stat –f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на інформац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упинка зада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сурси задач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sub –l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есурси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lltime=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д:хв:се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=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узл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ppn=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sub –l nodes=3:ppn=4,walltime=12:0: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=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лежності м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ж задач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уск п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сля д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qsub -I -a `date -d '5 minutes' +%H%M`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W stagein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уд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ши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: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ля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-W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ageout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д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ши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: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ля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W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depend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yncwi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after,before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истемні змінн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дача в задач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sub –v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м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ння=значенн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sub –V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 змін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м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нні визначені системою пакетного режи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S_NODEFILE, PBS_O_WORKDIR, PBS_JOB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 $PBS_NODE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собливості системних зм</a:t>
            </a: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і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них на  кластері університет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loadmodule –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ис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loadmodule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вантажи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описати 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~/.bashr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в к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ц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кла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loadmodule -i openmpi-1.4.3-x86_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пуск паралельних прогр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казати ресурс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s:pp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і файли повинні бути на вс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 вузл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пільна файлова систем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бо скопіюв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користовувати вузли 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BS_NODE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це робиться автома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irun $PBS_O_WORKDIR/pr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445080" y="3284640"/>
            <a:ext cx="2519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9440" y="3500280"/>
            <a:ext cx="2519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Бази даних системної інформ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Вузол управління містить авторитетні копії баз даних системної інформ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писок користувачі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писок гру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Нова інформація додається і змінюється лише на вузлі управлі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Решта вузлі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При необхідності звертаються до бази дан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Можуть містити репліки головної бази дан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При будь-якому акті авторизації або аутенфік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Звертання ідуть до головного серве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Може виконуватися кеширування на локальних вузлах (NSC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27040" y="1700280"/>
            <a:ext cx="2227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S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8280" y="3645000"/>
            <a:ext cx="2120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сі інші вуз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S client (sla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client (sla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732720" y="2924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596360" y="2924280"/>
            <a:ext cx="287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24400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истема моніторинг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бочі вуз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генти збору інформ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узол колектора (вхідний або управлінн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грегація і аналіз інформ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стема вмикання-вимикання вузл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Кластери типу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owul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owulf -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оект 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ипу Beowu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мп'ютер широкого використ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поділений образ операційної систе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Централізована мод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етерогені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ANGL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41240" y="888840"/>
            <a:ext cx="736920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х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00000" y="1628640"/>
          <a:ext cx="745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45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узли класте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Робочі вузли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(worker node)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нання розраху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Збереження даних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(storage nod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ереження доступних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Вузли управлін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(management node)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грамне забезпечення для адміністрування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ази даних системної інформації  (NIS master, LDAP 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Вузли доступу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(login nod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хід користувачів з Інтерн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Вузли розподілу навантаження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(workload management node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вер і планувальщик системи управління навантаженн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унік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режа швидкого обміну да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режа монітори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обота вузлів в кластер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бота кластера як однієї системи визначається програмним забезпеченн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узли кластера повинні “довіряти” один одн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ожливість запускати програми на різних вузлах  кластеру без введення паро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Файли даних повинні бути доступними всім вузл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дель програму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бмін повідомленнями  (MPI, PV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пільна пам'я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 багатопроцесорних вузл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и наявності відповідної мережі (SCI, QSN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мбін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хідні вузл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хідний вуз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рандмауэ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аршрутизатор для вузлів класт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эшуючий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пуск програм на робочих вузл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нтерфейс системи моніторин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асто користувачі не мають прямого доступу ні на які вузли, окрім вхід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5080" y="3813120"/>
            <a:ext cx="2448000" cy="8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9440" y="4029120"/>
            <a:ext cx="2519280" cy="8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1916280"/>
            <a:ext cx="1944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хідний ву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андмау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шрути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8640" y="4173480"/>
            <a:ext cx="2251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бочі вуз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конання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32720" y="345276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596360" y="34524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44000" y="3452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667640" y="126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50520" y="90792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І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пуск програм на кластер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ля запуску на будь-якому вузлі клас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Ssh, r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генти системи розподілення навантаж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пуск паралельних прогр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Ssh або rsh для запуску відповідного процесу на віддаленій маши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7:26:29Z</dcterms:created>
  <dc:creator>saa</dc:creator>
  <dc:description/>
  <dc:language>en-US</dc:language>
  <cp:lastModifiedBy>saa</cp:lastModifiedBy>
  <dcterms:modified xsi:type="dcterms:W3CDTF">2013-10-28T09:14:19Z</dcterms:modified>
  <cp:revision>23</cp:revision>
  <dc:subject/>
  <dc:title>Слайд 1</dc:title>
</cp:coreProperties>
</file>