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D4704C-541E-4B15-A5E5-77EC94A712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6433A1-1C90-493A-8359-0F50E2A6AC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EB0F04-EDC2-4C31-BA26-8C8781613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11D459-83EE-4513-B7CA-217F73B79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54574-EA4E-40F8-9A43-77D5FEC849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676B8-E0D4-4ED8-8CA6-B3D4057E7C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8D77B-8A8E-4C1A-9BE0-8D3EC0791C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DCFA0-8094-4934-AF50-8E741E53B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8EAAC5-0FF1-4A86-B7A3-0EBFC2D2FA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12B4F0-B52F-452B-B5CC-14F48BFB2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590974-6B5C-4885-8795-F361D79F26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D7E6D-6348-4D5E-AED2-33F199A7E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333A5-5817-48FB-98FF-1EC6181BD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CE9467-08CF-4630-86D8-73D474A6F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D726BD-EC38-4280-BAA5-1822FB5A5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1A3171-0CDA-4A15-84D5-20929A647E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6CA72-5C59-49E6-A872-6EC45AA9E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824FD-56AC-444A-BB8C-7E0E43DDD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E46EF-EC1C-4052-9B59-299C5FF4C1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147E79-0162-49BA-AAE6-19B2412ED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911F70-3C36-47A5-96EE-08525B360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3CDC6-CEA2-4CBA-A637-905FFA5F0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D4D8EF-0E22-45C2-B19C-1F6EA1256C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4c3aa"/>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1A4B6-D727-4039-A434-150B32476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flipH="1" flipV="1">
                          <a:off x="11520" y="261396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flipH="1" flipV="1">
                          <a:off x="25920" y="222696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flipH="1" flipV="1">
                          <a:off x="25200" y="174096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flipH="1" flipV="1">
                          <a:off x="40320" y="117108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flipH="1" flipV="1">
                          <a:off x="1109880" y="76932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flipH="1" flipV="1">
                          <a:off x="27000" y="297612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flipH="1" flipV="1">
                          <a:off x="23040" y="328680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flipH="1">
                          <a:off x="669960" y="474480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flipH="1" flipV="1">
                          <a:off x="203760" y="452520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flipH="1" flipV="1">
                          <a:off x="26640" y="382104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flipH="1">
                          <a:off x="1557360" y="482112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flipH="1">
                          <a:off x="1686240" y="483192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flipH="1">
                          <a:off x="1805760" y="483264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flipH="1">
                          <a:off x="1935000" y="483768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flipH="1">
                          <a:off x="2082960" y="484812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flipH="1">
                          <a:off x="2230920" y="485172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flipH="1">
                          <a:off x="2595240" y="487188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615400" y="487548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2633040" y="488520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653560" y="488664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2673720" y="488664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684880" y="488556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2709720" y="489168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2726640" y="488412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749320" y="487980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2760840" y="486468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2766960" y="485172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2779200" y="484128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2785320" y="482436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2786400" y="480744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2789280" y="478980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2780280" y="474624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flipV="1">
                          <a:off x="2741400" y="379872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flipV="1">
                          <a:off x="2728800" y="327996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 name=""/>
                          <p:cNvSpPr/>
                          <p:nvPr/>
                        </p:nvSpPr>
                        <p:spPr>
                          <a:xfrm rot="18780000">
                            <a:off x="2382120" y="429228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 name=""/>
                          <p:cNvSpPr/>
                          <p:nvPr/>
                        </p:nvSpPr>
                        <p:spPr>
                          <a:xfrm rot="18780000">
                            <a:off x="2262960" y="399528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rot="18780000">
                            <a:off x="2170800" y="373644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 name=""/>
                          <p:cNvSpPr/>
                          <p:nvPr/>
                        </p:nvSpPr>
                        <p:spPr>
                          <a:xfrm rot="18780000">
                            <a:off x="2071800" y="342036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5" name=""/>
                          <p:cNvSpPr/>
                          <p:nvPr/>
                        </p:nvSpPr>
                        <p:spPr>
                          <a:xfrm rot="18780000">
                            <a:off x="1981080" y="316584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 name=""/>
                          <p:cNvSpPr/>
                          <p:nvPr/>
                        </p:nvSpPr>
                        <p:spPr>
                          <a:xfrm rot="18780000">
                            <a:off x="1850760" y="289188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 name=""/>
                          <p:cNvSpPr/>
                          <p:nvPr/>
                        </p:nvSpPr>
                        <p:spPr>
                          <a:xfrm rot="18780000">
                            <a:off x="1738800" y="262260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 name=""/>
                          <p:cNvSpPr/>
                          <p:nvPr/>
                        </p:nvSpPr>
                        <p:spPr>
                          <a:xfrm rot="18780000">
                            <a:off x="1602000" y="236880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rot="18780000">
                            <a:off x="1498680" y="208476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 name=""/>
                          <p:cNvSpPr/>
                          <p:nvPr/>
                        </p:nvSpPr>
                        <p:spPr>
                          <a:xfrm rot="18734400">
                            <a:off x="1408320" y="181224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1" name=""/>
                          <p:cNvSpPr/>
                          <p:nvPr/>
                        </p:nvSpPr>
                        <p:spPr>
                          <a:xfrm rot="18819600">
                            <a:off x="1313280" y="152136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2" name=""/>
                        <p:cNvSpPr/>
                        <p:nvPr/>
                      </p:nvSpPr>
                      <p:spPr>
                        <a:xfrm flipV="1">
                          <a:off x="2654280" y="178092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flipV="1">
                          <a:off x="2666520" y="213300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flipV="1">
                          <a:off x="2668320" y="193608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flipV="1">
                          <a:off x="2676960" y="229320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flipV="1">
                          <a:off x="2683800" y="246852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flipV="1">
                          <a:off x="2703960" y="288504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flipV="1">
                          <a:off x="2716920" y="309600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flipV="1">
                          <a:off x="2737800" y="355716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flipV="1">
                          <a:off x="2750040" y="404424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flipV="1">
                          <a:off x="2754720" y="437760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flipV="1">
                          <a:off x="2752920" y="470376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3" name=""/>
                        <p:cNvSpPr/>
                        <p:nvPr/>
                      </p:nvSpPr>
                      <p:spPr>
                        <a:xfrm>
                          <a:off x="2769840" y="472464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787840" y="476856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flipH="1">
                          <a:off x="2415240" y="486252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flipH="1">
                          <a:off x="1447920" y="480960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flipH="1">
                          <a:off x="1337040" y="479772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flipH="1">
                          <a:off x="1218960" y="478944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flipH="1">
                          <a:off x="1115640" y="477864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flipH="1">
                          <a:off x="1009440" y="477144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flipH="1">
                          <a:off x="897480" y="476136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flipH="1">
                          <a:off x="783000" y="475200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flipH="1">
                          <a:off x="566280" y="473364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flipH="1">
                          <a:off x="443520" y="472392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flipH="1">
                          <a:off x="317880" y="471096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 name=""/>
                        <p:cNvSpPr/>
                        <p:nvPr/>
                      </p:nvSpPr>
                      <p:spPr>
                        <a:xfrm flipH="1" flipV="1">
                          <a:off x="65880" y="429768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flipH="1" flipV="1">
                          <a:off x="25560" y="406296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flipH="1" flipV="1">
                          <a:off x="23760" y="355932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flipH="1" flipV="1">
                          <a:off x="362880" y="97200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flipH="1" flipV="1">
                          <a:off x="722880" y="83232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flipH="1" flipV="1">
                          <a:off x="1506240" y="78732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flipH="1" flipV="1">
                          <a:off x="1857240" y="83916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flipV="1">
                          <a:off x="2576880" y="104292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flipV="1">
                          <a:off x="2597400" y="116748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flipV="1">
                          <a:off x="2608920" y="131112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flipV="1">
                          <a:off x="2622240" y="146160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flipV="1">
                          <a:off x="2635920" y="162648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flipH="1" flipV="1">
                  <a:off x="1405440" y="605160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flipH="1">
                    <a:off x="1996560" y="665028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flipH="1" flipV="1">
                    <a:off x="564120" y="575640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flipH="1" flipV="1">
                    <a:off x="401040" y="485640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flipH="1" flipV="1">
                    <a:off x="28080" y="471024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110520" y="485604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flipH="1">
                    <a:off x="558000" y="545148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flipV="1">
                    <a:off x="29520" y="427968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rot="19111200">
                <a:off x="3156120" y="304596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5" name=""/>
              <p:cNvSpPr/>
              <p:nvPr/>
            </p:nvSpPr>
            <p:spPr>
              <a:xfrm rot="16512000">
                <a:off x="3117600" y="414828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6" name=""/>
              <p:cNvSpPr/>
              <p:nvPr/>
            </p:nvSpPr>
            <p:spPr>
              <a:xfrm rot="18182400">
                <a:off x="1616760" y="427716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17" name=""/>
              <p:cNvSpPr/>
              <p:nvPr/>
            </p:nvSpPr>
            <p:spPr>
              <a:xfrm rot="20763600">
                <a:off x="1091880" y="277452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59AB0-64B4-4CAA-958B-DADC39F7CD67}"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Click to edit the title text format</a:t>
            </a:r>
            <a:endParaRPr b="0" lang="en-US" sz="4400" spc="-1" strike="noStrike">
              <a:solidFill>
                <a:srgbClr val="c4c3a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grpSp>
        <p:nvGrpSpPr>
          <p:cNvPr id="165" name=""/>
          <p:cNvGrpSpPr/>
          <p:nvPr/>
        </p:nvGrpSpPr>
        <p:grpSpPr>
          <a:xfrm>
            <a:off x="-315360" y="798480"/>
            <a:ext cx="7085520" cy="6863040"/>
            <a:chOff x="-315360" y="798480"/>
            <a:chExt cx="7085520" cy="6863040"/>
          </a:xfrm>
        </p:grpSpPr>
        <p:grpSp>
          <p:nvGrpSpPr>
            <p:cNvPr id="166" name=""/>
            <p:cNvGrpSpPr/>
            <p:nvPr/>
          </p:nvGrpSpPr>
          <p:grpSpPr>
            <a:xfrm>
              <a:off x="-315360" y="798480"/>
              <a:ext cx="7085520" cy="6863040"/>
              <a:chOff x="-315360" y="798480"/>
              <a:chExt cx="7085520" cy="6863040"/>
            </a:xfrm>
          </p:grpSpPr>
          <p:grpSp>
            <p:nvGrpSpPr>
              <p:cNvPr id="167" name=""/>
              <p:cNvGrpSpPr/>
              <p:nvPr/>
            </p:nvGrpSpPr>
            <p:grpSpPr>
              <a:xfrm>
                <a:off x="-315360" y="798480"/>
                <a:ext cx="7085520" cy="6863040"/>
                <a:chOff x="-315360" y="798480"/>
                <a:chExt cx="7085520" cy="6863040"/>
              </a:xfrm>
            </p:grpSpPr>
            <p:sp>
              <p:nvSpPr>
                <p:cNvPr id="168" name=""/>
                <p:cNvSpPr/>
                <p:nvPr/>
              </p:nvSpPr>
              <p:spPr>
                <a:xfrm>
                  <a:off x="363240" y="193968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9" name=""/>
                <p:cNvGrpSpPr/>
                <p:nvPr/>
              </p:nvGrpSpPr>
              <p:grpSpPr>
                <a:xfrm>
                  <a:off x="-315360" y="798480"/>
                  <a:ext cx="7085520" cy="6863040"/>
                  <a:chOff x="-315360" y="798480"/>
                  <a:chExt cx="7085520" cy="6863040"/>
                </a:xfrm>
              </p:grpSpPr>
              <p:sp>
                <p:nvSpPr>
                  <p:cNvPr id="170" name=""/>
                  <p:cNvSpPr/>
                  <p:nvPr/>
                </p:nvSpPr>
                <p:spPr>
                  <a:xfrm>
                    <a:off x="1440" y="126360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10800" y="148248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82520" y="170172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315360" y="798480"/>
                    <a:ext cx="7085520" cy="6863040"/>
                    <a:chOff x="-315360" y="798480"/>
                    <a:chExt cx="7085520" cy="6863040"/>
                  </a:xfrm>
                </p:grpSpPr>
                <p:sp>
                  <p:nvSpPr>
                    <p:cNvPr id="174" name=""/>
                    <p:cNvSpPr/>
                    <p:nvPr/>
                  </p:nvSpPr>
                  <p:spPr>
                    <a:xfrm>
                      <a:off x="1440" y="79848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15360" y="805680"/>
                      <a:ext cx="7075800" cy="6855840"/>
                      <a:chOff x="-315360" y="805680"/>
                      <a:chExt cx="7075800" cy="6855840"/>
                    </a:xfrm>
                  </p:grpSpPr>
                  <p:sp>
                    <p:nvSpPr>
                      <p:cNvPr id="176" name=""/>
                      <p:cNvSpPr/>
                      <p:nvPr/>
                    </p:nvSpPr>
                    <p:spPr>
                      <a:xfrm>
                        <a:off x="1440" y="101592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7" name=""/>
                      <p:cNvGrpSpPr/>
                      <p:nvPr/>
                    </p:nvGrpSpPr>
                    <p:grpSpPr>
                      <a:xfrm>
                        <a:off x="-315360" y="805680"/>
                        <a:ext cx="7075800" cy="6855840"/>
                        <a:chOff x="-315360" y="805680"/>
                        <a:chExt cx="7075800" cy="6855840"/>
                      </a:xfrm>
                    </p:grpSpPr>
                    <p:sp>
                      <p:nvSpPr>
                        <p:cNvPr id="178" name=""/>
                        <p:cNvSpPr/>
                        <p:nvPr/>
                      </p:nvSpPr>
                      <p:spPr>
                        <a:xfrm flipH="1" flipV="1">
                          <a:off x="2218320" y="968400"/>
                          <a:ext cx="318960" cy="3602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flipH="1" flipV="1">
                          <a:off x="-12240" y="2650320"/>
                          <a:ext cx="2410560" cy="19620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flipH="1" flipV="1">
                          <a:off x="2160" y="2263320"/>
                          <a:ext cx="2404080" cy="233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flipH="1" flipV="1">
                          <a:off x="1440" y="1777320"/>
                          <a:ext cx="2414880" cy="2813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H="1" flipV="1">
                          <a:off x="16560" y="1207440"/>
                          <a:ext cx="2404800" cy="3370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flipH="1" flipV="1">
                          <a:off x="1086120" y="805680"/>
                          <a:ext cx="1399320" cy="3764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flipH="1" flipV="1">
                          <a:off x="3240" y="3012480"/>
                          <a:ext cx="2387160" cy="16167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flipH="1" flipV="1">
                          <a:off x="-720" y="3323160"/>
                          <a:ext cx="2388960" cy="1322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flipH="1">
                          <a:off x="646200" y="4781160"/>
                          <a:ext cx="1787400" cy="492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flipH="1" flipV="1">
                          <a:off x="180000" y="4561560"/>
                          <a:ext cx="2232000" cy="179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flipH="1" flipV="1">
                          <a:off x="2880" y="3857400"/>
                          <a:ext cx="2391840" cy="830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flipH="1">
                          <a:off x="1533600" y="4857480"/>
                          <a:ext cx="972720" cy="135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flipH="1">
                          <a:off x="1662480" y="4868280"/>
                          <a:ext cx="853920" cy="1448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flipH="1">
                          <a:off x="1782000" y="4869000"/>
                          <a:ext cx="739080" cy="1550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H="1">
                          <a:off x="1911240" y="4874040"/>
                          <a:ext cx="617040" cy="165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flipH="1">
                          <a:off x="2059200" y="4884480"/>
                          <a:ext cx="479880" cy="1765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flipH="1">
                          <a:off x="2207160" y="4888080"/>
                          <a:ext cx="339480" cy="1874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flipH="1">
                          <a:off x="2571480" y="4908240"/>
                          <a:ext cx="4680" cy="1926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591640" y="4911840"/>
                          <a:ext cx="170280" cy="19220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609280" y="4921560"/>
                          <a:ext cx="331920" cy="1896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629800" y="4923000"/>
                          <a:ext cx="513360" cy="1906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649960" y="4923000"/>
                          <a:ext cx="694080" cy="1907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661120" y="4921920"/>
                          <a:ext cx="893520" cy="1891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685960" y="4928040"/>
                          <a:ext cx="1103040" cy="1892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702880" y="4920480"/>
                          <a:ext cx="1348200" cy="1911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725560" y="4916160"/>
                          <a:ext cx="1623960" cy="1913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2737080" y="4901040"/>
                          <a:ext cx="19432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2743200" y="4888080"/>
                          <a:ext cx="2359800" cy="193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2755440" y="4877640"/>
                          <a:ext cx="2860560" cy="19508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
                        <p:cNvSpPr/>
                        <p:nvPr/>
                      </p:nvSpPr>
                      <p:spPr>
                        <a:xfrm>
                          <a:off x="2761560" y="4860720"/>
                          <a:ext cx="3499560" cy="196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
                        <p:cNvSpPr/>
                        <p:nvPr/>
                      </p:nvSpPr>
                      <p:spPr>
                        <a:xfrm>
                          <a:off x="2762640" y="4843800"/>
                          <a:ext cx="3958200" cy="1785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
                        <p:cNvSpPr/>
                        <p:nvPr/>
                      </p:nvSpPr>
                      <p:spPr>
                        <a:xfrm>
                          <a:off x="2765520" y="4826160"/>
                          <a:ext cx="3994920" cy="139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a:off x="2756520" y="4782600"/>
                          <a:ext cx="3909960" cy="6591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
                        <p:cNvSpPr/>
                        <p:nvPr/>
                      </p:nvSpPr>
                      <p:spPr>
                        <a:xfrm flipV="1">
                          <a:off x="2717640" y="3835080"/>
                          <a:ext cx="3219480" cy="88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2705040" y="3316320"/>
                          <a:ext cx="2922120" cy="1375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1440" y="401472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4d4f45"/>
                        </a:solidFill>
                        <a:ln w="936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4" name=""/>
                        <p:cNvGrpSpPr/>
                        <p:nvPr/>
                      </p:nvGrpSpPr>
                      <p:grpSpPr>
                        <a:xfrm>
                          <a:off x="-315360" y="1283760"/>
                          <a:ext cx="6462720" cy="6377760"/>
                          <a:chOff x="-315360" y="1283760"/>
                          <a:chExt cx="6462720" cy="6377760"/>
                        </a:xfrm>
                      </p:grpSpPr>
                      <p:sp>
                        <p:nvSpPr>
                          <p:cNvPr id="215" name=""/>
                          <p:cNvSpPr/>
                          <p:nvPr/>
                        </p:nvSpPr>
                        <p:spPr>
                          <a:xfrm rot="18780000">
                            <a:off x="2444760" y="4521960"/>
                            <a:ext cx="255600" cy="444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6" name=""/>
                          <p:cNvSpPr/>
                          <p:nvPr/>
                        </p:nvSpPr>
                        <p:spPr>
                          <a:xfrm rot="18780000">
                            <a:off x="2358360" y="4328640"/>
                            <a:ext cx="446040" cy="798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7" name=""/>
                          <p:cNvSpPr/>
                          <p:nvPr/>
                        </p:nvSpPr>
                        <p:spPr>
                          <a:xfrm rot="18780000">
                            <a:off x="2239200" y="4031640"/>
                            <a:ext cx="747720" cy="12902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8" name=""/>
                          <p:cNvSpPr/>
                          <p:nvPr/>
                        </p:nvSpPr>
                        <p:spPr>
                          <a:xfrm rot="18780000">
                            <a:off x="2147040" y="3772800"/>
                            <a:ext cx="988920" cy="17920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rot="18780000">
                            <a:off x="2048040" y="3456720"/>
                            <a:ext cx="1247760" cy="23284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rot="18780000">
                            <a:off x="1957320" y="3202200"/>
                            <a:ext cx="1543320" cy="28238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rot="18780000">
                            <a:off x="1827000" y="2928240"/>
                            <a:ext cx="1852560" cy="33235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2" name=""/>
                          <p:cNvSpPr/>
                          <p:nvPr/>
                        </p:nvSpPr>
                        <p:spPr>
                          <a:xfrm rot="18780000">
                            <a:off x="1715040" y="2658960"/>
                            <a:ext cx="2136960" cy="3806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rot="18780000">
                            <a:off x="1578240" y="2405160"/>
                            <a:ext cx="2481480" cy="427968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rot="18780000">
                            <a:off x="1474920" y="2121120"/>
                            <a:ext cx="2716200" cy="478764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rot="18734400">
                            <a:off x="1384560" y="1848600"/>
                            <a:ext cx="2984400" cy="531000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rot="18819600">
                            <a:off x="1289520" y="1557720"/>
                            <a:ext cx="3252960" cy="5829120"/>
                          </a:xfrm>
                          <a:prstGeom prst="ellipse">
                            <a:avLst/>
                          </a:prstGeom>
                          <a:noFill/>
                          <a:ln w="9360">
                            <a:solidFill>
                              <a:srgbClr val="4d4f45"/>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27" name=""/>
                        <p:cNvSpPr/>
                        <p:nvPr/>
                      </p:nvSpPr>
                      <p:spPr>
                        <a:xfrm flipV="1">
                          <a:off x="2630520" y="1817280"/>
                          <a:ext cx="1318680" cy="2809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flipV="1">
                          <a:off x="2642760" y="2169360"/>
                          <a:ext cx="1767600" cy="24642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flipV="1">
                          <a:off x="2644560" y="1972440"/>
                          <a:ext cx="1554120" cy="2647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flipV="1">
                          <a:off x="2653200" y="2329560"/>
                          <a:ext cx="1976760" cy="2312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flipV="1">
                          <a:off x="2660040" y="2504880"/>
                          <a:ext cx="2215080" cy="21448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flipV="1">
                          <a:off x="2680200" y="2921400"/>
                          <a:ext cx="2536920" cy="1747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flipV="1">
                          <a:off x="2693160" y="3132360"/>
                          <a:ext cx="2707560" cy="15472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flipV="1">
                          <a:off x="2714040" y="3593520"/>
                          <a:ext cx="3031200" cy="1114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flipV="1">
                          <a:off x="2726280" y="4080600"/>
                          <a:ext cx="3373200" cy="645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flipV="1">
                          <a:off x="2730960" y="4413960"/>
                          <a:ext cx="3548160" cy="3175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flipV="1">
                          <a:off x="2729160" y="4740120"/>
                          <a:ext cx="3704040" cy="2520"/>
                        </a:xfrm>
                        <a:prstGeom prst="line">
                          <a:avLst/>
                        </a:prstGeom>
                        <a:ln w="9360">
                          <a:solidFill>
                            <a:srgbClr val="4d4f45"/>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238" name=""/>
                        <p:cNvSpPr/>
                        <p:nvPr/>
                      </p:nvSpPr>
                      <p:spPr>
                        <a:xfrm>
                          <a:off x="2746080" y="4761000"/>
                          <a:ext cx="3829320" cy="3164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2764080" y="4804920"/>
                          <a:ext cx="3989880" cy="10155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flipH="1">
                          <a:off x="2391480" y="4898880"/>
                          <a:ext cx="172080" cy="1921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flipH="1">
                          <a:off x="1424160" y="4845960"/>
                          <a:ext cx="1061640" cy="1255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flipH="1">
                          <a:off x="1313280" y="4834080"/>
                          <a:ext cx="1163160" cy="1161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flipH="1">
                          <a:off x="1195200" y="4825800"/>
                          <a:ext cx="1275480" cy="10681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flipH="1">
                          <a:off x="1091880" y="4815000"/>
                          <a:ext cx="1371600" cy="966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flipH="1">
                          <a:off x="985680" y="4807800"/>
                          <a:ext cx="1464120" cy="858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flipH="1">
                          <a:off x="873720" y="4797720"/>
                          <a:ext cx="1573200" cy="742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flipH="1">
                          <a:off x="759240" y="4788360"/>
                          <a:ext cx="1680840" cy="6206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flipH="1">
                          <a:off x="542520" y="4770000"/>
                          <a:ext cx="1885320" cy="348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flipH="1">
                          <a:off x="419760" y="4760280"/>
                          <a:ext cx="2001240" cy="1879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flipH="1">
                          <a:off x="294120" y="4747320"/>
                          <a:ext cx="2119320" cy="17640"/>
                        </a:xfrm>
                        <a:prstGeom prst="line">
                          <a:avLst/>
                        </a:prstGeom>
                        <a:ln w="9360">
                          <a:solidFill>
                            <a:srgbClr val="4d4f45"/>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251" name=""/>
                        <p:cNvSpPr/>
                        <p:nvPr/>
                      </p:nvSpPr>
                      <p:spPr>
                        <a:xfrm flipH="1" flipV="1">
                          <a:off x="42120" y="4334040"/>
                          <a:ext cx="2364120" cy="391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flipH="1" flipV="1">
                          <a:off x="1800" y="4099320"/>
                          <a:ext cx="2397240" cy="606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flipH="1" flipV="1">
                          <a:off x="0" y="3595680"/>
                          <a:ext cx="2390040" cy="10774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flipH="1" flipV="1">
                          <a:off x="339120" y="1008360"/>
                          <a:ext cx="2095200" cy="35643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flipH="1" flipV="1">
                          <a:off x="699120" y="868680"/>
                          <a:ext cx="1756080" cy="370296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flipH="1" flipV="1">
                          <a:off x="1482480" y="823680"/>
                          <a:ext cx="1018800" cy="37404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flipH="1" flipV="1">
                          <a:off x="1833480" y="875520"/>
                          <a:ext cx="685800" cy="369324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flipV="1">
                          <a:off x="2553120" y="1079280"/>
                          <a:ext cx="4320" cy="3493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flipV="1">
                          <a:off x="2573640" y="1203840"/>
                          <a:ext cx="304560" cy="337932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flipV="1">
                          <a:off x="2585160" y="1347480"/>
                          <a:ext cx="585720" cy="32446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flipV="1">
                          <a:off x="2598480" y="1497960"/>
                          <a:ext cx="846000" cy="310608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flipV="1">
                          <a:off x="2612160" y="1662840"/>
                          <a:ext cx="1095120" cy="29448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grpSp>
          <p:grpSp>
            <p:nvGrpSpPr>
              <p:cNvPr id="263" name=""/>
              <p:cNvGrpSpPr/>
              <p:nvPr/>
            </p:nvGrpSpPr>
            <p:grpSpPr>
              <a:xfrm>
                <a:off x="4320" y="2715480"/>
                <a:ext cx="5018040" cy="4112280"/>
                <a:chOff x="4320" y="2715480"/>
                <a:chExt cx="5018040" cy="4112280"/>
              </a:xfrm>
            </p:grpSpPr>
            <p:sp>
              <p:nvSpPr>
                <p:cNvPr id="264" name=""/>
                <p:cNvSpPr/>
                <p:nvPr/>
              </p:nvSpPr>
              <p:spPr>
                <a:xfrm flipV="1">
                  <a:off x="2672280" y="2715480"/>
                  <a:ext cx="2350080" cy="1947600"/>
                </a:xfrm>
                <a:prstGeom prst="line">
                  <a:avLst/>
                </a:prstGeom>
                <a:ln w="936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flipH="1" flipV="1">
                  <a:off x="1381680" y="6087960"/>
                  <a:ext cx="353880" cy="7351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66" name=""/>
                <p:cNvGrpSpPr/>
                <p:nvPr/>
              </p:nvGrpSpPr>
              <p:grpSpPr>
                <a:xfrm>
                  <a:off x="4320" y="4316040"/>
                  <a:ext cx="2090160" cy="2511720"/>
                  <a:chOff x="4320" y="4316040"/>
                  <a:chExt cx="2090160" cy="2511720"/>
                </a:xfrm>
              </p:grpSpPr>
              <p:sp>
                <p:nvSpPr>
                  <p:cNvPr id="267" name=""/>
                  <p:cNvSpPr/>
                  <p:nvPr/>
                </p:nvSpPr>
                <p:spPr>
                  <a:xfrm flipH="1">
                    <a:off x="1107360" y="6089400"/>
                    <a:ext cx="273960" cy="297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4680" y="507816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4d4f45"/>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flipH="1">
                    <a:off x="1972800" y="6686640"/>
                    <a:ext cx="121680" cy="13968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flipH="1" flipV="1">
                    <a:off x="540360" y="5792760"/>
                    <a:ext cx="844200" cy="2937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flipH="1" flipV="1">
                    <a:off x="377280" y="4892760"/>
                    <a:ext cx="159840" cy="9000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flipH="1" flipV="1">
                    <a:off x="4320" y="4746600"/>
                    <a:ext cx="372600" cy="14616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flipV="1">
                    <a:off x="86760" y="4892400"/>
                    <a:ext cx="288720" cy="30780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flipH="1">
                    <a:off x="534240" y="5487840"/>
                    <a:ext cx="279000" cy="304920"/>
                  </a:xfrm>
                  <a:prstGeom prst="line">
                    <a:avLst/>
                  </a:prstGeom>
                  <a:ln w="19080">
                    <a:solidFill>
                      <a:srgbClr val="4d4f45"/>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flipV="1">
                    <a:off x="5760" y="4316040"/>
                    <a:ext cx="21960" cy="36360"/>
                  </a:xfrm>
                  <a:prstGeom prst="line">
                    <a:avLst/>
                  </a:prstGeom>
                  <a:ln w="19080">
                    <a:solidFill>
                      <a:srgbClr val="4d4f45"/>
                    </a:solidFill>
                    <a:miter/>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pSp>
          </p:grpSp>
        </p:grpSp>
        <p:grpSp>
          <p:nvGrpSpPr>
            <p:cNvPr id="276" name=""/>
            <p:cNvGrpSpPr/>
            <p:nvPr/>
          </p:nvGrpSpPr>
          <p:grpSpPr>
            <a:xfrm>
              <a:off x="1800" y="2141280"/>
              <a:ext cx="5221080" cy="4680000"/>
              <a:chOff x="1800" y="2141280"/>
              <a:chExt cx="5221080" cy="4680000"/>
            </a:xfrm>
          </p:grpSpPr>
          <p:sp>
            <p:nvSpPr>
              <p:cNvPr id="277" name=""/>
              <p:cNvSpPr/>
              <p:nvPr/>
            </p:nvSpPr>
            <p:spPr>
              <a:xfrm>
                <a:off x="1800" y="425268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1800" y="362412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4d4f45"/>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rot="19111200">
                <a:off x="3132360" y="3082320"/>
                <a:ext cx="21477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0" name=""/>
              <p:cNvSpPr/>
              <p:nvPr/>
            </p:nvSpPr>
            <p:spPr>
              <a:xfrm rot="16512000">
                <a:off x="3093840" y="4184640"/>
                <a:ext cx="351936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1" name=""/>
              <p:cNvSpPr/>
              <p:nvPr/>
            </p:nvSpPr>
            <p:spPr>
              <a:xfrm rot="18182400">
                <a:off x="1593000" y="4313520"/>
                <a:ext cx="42512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282" name=""/>
              <p:cNvSpPr/>
              <p:nvPr/>
            </p:nvSpPr>
            <p:spPr>
              <a:xfrm rot="20763600">
                <a:off x="1068120" y="2810880"/>
                <a:ext cx="3794040" cy="27000"/>
              </a:xfrm>
              <a:prstGeom prst="rect">
                <a:avLst/>
              </a:prstGeom>
              <a:solidFill>
                <a:srgbClr val="4d4f45"/>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grpSp>
            <p:nvGrpSpPr>
              <p:cNvPr id="283" name=""/>
              <p:cNvGrpSpPr/>
              <p:nvPr/>
            </p:nvGrpSpPr>
            <p:grpSpPr>
              <a:xfrm>
                <a:off x="4728240" y="2141280"/>
                <a:ext cx="494640" cy="493560"/>
                <a:chOff x="4728240" y="2141280"/>
                <a:chExt cx="494640" cy="493560"/>
              </a:xfrm>
            </p:grpSpPr>
            <p:sp>
              <p:nvSpPr>
                <p:cNvPr id="284" name=""/>
                <p:cNvSpPr/>
                <p:nvPr/>
              </p:nvSpPr>
              <p:spPr>
                <a:xfrm rot="2828400">
                  <a:off x="4743720" y="2367720"/>
                  <a:ext cx="315720" cy="180000"/>
                </a:xfrm>
                <a:prstGeom prst="ellipse">
                  <a:avLst/>
                </a:prstGeom>
                <a:gradFill rotWithShape="0">
                  <a:gsLst>
                    <a:gs pos="0">
                      <a:srgbClr val="4d4f45"/>
                    </a:gs>
                    <a:gs pos="100000">
                      <a:srgbClr val="67696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843080" y="226332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4925880" y="225324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991040" y="214884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134320" y="214128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4d4f45"/>
                    </a:gs>
                    <a:gs pos="100000">
                      <a:srgbClr val="676961"/>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ffffff"/>
                    </a:solidFill>
                    <a:latin typeface="Arial"/>
                  </a:endParaRPr>
                </a:p>
              </p:txBody>
            </p:sp>
          </p:grpSp>
        </p:grpSp>
      </p:grpSp>
      <p:sp>
        <p:nvSpPr>
          <p:cNvPr id="289"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100" spc="-1" strike="noStrike">
                <a:solidFill>
                  <a:srgbClr val="c4c3aa"/>
                </a:solidFill>
                <a:latin typeface="Arial"/>
              </a:rPr>
              <a:t>Click to edit the title text format</a:t>
            </a:r>
            <a:endParaRPr b="0" lang="en-US" sz="5100" spc="-1" strike="noStrike">
              <a:solidFill>
                <a:srgbClr val="c4c3aa"/>
              </a:solidFill>
              <a:latin typeface="Arial"/>
            </a:endParaRPr>
          </a:p>
        </p:txBody>
      </p:sp>
      <p:sp>
        <p:nvSpPr>
          <p:cNvPr id="290"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date/time&gt;</a:t>
            </a:r>
            <a:endParaRPr b="0" lang="en-US" sz="1200" spc="-1" strike="noStrike">
              <a:solidFill>
                <a:srgbClr val="000000"/>
              </a:solidFill>
              <a:latin typeface="Times New Roman"/>
            </a:endParaRPr>
          </a:p>
        </p:txBody>
      </p:sp>
      <p:sp>
        <p:nvSpPr>
          <p:cNvPr id="2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lt;footer&gt;</a:t>
            </a:r>
            <a:endParaRPr b="0" lang="en-US" sz="1200" spc="-1" strike="noStrike">
              <a:solidFill>
                <a:srgbClr val="000000"/>
              </a:solidFill>
              <a:latin typeface="Times New Roman"/>
            </a:endParaRPr>
          </a:p>
        </p:txBody>
      </p:sp>
      <p:sp>
        <p:nvSpPr>
          <p:cNvPr id="292"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DD9DC-DCDD-421D-9C52-37FB50E61F7B}" type="slidenum">
              <a:rPr b="0" lang="en-US" sz="1200" spc="-1" strike="noStrike">
                <a:solidFill>
                  <a:srgbClr val="ffffff"/>
                </a:solidFill>
                <a:latin typeface="Verdana"/>
              </a:rPr>
              <a:t>&lt;number&gt;</a:t>
            </a:fld>
            <a:endParaRPr b="0" lang="en-US" sz="1200" spc="-1" strike="noStrike">
              <a:solidFill>
                <a:srgbClr val="000000"/>
              </a:solidFill>
              <a:latin typeface="Times New Roman"/>
            </a:endParaRPr>
          </a:p>
        </p:txBody>
      </p:sp>
      <p:sp>
        <p:nvSpPr>
          <p:cNvPr id="2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00999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bfcb4f"/>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1599840"/>
            <a:ext cx="7772400" cy="19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100" spc="-1" strike="noStrike">
                <a:solidFill>
                  <a:srgbClr val="c4c3aa"/>
                </a:solidFill>
                <a:latin typeface="Arial"/>
              </a:rPr>
              <a:t>Electronics</a:t>
            </a:r>
            <a:endParaRPr b="0" lang="en-US" sz="5100" spc="-1" strike="noStrike">
              <a:solidFill>
                <a:srgbClr val="c4c3aa"/>
              </a:solidFill>
              <a:latin typeface="Arial"/>
            </a:endParaRPr>
          </a:p>
        </p:txBody>
      </p:sp>
      <p:sp>
        <p:nvSpPr>
          <p:cNvPr id="331" name="PlaceHolder 2"/>
          <p:cNvSpPr>
            <a:spLocks noGrp="1"/>
          </p:cNvSpPr>
          <p:nvPr>
            <p:ph type="subTitle"/>
          </p:nvPr>
        </p:nvSpPr>
        <p:spPr>
          <a:xfrm>
            <a:off x="4788000" y="6381720"/>
            <a:ext cx="4356000" cy="33192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orbachenko Vasyl</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4c3aa"/>
                </a:solidFill>
                <a:latin typeface="Arial"/>
              </a:rPr>
              <a:t>What is e</a:t>
            </a:r>
            <a:r>
              <a:rPr b="0" lang="ru-RU" sz="4400" spc="-1" strike="noStrike">
                <a:solidFill>
                  <a:srgbClr val="c4c3aa"/>
                </a:solidFill>
                <a:latin typeface="Arial"/>
              </a:rPr>
              <a:t>lectronics</a:t>
            </a:r>
            <a:r>
              <a:rPr b="0" lang="en-US" sz="4400" spc="-1" strike="noStrike">
                <a:solidFill>
                  <a:srgbClr val="c4c3aa"/>
                </a:solidFill>
                <a:latin typeface="Arial"/>
              </a:rPr>
              <a:t>?</a:t>
            </a:r>
            <a:endParaRPr b="0" lang="en-US" sz="4400" spc="-1" strike="noStrike">
              <a:solidFill>
                <a:srgbClr val="c4c3aa"/>
              </a:solidFill>
              <a:latin typeface="Arial"/>
            </a:endParaRPr>
          </a:p>
        </p:txBody>
      </p:sp>
      <p:grpSp>
        <p:nvGrpSpPr>
          <p:cNvPr id="333" name=""/>
          <p:cNvGrpSpPr/>
          <p:nvPr/>
        </p:nvGrpSpPr>
        <p:grpSpPr>
          <a:xfrm>
            <a:off x="179280" y="1628640"/>
            <a:ext cx="4038840" cy="4530960"/>
            <a:chOff x="179280" y="1628640"/>
            <a:chExt cx="4038840" cy="4530960"/>
          </a:xfrm>
        </p:grpSpPr>
        <p:pic>
          <p:nvPicPr>
            <p:cNvPr id="334" name="" descr=""/>
            <p:cNvPicPr/>
            <p:nvPr/>
          </p:nvPicPr>
          <p:blipFill>
            <a:blip r:embed="rId1"/>
            <a:stretch/>
          </p:blipFill>
          <p:spPr>
            <a:xfrm>
              <a:off x="179280" y="1628640"/>
              <a:ext cx="4038840" cy="4530960"/>
            </a:xfrm>
            <a:prstGeom prst="rect">
              <a:avLst/>
            </a:prstGeom>
            <a:ln w="0">
              <a:noFill/>
            </a:ln>
          </p:spPr>
        </p:pic>
        <p:sp>
          <p:nvSpPr>
            <p:cNvPr id="335" name=""/>
            <p:cNvSpPr txBox="1"/>
            <p:nvPr/>
          </p:nvSpPr>
          <p:spPr>
            <a:xfrm>
              <a:off x="179280" y="1628640"/>
              <a:ext cx="4038840" cy="4530960"/>
            </a:xfrm>
            <a:prstGeom prst="rect">
              <a:avLst/>
            </a:prstGeom>
            <a:noFill/>
            <a:ln w="0">
              <a:noFill/>
            </a:ln>
          </p:spPr>
          <p:txBody>
            <a:bodyPr lIns="90000" rIns="90000" tIns="46800" bIns="46800" anchor="t">
              <a:normAutofit/>
            </a:bodyPr>
            <a:p>
              <a:pPr marL="343080" indent="-343080">
                <a:lnSpc>
                  <a:spcPct val="80000"/>
                </a:lnSpc>
                <a:spcBef>
                  <a:spcPts val="400"/>
                </a:spcBef>
                <a:buClr>
                  <a:srgbClr val="c4c3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grpSp>
      <p:sp>
        <p:nvSpPr>
          <p:cNvPr id="336" name="PlaceHolder 2"/>
          <p:cNvSpPr>
            <a:spLocks noGrp="1"/>
          </p:cNvSpPr>
          <p:nvPr>
            <p:ph/>
          </p:nvPr>
        </p:nvSpPr>
        <p:spPr>
          <a:xfrm>
            <a:off x="4284720" y="1484280"/>
            <a:ext cx="4859280" cy="5184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Electronics is the branch of science, engineering and technology dealing with electrical circuits that involve active electrical components such as vacuum tubes, transistors, diodes and integrated circuits, and associated passive interconnection technologies. The nonlinear behaviour of active components and their ability to control electron flows makes amplification of weak signals possible and is usually applied to information and signal processing. Similarly, the ability of electronic devices to act as switches makes digital information processing possible. Interconnection technologies such as circuit boards, electronics packaging technology, and other varied forms of communication infrastructure complete circuit functionality and transform the mixed components into a working system.</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868"/>
            </a:gs>
            <a:gs pos="100000">
              <a:srgbClr val="4d4f45"/>
            </a:gs>
          </a:gsLst>
          <a:lin ang="8100000"/>
        </a:gra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c4c3aa"/>
                </a:solidFill>
                <a:latin typeface="Arial"/>
              </a:rPr>
              <a:t>Electronics</a:t>
            </a:r>
            <a:endParaRPr b="0" lang="en-US" sz="4400" spc="-1" strike="noStrike">
              <a:solidFill>
                <a:srgbClr val="c4c3aa"/>
              </a:solidFill>
              <a:latin typeface="Arial"/>
            </a:endParaRPr>
          </a:p>
        </p:txBody>
      </p:sp>
      <p:sp>
        <p:nvSpPr>
          <p:cNvPr id="3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06:27:57Z</dcterms:created>
  <dc:creator>Admin</dc:creator>
  <dc:description/>
  <dc:language>en-US</dc:language>
  <cp:lastModifiedBy>Admin</cp:lastModifiedBy>
  <dcterms:modified xsi:type="dcterms:W3CDTF">2012-02-29T06:31:58Z</dcterms:modified>
  <cp:revision>1</cp:revision>
  <dc:subject/>
  <dc:title>Electronics</dc:title>
</cp:coreProperties>
</file>