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5856-EFFC-4791-9F79-33168730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E062-99E9-4746-8345-089368F5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F138-42A5-4C66-95A5-9072B368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1292-FD11-4E0E-8CE1-1224AC25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1ECC-191C-47E7-A4C3-CA786EE0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72AD-4B0A-4713-B87A-171469E1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7D9F-A38F-403B-9A30-31BA81B9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6B96-48D3-43CE-A42D-5389C1E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F36A-4D12-4943-A881-60B68E2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34B2-50A3-450C-9FCB-A09FD9E2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C90-F1B4-4F41-B242-4135200C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98D7-352C-4FA8-AF35-AE7D4978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BFB-523A-4650-AE6B-0C7E569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CFD2-ECB4-4682-92B2-7D1FF8E5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0E27-D7F4-4749-ACF1-E3E2FDC4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9885-C05F-4F97-8412-D0CF2173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B6A8-C583-464C-ADE0-7277E3D3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4BC4-C16A-42B9-A7EC-950287A8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510F-6DFA-4617-8750-19C51EED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489D-7EDB-40DE-81B6-1F0A7A96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9883-95AD-4E09-877F-C291A5A9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FE1E-86A1-4D18-B219-19418A0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D886-35DC-4679-BFE0-A22DDCF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5B58-54D5-40B8-A161-951DFF6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58E7-C038-48A5-A541-94EEFD12D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B244-60C0-4FC6-B8E5-B940E589AF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9900"/>
                </a:solidFill>
                <a:latin typeface="Arial"/>
              </a:rPr>
              <a:t>ОСНОВИ НАПІВПРОВІДНИКОВОЇ ЕЛЕКТРОНІКИ </a:t>
            </a:r>
            <a:br>
              <a:rPr sz="36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Лекці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6</a:t>
            </a:r>
            <a:br>
              <a:rPr sz="3200"/>
            </a:br>
            <a:br>
              <a:rPr sz="4000"/>
            </a:br>
            <a:r>
              <a:rPr b="1" lang="uk-UA" sz="4000" spc="-1" strike="noStrike">
                <a:solidFill>
                  <a:srgbClr val="008000"/>
                </a:solidFill>
                <a:latin typeface="Arial"/>
              </a:rPr>
              <a:t>Фотодетектори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4626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9900"/>
                </a:solidFill>
                <a:latin typeface="Arial"/>
              </a:rPr>
              <a:t>Анатолій Євту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нститут високих технологі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иївського національного університету імені Тараса Шевч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7822-D36E-4CFC-86E9-A413B5C3EA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24000" y="900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довжинах хвиль 0,5 мкм найбільшу чутливість має фоторезист на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Cd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в той час як при 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10 мкм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ереважні фоторезистори на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CdHgT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Для детектування випромінювання в діапазоні довжин хвиль 100- 400 мкм краще всього вибрати фоторезистор на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так як він має більші значення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Даний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фоторезистор має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широкий динамічний діапазон і внаслідок цього може забезпечувати гарні характеристики детектування сигналів високої інтенсивності. Однак для детектування слабких сигналів в мікрохвильовому діапазоні частот фотодіоди забезпечують більшу швидкодію і порівняно більш високе відношення сигнал/шу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Таким чином, застосування фоторезисторів в якості високочастотних оптичних демодуляторів, наприклад змішувачів потужних оптичних сигналів, обмежен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Разом з тим вони широко використовуються для детектування в інфрачервоній області спектру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особливо на довжинах хвиль вищих декілька мікрометрів, де незважаючи на інтенсивну роботу, поки що відсутні альтернативні варіанти методів детекту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B43A-A5A1-4A35-B879-45FD871296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Фотодіод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0920" y="6202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В фотодіоді є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Times New Roman"/>
              </a:rPr>
              <a:t>збіднена область напівпровідника з сильним електричним полем,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в якому відбувається розділення електронно-діркових пар, що збуджуються під дією світ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9280" y="1557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Для роботи фотодіода на високих частотах необхідно забезпечити малі часи прольоту, тому збіднена область має бути тонкою. З іншого боку, для збільшення квантової ефективності (кількість фотогенерованих електронно-діркових пар, віднесене до кількості падаючих фотонів) збіднений шар повинен бути досить товстим, щоб забезпечити поглинання більшої частини випромінювання, що падає. Таким чином, існує взаємозв’зок між швидкодією і квантовою ефективніст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9280" y="314892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Фотодіод може працювати в фотовольтаїчному режимі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характерному для сонячних батарей – незміщений діод під’єднується до нагрузочного опо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днак конструктивно фотодіод суттєво відрізняється від сонячної батареї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роботі фотодіоду визначаючу роль грає лише випромінювання, що зосереджене у вузькому інтервалі довжин хвиль в центрі оптичного діапазону, а сонячні батареї повинні мати високу чутливість в широкому діапазоні довжин хвиль сонячного випромінюванн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Фотодіоди мають малі розміри, необхідні для мінімізації ємності переходу, тоді як сонячні батареї відносяться до приладів з великою площе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3)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днією з найбільш важливих характеристик фотодіодів є квантова ефективність, тоді як якість сонячних батарей в основному оцінюється за ефективністю перетворення потужності (потужність, яка виділяється на загрузці, віднесена до потужності падаючого сонячного випромінювання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9A39-EF05-4EA3-9019-5B6B2B6502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79280" y="189000"/>
            <a:ext cx="867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роботі в видимому і ближньому інфрачервоному діапазонах діоди зазвичай зміщуються в оберненому напрямі за допомогою відносно великих напруг, щоб зменшити час прольоту носіїв і знизити ємність переходу. Напруга зміщення однак не настільки велика, щоб викликати лавинний пробій. Цим обмеженням на величину зміщення відрізняються фотодіоди, які розглядаються, від лавинних фотодіодів, в яких внутрішнє підсилення досягається як раз за рахунок ударної іонізації в умовах лавинного проб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0920" y="2276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В </a:t>
            </a:r>
            <a:r>
              <a:rPr b="1" i="1" lang="uk-UA" sz="1800" spc="-1" strike="noStrike">
                <a:solidFill>
                  <a:srgbClr val="008000"/>
                </a:solidFill>
                <a:latin typeface="Times New Roman"/>
              </a:rPr>
              <a:t>сімейство фотодіодів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входять діоди з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0" i="1" lang="uk-UA" sz="1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переходом,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0" i="1" lang="uk-UA" sz="1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i="1" lang="uk-UA" sz="1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- діоди, діоди зі структурою метал-напівпровідник (з бар’єром Шотткі) і діоди з гетероперех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4000" y="3068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Розглянемо загальн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характеристики фото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квантову ефективні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швидкість фотовідгуку 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3) приладні шу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E87A-42CA-4B1E-9547-BDE0C93776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79280" y="60012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79280" y="154944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79280" y="18828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cc0000"/>
                </a:solidFill>
                <a:uFillTx/>
                <a:latin typeface="Times New Roman"/>
              </a:rPr>
              <a:t>Квантова ефективність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це кількість фотогенерованих електронно-діркових пар віднесене до кількості фотонів, що падаю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2700360" y="907920"/>
                <a:ext cx="2736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</m:num>
                      <m:den>
                        <m:r>
                          <m:t xml:space="preserve">hν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179280" y="1375200"/>
            <a:ext cx="8785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фотострум, що обумовлений поглинанням падаючого оптичного випромінювання з потужністю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op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довжиною хвилі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що відповідає енергії фото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4840" y="2349000"/>
            <a:ext cx="89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орівняльним критерієм якості є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чутливість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яка визначається як відношення фотоструму до оптичної потужност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771640" y="2924280"/>
                <a:ext cx="20876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ηq</m:t>
                        </m:r>
                      </m:num>
                      <m:den>
                        <m:r>
                          <m:t xml:space="preserve">h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ηλ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358920" y="378900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аким чином, для даної квантової ефективності чутливість лінійно зростає з ростом </a:t>
            </a:r>
            <a:r>
              <a:rPr b="0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Для ідеального фотодіода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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=1)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=(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/1,24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А/Вт), де довжин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ражена в мікромет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0920" y="48927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дним із головних факторів, що визначають квантову ефективність, є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коефіцієнт поглин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0920" y="5877000"/>
            <a:ext cx="87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 5 і 6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і залежності коефіцієнтів поглинання  від довжини хвилі, які виміряні для різних фоточутливих матеріал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680B-2968-4684-94B3-72D119C7DD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4546440" cy="46083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16360" y="189000"/>
            <a:ext cx="4152960" cy="4019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24000" y="4941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5. Залежність коефіцієнта поглинання від довжини хвилі випромінювання для різних фоточутливих матеріал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43280" y="5157720"/>
            <a:ext cx="42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6. Залежність коефіцієнта поглинання від довжини хвилі випромінювання для матеріалів, що чутливі в ІЧ – області спек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80F5-0417-4F3A-A12F-E2A1F7F220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95280" y="23004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280" y="188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e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S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напівпровідникових сполук типу А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5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при збільшенні температури криві зсуваються в область більших довжин хвиль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ля деяких сполук типу А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наприклад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bS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має місце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обернена ситуаці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що обумовлено розширенням забороненої зони при збільшенні температу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0920" y="2239560"/>
            <a:ext cx="864216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наслідок того, що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ильно залежить від довжини хвилі, для даного напівпровідника область довжин хвиль, в якій можна отримати помітний фотострум, обмежена. Довгохвильова границя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с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изначається шириною забороненої зони напівпровідника і рівна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,7 мкм для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,1 мкм для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S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Для довжин хвиль більших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с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начення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дто мале, щоб забезпечити помітне поглинання. Короткохвильова границя фотовідгуку обумовлена тим, що в області коротких хвиль коефіцієнт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уже великий (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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5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м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-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і випромінювання поглинається  в безпосередній близькості до поверхні, де часи рекомбінації малі. Внаслідок цього фотоносії рекомбінують раніше ніж виходять з поверхневого ша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4000" y="435780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0920" y="14616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рисунках вказані довжини хвиль, які відповідають випромінюванню деяких важливих лазері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4B53-247C-4331-9F6C-2FD666476B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260280"/>
            <a:ext cx="4800600" cy="3543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393372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7. Залежність квантової ефективності (суцільна крива) і чутливості (штрихова крива) різних фотодетекторів від довжини хвилі випроміню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76720" y="117720"/>
            <a:ext cx="388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7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і типові залежності квантової ефективності від довжини хвилі для деяких високочастотних діодів і криві квантової ефективності, що відповідають заданим значенням чутливост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ультрафіолетовій і видимій областях спектру високу квантову ефективність мають фотодіоди зі структурою метал-напівпровідник. В ближньому ІЧ-діапазоні (на довжинах хвиль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0,8-0,9 мкм) в кремнієвих фотодіодах з просвітлюючим покриттям може бути досягнута квантова ефективність 100%. В області довжин хвиль 1,0-1,6 мкм висок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5300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квантовою ефективністю характеризуються фотодіоди на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а також на основі потрійних (наприклад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In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і четверних (наприклад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InAs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сполук елементів 3 і 5 груп. Для забезпечення ефективної роботи в довгохвильовій області фотодіоди охолоджуються до низьких температур (наприклад, до 77 К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0822-AEC0-469B-8553-3F5D2A3B01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79280" y="190800"/>
            <a:ext cx="87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cc0000"/>
                </a:solidFill>
                <a:uFillTx/>
                <a:latin typeface="Times New Roman"/>
              </a:rPr>
              <a:t>Швидкість фотовідгуку обмежується трьома факторами</a:t>
            </a:r>
            <a:r>
              <a:rPr b="0" lang="uk-UA" sz="1800" spc="-1" strike="noStrike" u="sng">
                <a:solidFill>
                  <a:srgbClr val="cc0000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ифузією носії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часом дрейфу через збіднену обла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ємністю збідненої област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осії, що генеровані за межами збідненої області, повинні дифундувати до переходу, що суттєво збільшує час затримки. Щоб зменшити вплив дифузії, необхіжно формувати перехід поблизу поверхн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Основна частина випромінювання поглинається в тому випадку, коли збіднена область досить широка (порядку </a:t>
            </a:r>
            <a:r>
              <a:rPr b="0" i="1" lang="uk-UA" sz="1800" spc="-1" strike="noStrike">
                <a:solidFill>
                  <a:srgbClr val="008000"/>
                </a:solidFill>
                <a:latin typeface="Times New Roman"/>
              </a:rPr>
              <a:t>1/</a:t>
            </a:r>
            <a:r>
              <a:rPr b="0" i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; при достатньо високих обернених зміщеннях дрейф носіїв здійчснюється зі швидкістю насичення. Збіднений шар, однак, не повинен бути досить широким, тому що час переносу буде обмежувати швидкість фотовідгуку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Крім того він не повинен бути і дуже вузьким, тому що за рахунок великої ємності </a:t>
            </a:r>
            <a:r>
              <a:rPr b="0" i="1" lang="uk-UA" sz="18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 буде велика постійна часу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RC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 - опір нагрузки). Оптимальною шириною збідненого шару вважається така ширина, при якій час переносу рівний приблизно половині періоду модуляції випроміню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приклад, для частоти модуляції рівній 10 ГГц, оптимальна ширина збідненого шару в кремнії (швидкість насичення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7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м/с) становить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5 м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7436-98F5-46CF-9420-7B6BA811AA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189000"/>
            <a:ext cx="4734000" cy="309564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314748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8. Процес детектування випромінювання (а) і еквівалентна схема фотодіода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932360" y="397800"/>
            <a:ext cx="406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вивчення </a:t>
            </a:r>
            <a:r>
              <a:rPr b="1" lang="uk-UA" sz="1800" spc="-1" strike="noStrike" u="sng">
                <a:solidFill>
                  <a:srgbClr val="cc0000"/>
                </a:solidFill>
                <a:uFillTx/>
                <a:latin typeface="Times New Roman"/>
              </a:rPr>
              <a:t>шумових властивостей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фотодіоду розглядається узагальнений процес детектування випромінювання, який схематично зображений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8, а.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поглинанні оптичного сигналу і фонового випромінювання в фотодіоді генеруються електронно-діркові пари. Електрони і дірки розділяються електричним полем і дрейфують в протилежні сторони від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переходу. При цьому через зовнішній нагрузочний опір протікає струм зміщенн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4146480"/>
            <a:ext cx="87138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Еквівалентна схема фотодіода показан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8, 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,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1/2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значаються параметрами фотодіода. Компонент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j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ємність переходу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j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опір переходу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послідовний опір. Змінний опір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повідає зовнішньому нагрузочному опору, 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вхідному опору підсилювача. Всі опори вносять в систему додаткові теплові шуми. Послідовний опір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азвичай набагато менший ніж інші опори, тому його можна не враховува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8511-A5F2-47DC-BC99-78970762E5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000760" y="189000"/>
            <a:ext cx="4143240" cy="2943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5364000" y="3276720"/>
            <a:ext cx="36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9. Залежніс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P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діода від величини опору навантаження при темновому струмі 150 пА і різних значеннях фонового струм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826920" y="1628640"/>
                <a:ext cx="3024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ν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179280" y="2293200"/>
            <a:ext cx="46087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eq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=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+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D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+2kT/q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eq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 струм обумовлений фоновим випромінюванням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темновий струм термічної генерації електронно-діркових пар в збідненій області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1/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eq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=1/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+1/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+1/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9280" y="3895920"/>
            <a:ext cx="48243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того, щоб збільшити чутливість фотодіода, необхідно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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eq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більшувати, 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меншува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260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Потужність еквівалентна шуму (</a:t>
            </a:r>
            <a:r>
              <a:rPr b="0" i="1" lang="en-US" sz="1800" spc="-1" strike="noStrike">
                <a:solidFill>
                  <a:srgbClr val="cc0000"/>
                </a:solidFill>
                <a:latin typeface="Times New Roman"/>
              </a:rPr>
              <a:t>NEP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, яка рівна середньоквадратичній оптичній потужності при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S/N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=1 і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=1 Гц, описується виразом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50920" y="5002920"/>
            <a:ext cx="8713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алежність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NE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 величини нагрузочного опору для типового кремнієвого фотодіода, розрахована при 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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= 75 %,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= 0,77 мкм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= 1,5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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-10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А,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веден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9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 графіка слідує, що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NE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 наявності дробового шуму темнового струму або фонового випромінювання може бути досягнута лише при досить високих значеннях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eq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EF96-BBB5-4E29-8F7A-48FB440A55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24000" y="18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Фотодетектори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– це напівпровідникові прилади, які можуть детектувати оптичні сигнали за рахунок електронних процесів, що в них протікаю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0920" y="177336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загальному випадку в фотодетекторі протікають три основні процес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) генерація носіїв під дією зовнішнього опромінен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) переніс носіїв і їх помноження за рахунок того чи іншого механізму підсилення струму, характерного для даного напівпровідн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3) взаємодія струму з зовнішньою ланкою, яка забезпечує отримання вихідного сигнал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9280" y="350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Фотодетектори грають важливу роль у волоконно-оптичних системах зв’зку ближнього ІЧ-діапазону (0,8 – 1,6 мкм). Вони детектують оптичні сигнали, тобто перетворюють зміни інтенсивності випромінювання в електричні коливання, які відповідним чином підсилюються і піддаються наступній оброб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37520" y="4653000"/>
            <a:ext cx="642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Фотодетектори, що призначені для таких систем, повинні ма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) високу чутливість в робочому діапазоні довжин хви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) високу швидкоді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3) низький рівень шумі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4) малі розмір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5) низькі керуючі напруги і стру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6) високу надійність в робот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4000" y="81576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Розширення спектрального діапазону випромінювання когерентних і некогерентних джерел світла в дальню інфрачервону область, з одного боку, і в ультрафіолетову – з іншого, привело до збільшення потреби в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швидкодіючих чутливих фотодетекто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C1E9-9411-46DF-9B83-A9AA4B6743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Фототранзистор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0920" y="907920"/>
            <a:ext cx="5038560" cy="391500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79280" y="501264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3. Біполярний фототранзистор (а) і складений фототранзистор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219640" y="98244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Біполярні і уніполярні транзистори можуть виконувати функції фотодетекторів і, відповідно, називаються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фототранзисторами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Характерний для цих приладів транзисторний ефект забезпечує високе підсилення. Разом з тим в порівнянні з фотодіодом фототранзистор більш складний при виготовленні і поступається йому швидкодією внаслідок великої площ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труктура біполярного фототранзистора і його еквівалентна схема наведені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3,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79280" y="56854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Біполярний фототранзистор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різняється від звичайного біполярного транзистора тим, що перехід база-колектор, який грає в ньому роль чутливого елементу (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3, 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ображається у виді діода з паралельно підключеною ємністю), має більшу пло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5FD0-DF87-4A8B-9DE4-EA0F6FEEC3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79280" y="188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Фототранзистор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особливо ефективні у складі оптронів, оскільки забезпечують високий коефіцієнт перетворення за струмом (тобто, відношення вихідного струму фотодетектора до вхідного струму фотодіода), який досягає 50% і більше, тоді як при використанні фотодіодів цей коефіцієнт не перевищує 0,2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79280" y="141264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Біполярний фототранзистор може бути інтегрально суміщений з іншими приладами. Наприклад, використовуючи додатковий транзистор, можна сформувати складений фототранзистор з суттєво більшим коефіцієнтом підсиленн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920" y="4005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Швидкодія розглянутих структур обмежується великою ємністю переходу база-колектор і знижується при збільшення підсилення за рахунок ефекту зворотнього зв’яз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ак, типовий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час відгуку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ля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фотодіода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тановить </a:t>
            </a:r>
            <a:r>
              <a:rPr b="0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0,01 мкс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тоді як для біполярного фототранзистора він рівний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5 мкс, а для 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складеного фототранзистора </a:t>
            </a:r>
            <a:r>
              <a:rPr b="0" lang="uk-UA" sz="1800" spc="-1" strike="noStrike">
                <a:solidFill>
                  <a:srgbClr val="ff3300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50 мкс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79280" y="52592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0920" y="2565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Біполярний фототранзистор може бути інтегрально суміщений з іншими приладами. Наприклад, використовуючи додатковий транзистор, можна сформувати </a:t>
            </a: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складений фототранзистор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 суттєво більш високим коефіцієнтом підсилення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3, 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7738-DB07-4B9D-86BF-A74D383224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Фототранзистор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може бути виготовлений на основі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гетероструктури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, наприклад, симетричної структури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AlGaAs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As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AlGaAs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34, вставка)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0920" y="450864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79280" y="5805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Цей прилад характеризується високим значенням напруги запирання і коефіцієнта підсилення для обох полярностей зміщення і лінійною залежністю струму від напруги, яка проходить через початок координат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3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56000" y="421272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4. Вольт-амперна характеристика фото транзистора з двостороннім гетеро перех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98628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FFFE-3640-4FD5-A860-4BF5B52E0A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50920" y="26028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Ефективна інжекційна здатність забезпечується за рахунок того, що шар бази має більш вузьку заборонену зону, ніж шари колектора і емітера. Таким шляхом виключається присутнє звичайним транзисторам обмеження, що полягає в необхідності створення слабко легованого базового шару, і можна реалізувати умови, при яких збіднена область запірного шару в основному зосереджена в шарі колектора. Це дозволяє отримати в одному приладі високе підсилення і високу напругу запирання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0920" y="256500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лад має симетричний коефіцієнт підсилення, який при напрузі запирання </a:t>
            </a:r>
            <a:r>
              <a:rPr b="0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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10 В, що відповідає товщині бази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2,1 мкм, становить 180, а при при напрузі запирання </a:t>
            </a:r>
            <a:r>
              <a:rPr b="0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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2,6 В, що відповідає товщині бази 0,3 мкм, рівний 3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EBB1-CC1F-460E-8760-B4274ECD30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189000"/>
            <a:ext cx="4124160" cy="595296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79280" y="6092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5. Залежність фотоструму в області насичення від напруги на польовому електроді в МОН – транзисторі з підкладкою легованою індіє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0" y="12420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труктура кремнієвого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МДН транзистора з ізольованим затворо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є чутливою до ІЧ-випромінювання, схематично показан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5 (вставка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ідкладк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типу легована бором, що дає мілкий акцепторний рівень, і індієм, що дає глибокий акцепторний рівень (глибина залягання 0,16 еВ від краю валентної зо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43280" y="2924640"/>
            <a:ext cx="43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заповненому дірками стані центри індія нейтральні, а при збудженні дірок в валентну зону стають відємно зарядженими. Прилад працює наступним чином. Ві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ємна напруга на польовому електроді викликає збагачення каналу; при цьому всі центри індія захоплюють дірки і переходять в нейтральний стан.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4574-F294-4648-BA66-933B97AE6B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79280" y="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ід дією ІЧ-випромінювання в діапазоні 2-7 мкм, що забезпечує енергію фотона, достатню для фотоіонізації центрів індія, відбувається збудження дірок в валентну зону. Цей процес приводить до збільшення сумарної густини заряджених акцепторів в області збіднення, що в свою чергу модулює провідність поверхневого каналу. Вираз для зміни порогової напруги має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843280" y="1557360"/>
                <a:ext cx="4465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rad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79280" y="2148480"/>
            <a:ext cx="87854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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 різниця потенціалів між рівнем Фермі і рівнем Фермі власного напівпровідника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питома ємність окисла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концентрація бору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I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концентрація фотоіонізованих центрів індія. Струм в області насичення пропорційний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G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, таким чином, зміна струму каналу може бути представлена в вид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64000" y="3573360"/>
                <a:ext cx="36432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Δ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250920" y="422136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5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а залежність фотоструму в області насичення від напруги на польовому електроді. Отримана залежність добре узгоджується з рівнянням (59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користовуючи замість індія інші акцепторні домішки, можна забезпечити максимальне узгодження області чутливості приладу з необхідним спектральним діапазо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Ч-детектор може бути інтегрально суміщений з елементами накопичення і пам’яті і вихідним підсилювачем, що відкриває широкі перспективи для його використання в багатоелементних ІЧ-фотоприймачах великої ступеню інтеграції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04C1-5317-428A-AB94-3A6A484E2E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66ff"/>
                </a:solidFill>
                <a:latin typeface="Times New Roman"/>
              </a:rPr>
              <a:t>Дякую за увагу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Arial"/>
              </a:rPr>
              <a:t>Фоторезистор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4000" y="84456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Фоторезистор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 це пластина напівпровідника (монолітна чи в виді тонкої плівки), на протилежних кінцях якої створені омічні контакти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 падінні випромінювання на поверхню фоторезистора в останньому генеруються носії внаслідок збудження або між зонних переходів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(власне збудженн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, або переходів з участю енергетичних рівнів в забороненій зоні (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домішкове збудженн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, що приводить до збільшення провідності. Процеси власного і домішкового фотозбудження носіїв схематично зображені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0920" y="2978280"/>
            <a:ext cx="8642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овідність власних фоторезисторів описується формулою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і збільшення провідності під дією освітлення в основному пов’язано зі збільшенням кількості носії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0920" y="39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овгохвильова границя фотопровідності в цьому випадку визначається із співвідноше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3132000" y="4797360"/>
                <a:ext cx="2016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256320" y="5641560"/>
            <a:ext cx="660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с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довжина хвилі, що відповідає ширині забороненої зон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6002280"/>
            <a:ext cx="8713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промінювання з довжинами хвиль меншими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с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поглинається в напівпровіднику з утворенням електронно-діркових па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FA46-4C79-4F5E-A9AD-4A2BECBB6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Фоторезистор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1268280"/>
            <a:ext cx="4933800" cy="34387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19640" y="1484280"/>
            <a:ext cx="3781440" cy="27622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79280" y="480492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1. Фоторезистор, що складається з пластини напівпровідника з омічними конта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10200" y="458100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. Процеси власного (зона-зона) і домішкового фотозбудже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6260-777B-4857-B657-5CF7CFCBC4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79280" y="26028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домішковому фоторезисторі фотозбудження може відбуватися між краєм зони і енергетичним рівнем в забороненій зоні. Фотопровідність може виникати в результаті поглинання фотонів з енергією, яка рівна або перевищує енергію, що відділяє домішковий рівень від зони провідності чи валентної зони. При цьому довгохвильова границя фотопровідності визначається глибиною залягання домішкового рівня в забороненій зон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9280" y="1989000"/>
            <a:ext cx="849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Робота фотодетекторів взагалі і фоторезисторів зокрема характеризується трьома параметр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) квантовою ефективністю або підсиленн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2) часом фотовідгук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3) чутливістю (виявною здатністю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092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429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928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928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9280" y="6008760"/>
            <a:ext cx="878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0920" y="3517920"/>
            <a:ext cx="864216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Розглянемо спочатку процеси, які протікають в фоторезисторі при дії випромінюва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ехай в який-небудь початковий момент час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= 0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кількість носіїв , які виникають в одиниці об’єму за рахунок генерації потоком фотонів, рів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В наступні моменти часу кількість носіїв в тому ж об’ємі зменшиться за ра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унок рекомбінації за законом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xp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(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де 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–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час життя носіїв. Іншими словами швидкість рекомбінації рівна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1/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Якщо потік фотонів постійний і розподілений рівномірно по поверхні фоторезистора з площею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WL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то загальна кількість фотонів, яка падає на поверхню за одиницю часу, дорівнює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opt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op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потужність випромінювання, що падає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енергія ф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6768-30F6-4881-89A6-F4FDA7391A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95280" y="4724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значаючи вихідний фотострум 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0760" y="5805360"/>
            <a:ext cx="62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 рівняння (3а) отримаємо коефіцієнт підсилення фотостру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65563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4000" y="602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780000" y="4221000"/>
                <a:ext cx="194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η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</m:num>
                      <m:den>
                        <m:r>
                          <m:t xml:space="preserve">hν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τ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140360" y="5087880"/>
                <a:ext cx="1299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η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</m:num>
                      <m:den>
                        <m:r>
                          <m:t xml:space="preserve">hν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6732720" y="5877000"/>
                <a:ext cx="15843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τ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179280" y="188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стаціонарному стані швидкість генерації носіїв повинна дорівнювати швидкості рекомбінації. Якщо товщина прилад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начно більша, ніж глибина проникнення світла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1/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то загальна стаціонарна швидкість генерації носіїв в одиниці об’єму р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59280" y="1125360"/>
                <a:ext cx="20635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p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ν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LD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179280" y="189504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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квантова ефективність (тобто кількість фотогенерованих носіїв, віднесене до кількості фотонів, які падають)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кількість носіїв в одиниці об’єму (густина носіїв). Фотострум, який протікає між контактами, рів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484360" y="2997360"/>
                <a:ext cx="4248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σ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WD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WD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WD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179280" y="3582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 електричне поле всередині фоторезистора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d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дрейфова швидкість. Підставляюч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 рівняння (2) в рівняння (3), отримаєм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12280" y="6308640"/>
            <a:ext cx="32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 час прольоту носії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4427-05EA-48A7-8B3F-C4B7FDF5D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79280" y="188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оефіцієнт підсилення,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що залежить від відношення часу життя і часу прольоту, є виключно важливим параметром фоторезисторів. Для зразків з великим часом життя і малою відстанню між контактами коефіцієнт підсилення може бути суттєво більшим одини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1446120"/>
            <a:ext cx="8496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Час фотовідгуку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фоторезиста визначається часом прольот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Оскільки для фоторезистів характерні великі відстані між контактами і слабкі електричні поля, то їх час фотовідгуку зазвичай більший аналогічного параметра для фотодіоді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9280" y="38685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ідносним критерієм якості фотодетекторів є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потужність, що еквівалентна шуму (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NEP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)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яка визначається як середньоквадратична потужність падаючого випромінювання, необхідного для отримання відношення сигнал/шум, рівного 1, в полосі частот 1 Г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0920" y="5012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інфрачервоних детекторів найбільш вживаним критерієм якості є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питома виявна здатність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D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*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268360" y="5805360"/>
                <a:ext cx="1629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4283280" y="59493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ширина сму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9280" y="513072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0920" y="61340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24411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скільки для фоторезистів характерні великі відстані між контактами і слабкі електричні поля, то їх час фотовідгуку зазвичай більший аналогічного параметра для фотодіодів. Деякі типові значення коефіцієнту підсилення і часу фотовідгуку наведені в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табл.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9020-F938-4175-87F8-4FBE2871F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24000" y="5734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фоторезистора, чутливість якого обмежена фоновим випромінюванням, ідеальна виявна здатніст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4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 квантовій ефективності рівній 1, визначається вира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4000" y="4365720"/>
            <a:ext cx="848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виключення невизначеності в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еобхідно вказувати, чи є джерелом випромінювання абсолютно чорне тіло чи монохроматичне джерело і при якій частоті здійснюється модуляція. Рекомендується виражат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як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,1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або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,1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де 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довжина хвилі (мкм)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частота модуляції (Гц)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емпература (К). При цьому ширина смуги завжди рівна 1 Г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97680" cy="42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46BA-98AC-4043-AD64-7C6460AF27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4019400" cy="55148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79280" y="5733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4. Залежність виявної здатност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uk-UA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від довжини хвилі випромінювання для різних фоторезисторів і фотодіодів (фотодіоди позначені ФД). Штриховими кривими представлена теоретична ідеальн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при 77 і 300 К і куті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716360" y="260280"/>
                <a:ext cx="417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ς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kT</m:t>
                            </m:r>
                          </m:e>
                        </m:rad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639680" y="1094760"/>
            <a:ext cx="34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швидкість світла і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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k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11640" y="2997720"/>
            <a:ext cx="46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детектування випромінювання в середньому, дальному і наддальному ІЧ-діапазонах фоторезистори охолоджуються до низьких температур (77 і 4,2 К). При таких температурах зменшуються теплові ефекти, що викликають термічну іонізацію і спустошення енергетичних рівнів, і збільшуються підсилення і ефективність детектування.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84720" y="14018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4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і також деякі типові значенн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ля таких фото резисторів, як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Cd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b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nSb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германій легований нікелем (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N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, кремній легований фосфором (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S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4B06-052E-45C6-B87F-94A2F3E721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6:59:09Z</dcterms:created>
  <dc:creator>Home_RDM</dc:creator>
  <dc:description/>
  <dc:language>en-US</dc:language>
  <cp:lastModifiedBy>Anatoli</cp:lastModifiedBy>
  <dcterms:modified xsi:type="dcterms:W3CDTF">2013-12-09T18:44:59Z</dcterms:modified>
  <cp:revision>318</cp:revision>
  <dc:subject/>
  <dc:title>NANOCRYSTAL MEMORY</dc:title>
</cp:coreProperties>
</file>