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19B6-3229-4831-ADF5-4E2DF070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6F5E-3869-40BA-8C77-CDE9EC2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7222-22A5-47C5-AB06-A571E7D6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CFA6-CFAE-49B8-8FEB-037E5E41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BA46-9AB6-480F-8FCE-4FD63A20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61A-ED8C-42E9-89BF-5FB9E903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29D3-362D-4A72-A321-B5F2E9D3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C5D1-E343-4FDF-A1CC-CA49C252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4851-7F8E-4AD4-B87A-CB82990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AD8B-38C2-41B6-9E9E-55B29ABE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0640-7262-4C7A-9823-9D83FAA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94FD-2ECC-4A53-B3FB-6A9E10AE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2518-5178-4ED4-98AE-F953A8A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D418-2AD1-4BEA-9C21-2B0F95F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9239-DF26-40FB-AC91-A758CFE9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448C-9CEF-4F9F-93F6-F39D9903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C20-74DC-420E-9D5D-334DCAB3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C23A-EF77-40EF-98F6-F5F65257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DB78-9AAA-4082-A5F9-A265D5BF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0FB0-85B8-4C2C-B2FE-6D59E3DA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BEE9-F284-4727-B7CD-1B74B49E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1D09-66F2-4ABE-8992-BBB7F4F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3228-05C7-4359-BCA5-3104ADD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3C37-F132-4291-8840-62DC110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ED5D-51BA-4D30-95C6-AD0D560379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B69D-D28A-49F5-90FF-6A75DE580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9900"/>
                </a:solidFill>
                <a:latin typeface="Arial"/>
              </a:rPr>
              <a:t>ОСНОВИ НАПІВПРОВІДНИКОВОЇ ЕЛЕКТРОНІКИ </a:t>
            </a:r>
            <a:br>
              <a:rPr sz="3600"/>
            </a:b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Лекці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1</a:t>
            </a:r>
            <a:br>
              <a:rPr sz="3200"/>
            </a:br>
            <a:br>
              <a:rPr sz="4000"/>
            </a:br>
            <a:r>
              <a:rPr b="1" lang="uk-UA" sz="4000" spc="-1" strike="noStrike">
                <a:solidFill>
                  <a:srgbClr val="009900"/>
                </a:solidFill>
                <a:latin typeface="Arial"/>
              </a:rPr>
              <a:t>Тунельні прилади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4626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9900"/>
                </a:solidFill>
                <a:latin typeface="Arial"/>
              </a:rPr>
              <a:t>Анатолій Євту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Інститут високих технологі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иївського національного університету імені Тараса Шевч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333360"/>
            <a:ext cx="4341960" cy="6335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643280" y="4220640"/>
            <a:ext cx="424980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уперпозиція в класичних точках повороту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(-х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структури зон в імпульсному простор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 енергетичної діаграми тунельного переходу в координатному простор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- випадок прямого тунелювання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 ; б- випадок непрямого тунелювання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uk-UA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00720" y="405720"/>
            <a:ext cx="432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цесс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унелювання може бути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прями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1" lang="uk-UA" sz="1800" spc="-1" strike="noStrike">
                <a:solidFill>
                  <a:srgbClr val="008000"/>
                </a:solidFill>
                <a:latin typeface="Times New Roman"/>
              </a:rPr>
              <a:t>непрями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Випадок прямого тунелювання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казаний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а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е структура зон в імпульсному простор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 класичних точках повороту накладена на енергетичну діаграму тунельного переходу в координатному простор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При такій структурі зон електрони можуть тунелю вати з околиці мінімуму зони провідності в околицю максимуму валентної зони, зберігаючи значення імпульс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24000" y="1890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им чином, для того щоб відбувалося пряме тунелювання , положення дна зони провідності і стелі валентної зони в просторі імпульсів повинні співпадати. Ця умова виконується в напівпровідниках з прямою забороненою зоною (в таких, як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As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aSb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 Вона може також виконуватись в напівпровідниках з непрямою забороненою зоною (наприклад, в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G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) при досить великих прикладених напругах, таких, що максимум валентної зони (точк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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) знаходиться на одному рівні з непрямим мінімумом зони провідності (точк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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2547720"/>
            <a:ext cx="842472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Times New Roman"/>
              </a:rPr>
              <a:t>Непряме тунелювання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проходить в тому випадку, коли мінімум зони провідності і максимум валентної зони розміщені при різних значеннях імпульс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б).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Для виконання закону збереження імпульсу різниця між імпульсами, які відповідають мінімуму зони провідності і стелі валентної зони, повинна передаватися розсіювачам, таким, як фонони або домішкові центри. Закони збереження енергії і імпульсу для тунелювання з участю фононів формулюються наступним чином: сума енергії фонона і початкової енергії електрона, що тунелює з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-області в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-область, дорівнює кінцевій енергії електрона, що протунелював в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-область; сума початкового імпульсу електрона і імпульсу фонона (</a:t>
            </a:r>
            <a:r>
              <a:rPr b="0" i="1" lang="uk-UA" sz="1800" spc="-1" strike="noStrike">
                <a:solidFill>
                  <a:srgbClr val="006600"/>
                </a:solidFill>
                <a:latin typeface="Times New Roman"/>
              </a:rPr>
              <a:t>ħ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) рівна кінцевому імпульсу електрона, що протунелював. В загальному випадку ймовірність непрямого тунелювання значно менша, ніж ймовірність прямого. Крім того, ймовірність непрямого тунелювання з участю декількох фононів значно менша ймовірності аналогічного процесу з участю лише одного фоно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Обернений діод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907920"/>
            <a:ext cx="3490920" cy="46087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539280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имволічне позначення оберненого діода і його вольт-амперні характеристики при наявності від’ємного опору (а) і без від’ємного опору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356000" y="908640"/>
            <a:ext cx="46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кщо концентрації легуючих домішок такі, що  в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област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ереходу близькі до виродження або слабо вироджені, то при малих зміщеннях струм в «оберненому» напрямк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еревищує струм «в прямому» напрямку. Звідси походить назва такого тунельного діода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обернений діод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В стані теплової рівноваги рівень Фермі в оберненому діоді дуже близький до країв зо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00720" y="3709080"/>
            <a:ext cx="46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малих обернених зміщеннях (при від’ємному потенціал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області по відношенню до потенціалу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області) діаграма енергетичних зон подібна діаграмі, наведеній 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з однією відмінністю – обидві сторони переходу зараз не вироджені. При оберненому зміщенні електрони можуть легко тунелювати з валентної зони в зону провідності, що буде приводити до зростання струму з ростом прикладеної напруги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50920" y="501336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16360" y="571176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203640" y="404640"/>
                <a:ext cx="2189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250920" y="961920"/>
            <a:ext cx="8713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ут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i="1" lang="ru-RU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– додатні величини, які слабо залежать від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З формули слідує, що обернений струм залежить від напруги приблизно по експоненційному зак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177336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бернений діод можна використовувати як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випрямляч малих сигналів, детектор НВЧ-випромінювання і змішувач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дібно до тунельного діоду, обернений діод має гарні частотні характеристики, оскільки його робота не пов’язана з накопленням неосновних носіїв. Крім того вольт-амперна характеристика оберненого діода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нечутлива до впливу температури і опромінення, і в таких діодах дуже малий </a:t>
            </a: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Times New Roman"/>
              </a:rPr>
              <a:t>1/</a:t>
            </a:r>
            <a:r>
              <a:rPr b="0" i="1" lang="en-US" sz="1800" spc="-1" strike="noStrike" u="sng">
                <a:solidFill>
                  <a:srgbClr val="0000cc"/>
                </a:solidFill>
                <a:uFillTx/>
                <a:latin typeface="Times New Roman"/>
              </a:rPr>
              <a:t>f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 шум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203640" y="33577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50920" y="4076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ідношення другої і першої похідної вольт-амперної характеристики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характеристика досконалості приладу при роботі в нелінійному режим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4851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Цей параметр називають також коефіцієнтом кривизни. Величин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лужить мірою ступеню не лінійності, нормованої на величину повної провідност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прямому зміщенні при кімнатній температурі для ідеального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ереходу (=1)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40 В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-1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езалежно від зміщення. Однак при оберненому зміщенні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ереходу величин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уже мала при малих зміщеннях і зростає пропорційно фактору лавинного помноження поблизу напруги проб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125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92720" y="367992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260280"/>
            <a:ext cx="3705120" cy="43210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250920" y="479736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при 300 К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0 в германієвих діодах від концентрації акцепторів (при фіксованому значенн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2×1019 см-3) і донорів (а) (при фіксованому значенн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×1019 см-3) і від температури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43280" y="1038960"/>
            <a:ext cx="42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Коефіцієнт кривизни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алежить від концентрації домішки в обох областях переходу і від ефективних мас. На відміну від бар’єру Шотткі в оберненому діоді величин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ідносно слабо залежить від змін температу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ідмітимо дві цікаві особливості поведінки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обернених діодів: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1) </a:t>
            </a:r>
            <a:r>
              <a:rPr b="0" i="1" lang="uk-UA" sz="1800" spc="-1" strike="noStrike" u="sng">
                <a:solidFill>
                  <a:srgbClr val="0000cc"/>
                </a:solidFill>
                <a:uFillTx/>
                <a:latin typeface="Symbol"/>
                <a:ea typeface="Symbol"/>
              </a:rPr>
              <a:t>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 може бути більше 40 В</a:t>
            </a:r>
            <a:r>
              <a:rPr b="0" lang="uk-UA" sz="1800" spc="-1" strike="noStrike" u="sng" baseline="30000">
                <a:solidFill>
                  <a:srgbClr val="0000cc"/>
                </a:solidFill>
                <a:uFillTx/>
                <a:latin typeface="Times New Roman"/>
              </a:rPr>
              <a:t>-1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, 2) нечутливість </a:t>
            </a:r>
            <a:r>
              <a:rPr b="0" i="1" lang="uk-UA" sz="1800" spc="-1" strike="noStrike" u="sng">
                <a:solidFill>
                  <a:srgbClr val="0000cc"/>
                </a:solidFill>
                <a:uFillTx/>
                <a:latin typeface="Symbol"/>
                <a:ea typeface="Symbol"/>
              </a:rPr>
              <a:t>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 до змін температури.</a:t>
            </a:r>
            <a:r>
              <a:rPr b="0" lang="uk-UA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484360" y="189000"/>
            <a:ext cx="46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Тунельний МДН ді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1035000"/>
            <a:ext cx="856944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діода зі структурою метал-діелектрик-напівпровідник (МДН) вольт-амперні характеристики критичним чином </a:t>
            </a:r>
            <a:r>
              <a:rPr b="0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залежать від товщини діелект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Якщо діелектричний шар досить товстий (наприклад, для системи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i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iO</a:t>
            </a:r>
            <a:r>
              <a:rPr b="0" lang="uk-UA" sz="18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 більше 5 нм), то переходом носіїв через цей шар можна знехтувати,  і МДН діод являє собою </a:t>
            </a:r>
            <a:r>
              <a:rPr b="1" lang="uk-UA" sz="1800" spc="-1" strike="noStrike">
                <a:solidFill>
                  <a:srgbClr val="006600"/>
                </a:solidFill>
                <a:latin typeface="Times New Roman"/>
              </a:rPr>
              <a:t>звичайну МДН ємність</a:t>
            </a:r>
            <a:r>
              <a:rPr b="0" lang="uk-UA" sz="1800" spc="-1" strike="noStrike">
                <a:solidFill>
                  <a:srgbClr val="0066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кщо ж, навпаки, діелектричний шар дуже тонкий (менше 1 нм), то він практично не мішає руху носіїв між металом і напівпровідником, і тоді структура являє собою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бар’єр Шотткі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Якщо ж діелектричний шар має проміжну товщину (1нм &lt;</a:t>
            </a:r>
            <a:r>
              <a:rPr b="0" i="1" lang="en-US" sz="1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&lt; 5 нм), то МДН діод являє собою прилад третього класу –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тунельний МДН діод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66ff"/>
                </a:solidFill>
                <a:latin typeface="Arial"/>
              </a:rPr>
              <a:t>Вироджений напівпровідник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981000"/>
            <a:ext cx="5754600" cy="43243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95280" y="544464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рощені енергетичні діаграми (що враховують вплив поверхневих станів) тунельних МДН діодів на вироджених підклад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16720" y="1052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унельні МДН діоди 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1800" spc="-1" strike="noStrike" baseline="30000">
                <a:solidFill>
                  <a:srgbClr val="0000cc"/>
                </a:solidFill>
                <a:latin typeface="Times New Roman"/>
              </a:rPr>
              <a:t>+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1800" spc="-1" strike="noStrike" baseline="30000">
                <a:solidFill>
                  <a:srgbClr val="0000cc"/>
                </a:solidFill>
                <a:latin typeface="Times New Roman"/>
              </a:rPr>
              <a:t>++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півпровідникових підклад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27640" y="227664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ля простоти не враховується вигин зон під дією сил зображення і падіння потенціалу на шарі окисла в умовах рівнова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227640" y="4077000"/>
            <a:ext cx="26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Спочатку розглянемо випадок підкладки 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Times New Roman"/>
              </a:rPr>
              <a:t>p</a:t>
            </a:r>
            <a:r>
              <a:rPr b="1" i="1" lang="en-US" sz="1800" spc="-1" strike="noStrike" u="sng" baseline="30000">
                <a:solidFill>
                  <a:srgbClr val="0000cc"/>
                </a:solidFill>
                <a:uFillTx/>
                <a:latin typeface="Times New Roman"/>
              </a:rPr>
              <a:t>++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1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тип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кладання позитивної напруги до металу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б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викликає тунелювання із валентної зони в мета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24000" y="188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Вираз для тунельного струму з використанням ВКБ наближення і законів збереження енергії і поперечного імпульсу має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2195640" y="907920"/>
                <a:ext cx="41050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ℏ</m:t>
                        </m:r>
                      </m:den>
                    </m:f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324000" y="1746000"/>
            <a:ext cx="85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i="1" lang="uk-UA" sz="1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і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i="1" lang="uk-UA" sz="1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- розподіли Фермі в обох провідних областях;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- ймовірність тунелюван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79280" y="2133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В припущенні параболічної форми енергетичних зон і ізотропної електронної ефективної маси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маємо простіший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2771640" y="2852640"/>
                <a:ext cx="2455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/>
                        </m:sSup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b/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46960" y="3696840"/>
            <a:ext cx="7626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де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Symbol"/>
                <a:ea typeface="Symbol"/>
              </a:rPr>
              <a:t>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і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поперечна і повна кінетичні енергії електронів в напівпровідн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258920" y="5084640"/>
                <a:ext cx="63374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q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d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179280" y="4111920"/>
            <a:ext cx="8642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ежами інтегрування по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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є нуль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а межами інтегрування по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лугують два рівні Фермі. Ймовірність тунельного струму через прямокутний бар’єр з ефективною висотою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шириною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б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має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920" y="5881680"/>
            <a:ext cx="8713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де постійна </a:t>
            </a:r>
            <a:r>
              <a:rPr b="0" i="1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якщо ефективна маса в діелектрику рівна масі вільного електрона і якщо значення </a:t>
            </a:r>
            <a:r>
              <a:rPr b="0" i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имірюються відповідно у вольтах і ангстре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50920" y="276480"/>
            <a:ext cx="864216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кладання до металу малої від’ємної напруг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приведе до тунелювання електронів із металу на вільні стани в валентній зоні напівпровідника. Як видно з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. д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збільшення напруги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водить до збільшення ефективної висоти бар’єра, через який електрони тунелюють з металу на порожні стани в валентній зоні, а відповідно, до появи спадаючої ділянки на вольт-амперній характеристиці (при умові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&lt;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V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а)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днак вклад в струм може вносити і компонента іншої природи, обумовлюючи тунелювання електронів з більшими енергіями з металу на порожні поверхневі стани, де ці електрони будуть рекомбінувати з дірками з валентної зони. Оскільки висота бар’єру для такого тунелювання зменшується з ростом зміщення, вольт-амперна характеристика цієї компоненти струму буде монотонно зростаючо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Нарешті при подальшому збільшенні зміщення з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вляється третя, дуже швидко наростаюча компонента тунельного струму, обумовлена переходом носіїв з металу в зону провідності напівпровідник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4000" y="43660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Розглянемо тунелювання в структурі з напівпровідником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Times New Roman"/>
              </a:rPr>
              <a:t>n</a:t>
            </a:r>
            <a:r>
              <a:rPr b="1" i="1" lang="ru-RU" sz="1800" spc="-1" strike="noStrike" u="sng" baseline="30000">
                <a:solidFill>
                  <a:srgbClr val="0000cc"/>
                </a:solidFill>
                <a:uFillTx/>
                <a:latin typeface="Times New Roman"/>
              </a:rPr>
              <a:t>++</a:t>
            </a:r>
            <a:r>
              <a:rPr b="1" lang="uk-UA" sz="1800" spc="-1" strike="noStrike" u="sng">
                <a:solidFill>
                  <a:srgbClr val="0000cc"/>
                </a:solidFill>
                <a:uFillTx/>
                <a:latin typeface="Times New Roman"/>
              </a:rPr>
              <a:t> типу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Ефективна висота діелектричного бар’єра у випадку напівпровідник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+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 тип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е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овинна бути меншою, ніж у випадку напівпровідник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uk-UA" sz="1800" spc="-1" strike="noStrike" baseline="30000">
                <a:solidFill>
                  <a:srgbClr val="0000cc"/>
                </a:solidFill>
                <a:latin typeface="Times New Roman"/>
              </a:rPr>
              <a:t>+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 типу, а відповідно, повинна бути більшою і величина тунельного струм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При від’ємній напрузі на металі електрони тунелюють із метала на порожні стани в зоні провідності напівпровідника, що приводить до великого, швидко зростаючого струм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ж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79280" y="33336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ала позитивна напруга на металі приводить до підсилення тунелювання електронів з зони провідності напівпровідника в метал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з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кщо поверхневі стати заповнені електронами, захопленими з зони провідності, подальше збільшення напруги приведе до росту другої компоненти струму, обумовленої тунелюванням електронів з поверхневих станів в метал. Ця компонента струму зростає зі збільшенням напруги внаслідок зменшення ефективного діелектричного бар’є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і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 більших напругах, крім того, виявляється можливим тунелювання з валентної зони в метал. Однак вклад цієї компоненти струму в повну вольт-амперну характеристику невеликий через відносно велику висоту бар’є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к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Таким чином, вплив зонної структури напівпровідника на тунельні характеристики МДН структур з підкладкам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+</a:t>
            </a:r>
            <a:r>
              <a:rPr b="0" lang="uk-UA" sz="18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типу виявляється значно більш слабким, ніж у випадку структур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ru-RU" sz="1800" spc="-1" strike="noStrike" baseline="30000">
                <a:solidFill>
                  <a:srgbClr val="0000cc"/>
                </a:solidFill>
                <a:latin typeface="Times New Roman"/>
              </a:rPr>
              <a:t>++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 тип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4315680"/>
            <a:ext cx="86407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кисли, які вирощені в атмосфері сухого кисню (крива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, у вологій атмосфері (крива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 і у вологій атмосфері з послідуючим 30-хвилинним відпалом при 350</a:t>
            </a:r>
            <a:r>
              <a:rPr b="0" lang="uk-UA" sz="18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С в атмосфері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lang="ru-RU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(крива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. Зонна структура напівпровідника краще проявляється на вольт-амперних характеристиках, що зняті при від’ємних напругах. Видно, що струм відносно повільно наростає при збільшенні напруги до значення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1 В, після чого швидкість зростання струму збільшується. Ця напруга відповідає ширині забороненої зони кремнію при сильному легуванні, яке приводить до утворення хвостів густини станів поблизу країв з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Arial"/>
              </a:rPr>
              <a:t>НВЧ діапазон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13880" y="83592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НВЧ діапазон – 0,1 ГГц – 1000 ГГц  (300 см – 0,3 м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99320" y="1196280"/>
            <a:ext cx="55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30-300 ГГц – діапазон міліметрових хвиль (10 – 1 м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31440" y="169164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и діапазонів і смуг част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33600" y="2151000"/>
          <a:ext cx="6076800" cy="457524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 діапаз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уга частот, Г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ліметров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міліметров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0-0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0-0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0-1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-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0-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-4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00-6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0-8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00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0-2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00-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00-6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0"/>
            <a:ext cx="3284640" cy="45086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0" y="4581360"/>
            <a:ext cx="53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ольт-амперні характеристики трьох зразків на кремнієвій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ідкладці з шаром окислу товщиною 2 нм, створеного різними способами. Характеристики виміряні при кімнатній температурі (300 К) показані суцільними лініями, а виміряні при температурі рідкого азоту (125 К) – штриховими ліні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88000" y="5602320"/>
            <a:ext cx="41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24360" y="190440"/>
            <a:ext cx="48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Очевидно, що від’ємний опір, який передбачався при малих від’ємних напругах, як говорилось вище, маскується тунелюванням електронів з металу на поверхневі стани. Крив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, б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принципово не відрізняються від кривох в, однак для них характерні суттєво високі значення струмів при напругах, що відповідають забороненій зоні (-1.1 В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&lt;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&lt;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0). Якщо допустити, що величина струму в цьому діапазоні напруг пропорційна густині поверхневих станів, то звідси слідує висновок про зростання густини поверхневих станів на один-два порядки при відмові від водневого відпалу у випадку вологого окислення або при вирощуванні окисла в атмосфері сухого кисн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508720" y="43657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Цей висновок якісно узгоджується з експериментальними даними, отриманими при вивченні густини поверхневих станів, які виникають при аналогічних способах вирощування окислів великої товщини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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10 нм).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08720" y="0"/>
            <a:ext cx="3448080" cy="4869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492360" y="511812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ості провідності від напруги, що виміряні при різних частотах. Крива для стаціонарної провідності отримана за допомогою диференціюванн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ривих ((300 К) показані суцільними лініями, а виміряні при температурі рідкого азоту (125 К) – штриховими лінія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601560"/>
            <a:ext cx="504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Вплив зонної структури напівпровідника і густини поверхневих станів на характеристики тунелювання в стаціонарних умовах виявляється ще більш яскраво вираженим на залежності провідності від напруги. Ліві гілки кривих пр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&lt; -1.1 В відповідають тунелюванню електронів із металу в зону провідності; праві гілки пр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&gt; 0 відповідають тунелюванню із валентної зони в метал. Мінімум провідності при малих від’ємних напругах є результатом суперпозиції двох компонентів струму (рис.г). Очевидно, що очікувана від’ємна провідність, яка пов’язана з першою компонентою струму, компенсується більшою позитивною провідністю, пов’язану з протіканням струму через поверхневі ста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Переключаючий МДН діод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4000" y="981000"/>
            <a:ext cx="3531960" cy="4608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50920" y="5733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ереключаючий МДН-діод (а) і й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подібна вольт-амперна характеристика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780000" cy="5112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211640" y="606852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нергетичні діаграми переключаючого МДН- діода при різних напруг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Тунельний МДМ діод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765000"/>
            <a:ext cx="3870000" cy="46785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50920" y="5559480"/>
            <a:ext cx="4176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тунельного опору симетричної МДМ-структури від напруги. На вставці показані зонні діаграми 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0 і 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284720" y="1268280"/>
                <a:ext cx="4543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m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b/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4141080" y="26362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и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4067280" y="3284640"/>
                <a:ext cx="5076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ϕ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ϕ</m:t>
                                </m:r>
                              </m:e>
                            </m:bar>
                          </m:e>
                        </m:bar>
                      </m:e>
                    </m:rad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ϕ</m:t>
                        </m:r>
                      </m:e>
                    </m:ba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ϕ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V</m:t>
                        </m:r>
                      </m:e>
                    </m:rad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211640" y="4581360"/>
                <a:ext cx="201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≡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h</m:t>
                    </m:r>
                    <m:r>
                      <m:t xml:space="preserve">(</m:t>
                    </m:r>
                    <m:r>
                      <m:t xml:space="preserve">Δ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6732720" y="4581360"/>
                <a:ext cx="20160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≡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Δd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m</m:t>
                            </m:r>
                          </m:e>
                        </m:ra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11280" y="907920"/>
                <a:ext cx="7993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611280" y="260280"/>
            <a:ext cx="806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и 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0" i="1" lang="uk-UA" sz="1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uk-UA" sz="1800" spc="-1" strike="noStrike">
                <a:solidFill>
                  <a:srgbClr val="0033cc"/>
                </a:solidFill>
                <a:latin typeface="Symbol"/>
                <a:ea typeface="Symbol"/>
              </a:rPr>
              <a:t></a:t>
            </a:r>
            <a:r>
              <a:rPr b="0" i="1" lang="uk-UA" sz="18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i="1" lang="uk-UA" sz="18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0" i="1" lang="uk-UA" sz="18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/2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густина струму р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0080" y="1609200"/>
            <a:ext cx="588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и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&gt;</a:t>
            </a:r>
            <a:r>
              <a:rPr b="0" i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маємо </a:t>
            </a:r>
            <a:r>
              <a:rPr b="0" i="1" lang="uk-UA" sz="18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i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/2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і густина струму рі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755640" y="2133720"/>
                <a:ext cx="6912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h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465120" y="3788640"/>
            <a:ext cx="40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– 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електричне поле в діелектр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580000" y="3716280"/>
                <a:ext cx="22557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qπ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324000" y="4976640"/>
            <a:ext cx="8424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дуже великих напругах, таких, що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&gt;(</a:t>
            </a:r>
            <a:r>
              <a:rPr b="0" i="1" lang="ru-RU" sz="18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8000"/>
                </a:solidFill>
                <a:latin typeface="Times New Roman"/>
              </a:rPr>
              <a:t>0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8000"/>
                </a:solidFill>
                <a:latin typeface="Times New Roman"/>
              </a:rPr>
              <a:t>F 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q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i="1" lang="uk-U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другим доданком в квадратних дужках можна знехтувати, і тоді отримуємо відому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формулу Фаулера-Нордгей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260280"/>
            <a:ext cx="3240000" cy="55389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0" y="580536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тунельного опору асиметричної МДМ-структури від напруги. На вставці показані зонні діаграми 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067280" y="1087920"/>
            <a:ext cx="4752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и низьких напругах 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0&lt;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0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величини </a:t>
            </a:r>
            <a:r>
              <a:rPr b="0" i="1" lang="uk-UA" sz="18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і </a:t>
            </a:r>
            <a:r>
              <a:rPr b="0" lang="uk-UA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30000">
                <a:solidFill>
                  <a:srgbClr val="0033cc"/>
                </a:solidFill>
                <a:latin typeface="Times New Roman"/>
              </a:rPr>
              <a:t>--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рівні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 і 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0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)/2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і не залежать від полярності напруги. При цьому від полярності не залежить і вольт-амперна характерист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95640" y="3265560"/>
            <a:ext cx="496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При великих напругах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i="1" lang="ru-RU" sz="18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середня висота бар’єру </a:t>
            </a:r>
            <a:r>
              <a:rPr b="0" i="1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-- 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і ефективна довжина тунелювання </a:t>
            </a:r>
            <a:r>
              <a:rPr b="0" i="1" lang="uk-UA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uk-UA" sz="1800" spc="-1" strike="noStrike">
                <a:solidFill>
                  <a:srgbClr val="008000"/>
                </a:solidFill>
                <a:latin typeface="Times New Roman"/>
              </a:rPr>
              <a:t> починають залежати від полярност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476360" y="372960"/>
            <a:ext cx="6048360" cy="46627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131280" y="52696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хема крайового МОМ- ді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Тунельний транзистор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4000" y="907920"/>
            <a:ext cx="3063600" cy="48229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284720" y="1052640"/>
            <a:ext cx="4295880" cy="460836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79280" y="5930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унельний МДМДМ-транзистор (а), тунельний МДМН-транзистор (б) і тунельний МД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–транзистор (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16360" y="56098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ольт-амперні характеристики колектора тунельного МД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 –транзистора. На вставці показана діаграма поперечного перерізу прила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Тунельний транзистор</a:t>
            </a:r>
            <a:br>
              <a:rPr sz="3600"/>
            </a:br>
            <a:r>
              <a:rPr b="1" lang="uk-UA" sz="3200" spc="-1" strike="noStrike">
                <a:solidFill>
                  <a:srgbClr val="0066cc"/>
                </a:solidFill>
                <a:latin typeface="Arial"/>
              </a:rPr>
              <a:t>(гетероперехідний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494160" cy="4248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716360" y="1484280"/>
            <a:ext cx="3924360" cy="37418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80500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нергетичні діаграми транзистора з тунельно-тонкою базою в стані теплової рівноваги (а) і при напрузі (б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80000" y="5949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лежність струму емітера і струму колектора від напрузі на базі і колектор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66ff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268360" y="-212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cc"/>
                </a:solidFill>
                <a:latin typeface="Times New Roman"/>
              </a:rPr>
              <a:t>Напівпровідникові прилади НВЧ-діапазо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50920" y="333360"/>
          <a:ext cx="8640720" cy="6329160"/>
        </p:xfrm>
        <a:graphic>
          <a:graphicData uri="http://schemas.openxmlformats.org/drawingml/2006/table">
            <a:tbl>
              <a:tblPr/>
              <a:tblGrid>
                <a:gridCol w="3346560"/>
                <a:gridCol w="5294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 робо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арак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іполярний транзис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іод з точковим контакт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Діод Шоттк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ольовий транзистор з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ольовий транзистор з бар’єром Шоттк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Н-транзис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Тунельний ді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рнений ді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ЛП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ІП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Прольотний діод з захопленим об’ємним зарядом лавин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Прилад на ефекті між долинного переходу електроні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ежність ємності від напруги зміщенн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мність практично постійна, висока напруга пробою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а участь електронів і дірок в транспортних процесах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 площа, мала ємні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м основних носіїв, термоелектронна емісі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носії, струм модульований напругою на затворі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носії, струм модульований зміщенням на бар’єрі Шотткі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сновні носії рухаються в інверсійному каналі біля поверхні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нелювання в прямо зміщеному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ході, від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мний диференційний опі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нелювання в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ході при оберненому або або майже нульовому зміщенні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винне помноження і прольотні ефекти для генерації потужного випроміненн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ісія через бар’єр і прольотні ефек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плення плазми в лавинно-прольотному діоді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и переходять з низько енергетичних станів з високою рухливістю в високоенергетичні стани з низькою рухливістю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Тунелювання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4000" y="2496960"/>
            <a:ext cx="856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Times New Roman"/>
              </a:rPr>
              <a:t>Час тунелювання через потенціальний бар’єр визначається за допомогою ймовірності квантово-механічного переходу за одиницю час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cc"/>
                </a:solidFill>
                <a:latin typeface="Times New Roman"/>
              </a:rPr>
              <a:t>Ця ймовірність пропорційна </a:t>
            </a:r>
            <a:r>
              <a:rPr b="0" i="1" lang="en-US" sz="2000" spc="-1" strike="noStrike">
                <a:solidFill>
                  <a:srgbClr val="0066cc"/>
                </a:solidFill>
                <a:latin typeface="Times New Roman"/>
              </a:rPr>
              <a:t>exp</a:t>
            </a:r>
            <a:r>
              <a:rPr b="0" i="1" lang="uk-UA" sz="2000" spc="-1" strike="noStrike">
                <a:solidFill>
                  <a:srgbClr val="0066cc"/>
                </a:solidFill>
                <a:latin typeface="Times New Roman"/>
              </a:rPr>
              <a:t>[-2</a:t>
            </a:r>
            <a:r>
              <a:rPr b="0" i="1" lang="en-US" sz="2000" spc="-1" strike="noStrike">
                <a:solidFill>
                  <a:srgbClr val="0066cc"/>
                </a:solidFill>
                <a:latin typeface="Times New Roman"/>
              </a:rPr>
              <a:t>k</a:t>
            </a:r>
            <a:r>
              <a:rPr b="0" i="1" lang="uk-UA" sz="2000" spc="-1" strike="noStrike">
                <a:solidFill>
                  <a:srgbClr val="0066cc"/>
                </a:solidFill>
                <a:latin typeface="Times New Roman"/>
              </a:rPr>
              <a:t>(0)</a:t>
            </a:r>
            <a:r>
              <a:rPr b="0" i="1" lang="en-US" sz="2000" spc="-1" strike="noStrike">
                <a:solidFill>
                  <a:srgbClr val="0066cc"/>
                </a:solidFill>
                <a:latin typeface="Times New Roman"/>
              </a:rPr>
              <a:t>W</a:t>
            </a:r>
            <a:r>
              <a:rPr b="0" i="1" lang="uk-UA" sz="2000" spc="-1" strike="noStrike">
                <a:solidFill>
                  <a:srgbClr val="0066cc"/>
                </a:solidFill>
                <a:latin typeface="Times New Roman"/>
              </a:rPr>
              <a:t>]</a:t>
            </a:r>
            <a:r>
              <a:rPr b="0" lang="uk-UA" sz="2000" spc="-1" strike="noStrike">
                <a:solidFill>
                  <a:srgbClr val="0066cc"/>
                </a:solidFill>
                <a:latin typeface="Times New Roman"/>
              </a:rPr>
              <a:t>, де </a:t>
            </a:r>
            <a:r>
              <a:rPr b="0" i="1" lang="en-US" sz="2000" spc="-1" strike="noStrike">
                <a:solidFill>
                  <a:srgbClr val="0066cc"/>
                </a:solidFill>
                <a:latin typeface="Times New Roman"/>
              </a:rPr>
              <a:t>k</a:t>
            </a:r>
            <a:r>
              <a:rPr b="0" i="1" lang="uk-UA" sz="2000" spc="-1" strike="noStrike">
                <a:solidFill>
                  <a:srgbClr val="0066cc"/>
                </a:solidFill>
                <a:latin typeface="Times New Roman"/>
              </a:rPr>
              <a:t>(0)</a:t>
            </a:r>
            <a:r>
              <a:rPr b="0" lang="uk-UA" sz="2000" spc="-1" strike="noStrike">
                <a:solidFill>
                  <a:srgbClr val="0066cc"/>
                </a:solidFill>
                <a:latin typeface="Times New Roman"/>
              </a:rPr>
              <a:t> – середнє значення хвильового вектора в процесі тунелювання, що приходиться на один носій з нульовим поперечним імпульсом і енергією , що дорівнює енергії Ферм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c0000"/>
                </a:solidFill>
                <a:latin typeface="Times New Roman"/>
              </a:rPr>
              <a:t>Час тунелювання пропорційний </a:t>
            </a:r>
            <a:r>
              <a:rPr b="0" i="1" lang="uk-UA" sz="2000" spc="-1" strike="noStrike">
                <a:solidFill>
                  <a:srgbClr val="cc0000"/>
                </a:solidFill>
                <a:latin typeface="Times New Roman"/>
              </a:rPr>
              <a:t>[2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0" i="1" lang="uk-UA" sz="2000" spc="-1" strike="noStrike">
                <a:solidFill>
                  <a:srgbClr val="cc0000"/>
                </a:solidFill>
                <a:latin typeface="Times New Roman"/>
              </a:rPr>
              <a:t>(0)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W</a:t>
            </a:r>
            <a:r>
              <a:rPr b="0" i="1" lang="uk-UA" sz="2000" spc="-1" strike="noStrike">
                <a:solidFill>
                  <a:srgbClr val="cc0000"/>
                </a:solidFill>
                <a:latin typeface="Times New Roman"/>
              </a:rPr>
              <a:t>].</a:t>
            </a:r>
            <a:r>
              <a:rPr b="0" lang="uk-UA" sz="2000" spc="-1" strike="noStrike">
                <a:solidFill>
                  <a:srgbClr val="cc0000"/>
                </a:solidFill>
                <a:latin typeface="Times New Roman"/>
              </a:rPr>
              <a:t> Він дуже малий і тому тунельні прилади можна використовувати в діапазоні міліметрових хви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4000" y="1628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Час тунелювання носіїв через потенціальний бар’єр не описується звичною мовою часу прольоту 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33cc"/>
                </a:solidFill>
                <a:latin typeface="Symbol"/>
                <a:ea typeface="Symbol"/>
              </a:rPr>
              <a:t>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W/v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 де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W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- ширина бар’єра,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- швидкість носії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2760" y="1147680"/>
            <a:ext cx="59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cc"/>
                </a:solidFill>
                <a:latin typeface="Times New Roman"/>
              </a:rPr>
              <a:t>В явищах тунелювання основну роль грають основні нос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Тунельний діод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1100160"/>
            <a:ext cx="4211640" cy="3602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79280" y="5065920"/>
            <a:ext cx="4248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нергетична діаграма тунельного діода в стані термічної рівноваги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ступені виродженн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області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 області відпові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24360" y="60087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105264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Завдяки високій надійності і досконалості технології виготовлення тунельні діоди використовуються в спеціальних НВЧ-приладах з низьким рівнем потужності, таких як гетеродин і схеми для синхронізації частоти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16360" y="2913480"/>
            <a:ext cx="424836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Тунельний діод являє собою простий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перехід,обидві сторони якого вироджені (тобто буже сильно леговані домішками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. В результаті сильного легування рівень Фермі проходить всередині дозволених зон. Ступінь виродження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і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зазвичай становить декілька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kT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q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, а ширина збідненого шару </a:t>
            </a:r>
            <a:r>
              <a:rPr b="0" lang="uk-UA" sz="1800" spc="-1" strike="noStrike">
                <a:solidFill>
                  <a:srgbClr val="0033cc"/>
                </a:solidFill>
                <a:latin typeface="Symbol"/>
                <a:ea typeface="Symbol"/>
              </a:rPr>
              <a:t>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10 нм і менша, ніж у звичайному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0" i="1" lang="uk-UA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перехо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954760" y="333360"/>
            <a:ext cx="3189240" cy="48690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364000" y="5229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ипова статична вольт-амперна характеристика тунельного діода (а) і три компоненти повного струму в тунельних діодах (б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50920" y="333360"/>
                <a:ext cx="1871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324000" y="907920"/>
                <a:ext cx="1873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2271240" y="333360"/>
            <a:ext cx="351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66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66cc"/>
                </a:solidFill>
                <a:latin typeface="Times New Roman"/>
              </a:rPr>
              <a:t>- ступінь виродження </a:t>
            </a:r>
            <a:r>
              <a:rPr b="0" lang="en-US" sz="1800" spc="-1" strike="noStrike">
                <a:solidFill>
                  <a:srgbClr val="0066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66cc"/>
                </a:solidFill>
                <a:latin typeface="Times New Roman"/>
              </a:rPr>
              <a:t>-облас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42880" y="858960"/>
            <a:ext cx="351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ступінь виродження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cc0000"/>
                </a:solidFill>
                <a:latin typeface="Times New Roman"/>
              </a:rPr>
              <a:t>-облас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1483920"/>
            <a:ext cx="49687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Зі статичної вольт-амперної характеристики тунельного діод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а)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видно, що струм у зворотньому напрямку (потенціал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області від’ємний по відношенню до потенціалу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області) монотонно збільшується. В прямому напрямку струм спочатку зростає до максимального значення (пікового значення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) принапрузі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, а потім зменшується до мінімальної величини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при напрузі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. При напругах, які перевищують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, струм зростає з ростом напруги по експоненційному закону. Повний статичний струм діода являє собою суму струму тунелювання із зони в зону, надлишкового і дифузійного струму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б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79280" y="283104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Умови протікання тунельного стру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1) енергетичні стани на тій стороні переходу звідки тунелюють електрони повинні бути заповнен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2) на іншій стороні переходу енергетичні стани з тією ж енергією повинні бути порожні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3) висота і ширина потенціального бар’єру повинні бути досить малими, щоб існувала помітна ймовірність тунелюван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4) має зберігатися квазіімпуль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7164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1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9280" y="189000"/>
            <a:ext cx="878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оведемо якісний аналіз тунельних процесів при температурі абсолютного нуля для спрощенної зонної структур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).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Відмітимо, що рівні Фермі проходять всередині дозволених зон напівпровідника, і в стані термодинамічної рівноваг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б)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рівень Фермі постійний у всьому напівпровіднику. Вище рівня Фермі всі стани з обох сторін переходу виявляються порожніми, а нижче рівня Фермі всі дозволені стани по обох сторонах переходу заповнені електронами. Тому при відсутності прикладеної напруги тунельний струм не протікає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22759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и подачі напруги на перехід електрони можуть тунелювати із валентної зони в зону провідності або навпа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9280" y="5229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Н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рис.а 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оказано, як тунелюють електрони із валентної зони в зону провідності при оберненому зміщенні на діоді. Відповідна величина струму відмічена крапкою на вольт-амперній характеристиці. При прямій напрузі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в)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існує діапазон енергій, прияких стани в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n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області заповнені, а дозволені стани в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p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області порожні. Природно, що електрони при цьому можуть тунелювати із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n-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області</a:t>
            </a:r>
            <a:r>
              <a:rPr b="0" lang="uk-UA" sz="1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в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p-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обла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403280" y="189000"/>
            <a:ext cx="6685200" cy="51418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79280" y="5302080"/>
            <a:ext cx="8785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рощені енергетичні діаграми тунельного ді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- при оберненому зміщенні; б- в тепловій рівновазі при нульовому зміщенні; в- при прямому зміщенні, що забезпечує максимальне значення струму; г- при прямому зміщенні, що відповідає протіканню струму близького до долинного; д- при прямому зміщенні, що відповідає дифузійному струм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042920" y="2305080"/>
            <a:ext cx="684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20" y="188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и збільшенні прямої напруги кількість дозволених порожніх станів в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області, в які можуть тунелювати електрони з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області зменшуєтьс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г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780480"/>
            <a:ext cx="871380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Якщо ж пряма напруга має таке значення, що зони «не перекриваються», тобто енергія дна зони провідності точно співпадає з енергією стелі валентної зони, то недозволені порожні стани, які відповідають заповненим станам, відсутні. Отже в цій точці тунельний струм має щезати. При подальшому збільшенні напруги буде протікати звичайний дифузійний струм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 д)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який експоненційно зростає з ростом напруги. Таким чином, слід очікувати, що при збільшенні прямої напруги тунельний струм спочатку зростає від нуля до максимального значенн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а потім зменшується до нуля, коли прикладена пряма напруг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(рис.),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де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ступінь виродженн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област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=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Fn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C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 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- ступінь виродженн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-област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=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V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Times New Roman"/>
              </a:rPr>
              <a:t>Fp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/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).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Спадаюча ділянка вольт-амперної характеристики відповідає області 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</a:rPr>
              <a:t>від’ємного диференційного опо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6:59:09Z</dcterms:created>
  <dc:creator>Home_RDM</dc:creator>
  <dc:description/>
  <dc:language>en-US</dc:language>
  <cp:lastModifiedBy>Anatoli</cp:lastModifiedBy>
  <dcterms:modified xsi:type="dcterms:W3CDTF">2013-11-17T15:52:47Z</dcterms:modified>
  <cp:revision>276</cp:revision>
  <dc:subject/>
  <dc:title>NANOCRYSTAL MEMORY</dc:title>
</cp:coreProperties>
</file>