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F1837-28A4-469D-97D9-808403B9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62303-C414-43DC-83A5-9860B9AA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15823-DD0C-4776-99DA-1593220A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A117-B310-495E-BE89-0C57FB35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4584-7E8E-4EB4-9B96-92647C95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865D-D513-45AE-9214-8FAD79D7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084F-3E10-4333-99F6-14380CB0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2ED7-A577-4A2D-9A1E-A2349126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275B-AA99-4C16-9EAA-DF520CBF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24E7-B1BF-4EEE-B4C1-DA48F5B0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B876-BBF6-4FC3-BF7E-860F0AA8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72D7C-EDC7-4CBE-8C91-5D7CCC6E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1FA5-4505-4583-AAAF-AD226038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ACB8-77F2-4EB9-9214-6F7ACF7F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542B-30E3-4DEE-B46A-84185691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3421-0974-445F-BF95-F1E4110A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E3C7-184C-49CF-908C-F49EAE3A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C85E-8E58-46ED-869D-14DCC3CA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4994C-D163-4B63-9E3D-ACA25C26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38C20-B868-4D1D-9F0A-F9100C6E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F4803-C6DE-410D-9D42-F2170298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71595-0675-4B58-9EC8-E7998309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615A2-E2C8-4C1D-BFD6-D7C46B20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933B1-EA7E-4B8F-977C-37FB7BCB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FFBB-89A5-4890-AD23-A9D75F3238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0DFB-E7D4-4D6E-B32B-E9F9AAA877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uk-UA" sz="3600" spc="-1" strike="noStrike">
                <a:solidFill>
                  <a:srgbClr val="ff9900"/>
                </a:solidFill>
                <a:latin typeface="Arial"/>
              </a:rPr>
              <a:t>ОСНОВИ НАПІВПРОВІДНИКОВОЇ ЕЛЕКТРОНІКИ </a:t>
            </a:r>
            <a:br>
              <a:rPr sz="3600"/>
            </a:b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Лекція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3</a:t>
            </a:r>
            <a:br>
              <a:rPr sz="3200"/>
            </a:br>
            <a:br>
              <a:rPr sz="4000"/>
            </a:br>
            <a:r>
              <a:rPr b="1" lang="uk-UA" sz="4000" spc="-1" strike="noStrike">
                <a:solidFill>
                  <a:srgbClr val="009900"/>
                </a:solidFill>
                <a:latin typeface="Arial"/>
              </a:rPr>
              <a:t>Прилади на ефекті міждолинного переходу електронів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68360" y="4626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9900"/>
                </a:solidFill>
                <a:latin typeface="Arial"/>
              </a:rPr>
              <a:t>Анатолій Євту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Інститут високих технологі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Київського національного університету імені Тараса Шевче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9D3DC-C27E-4A78-BF7E-E41C59E2B6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0920" y="18900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При цьому електричне поле зліва від точки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А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стає ще меншим, що сприяє подальшому накопленню заряду. Цей процес продовжується до тих пір, поки напруженості електричного поля в області поза точкою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А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не будуть відповідати точкам 1 і 2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J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кривої 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3а,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в якій струми рівні, а диференційний питомий опір позитивний. В результаті утворюється шар, що рухається, збагачений носіями. Цей процес, безумовно, залежить від кількості електронів в кристалі, яка має бути достатньою для формування шару просторового заряду за час його прольоту через зраз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D747-E560-43F3-98E5-E62581AD0A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79280" y="260280"/>
            <a:ext cx="4181760" cy="581184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4356000" y="5784480"/>
            <a:ext cx="46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4. Формування електричного дипольного шару в збудженому середовищі з від’ємним диференційним опором (ВДО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27640" y="335160"/>
            <a:ext cx="4535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Ідеальний збагачений шар, про який говорилось до сих пір, являє собою найпростіший приклад нестабільності об’ємного заряду, Якщо позитивні і негативні заряди розділені невеликим просторовим проміжком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 4),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то ми маємо справу з утворенням дипольного шару (домена). Поле всередині домена більше, ніж поза ним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 4в)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Через ВДО струм в області низького електричного поля буде більший, ніж всередині домена. Значення напруженості електричного поля поза і в середині домена будуть прагнути до стаціонарних, що відповідають точкам на залежност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J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від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які лежать поза ділянкою ВДО, в яких електричні струми рівні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 3а)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(При цьому ми не враховували товщину доменних стінок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3E9D3-DBC9-4106-979D-EE4298D2E7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4572000" y="189000"/>
            <a:ext cx="439272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Таким чином домен досягає стабільної конфігурації. Дипольний шар рухається через кристал і щезає на аноді. В цей момент електричне поле починає зростати, залишаючись однорідним в напівпровіднику, до тих пір, поки не перевищить порогове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&gt;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а),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що приведе до утворення нового домена і повторення процесу.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79280" y="333360"/>
            <a:ext cx="3826080" cy="600696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4643280" y="4581360"/>
            <a:ext cx="432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5. Мінімальна густина струму і відповідна напруженість електричного поля для приладів з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-подібним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- характеристиками, що керуються напругою (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), і для приладів з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– подібним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- характеристиками, що керуються струмом (б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ADE0D-6D3B-4897-A737-415971409A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4140360" y="562752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630880" y="188280"/>
            <a:ext cx="30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Times New Roman"/>
              </a:rPr>
              <a:t>Товщина дипольного шар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1258920" y="765000"/>
                <a:ext cx="26636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5940360" y="549360"/>
                <a:ext cx="16574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1836360" y="2780640"/>
            <a:ext cx="47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Times New Roman"/>
              </a:rPr>
              <a:t>Площа поперечного перерізу шнура струм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1619280" y="4221000"/>
                <a:ext cx="27352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5580000" y="4149720"/>
                <a:ext cx="16668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1" name=""/>
          <p:cNvSpPr/>
          <p:nvPr/>
        </p:nvSpPr>
        <p:spPr>
          <a:xfrm>
            <a:off x="324000" y="1186560"/>
            <a:ext cx="86407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е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L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 довжина зразка. Допустимо, що найбільш стабільний стан відповідає мінімальній потужності, що споживається приладом від джерела живлення. Це значить, що при постійній напрузі струм має бути мінімальним. Як слідує з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5а,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товщина дипольного шару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визначається виразом, якщо замінити в ньому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i="1" lang="uk-UA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i="1" lang="uk-UA" sz="1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на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i="1" lang="uk-UA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m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i="1" lang="uk-UA" sz="1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ідповід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79280" y="314136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6600"/>
                </a:solidFill>
                <a:latin typeface="Times New Roman"/>
              </a:rPr>
              <a:t>Аналогічний розгляд можна провести і для зразка з </a:t>
            </a:r>
            <a:r>
              <a:rPr b="0" i="1" lang="en-US" sz="1800" spc="-1" strike="noStrike">
                <a:solidFill>
                  <a:srgbClr val="336600"/>
                </a:solidFill>
                <a:latin typeface="Times New Roman"/>
              </a:rPr>
              <a:t>S</a:t>
            </a:r>
            <a:r>
              <a:rPr b="0" lang="ru-RU" sz="1800" spc="-1" strike="noStrike">
                <a:solidFill>
                  <a:srgbClr val="336600"/>
                </a:solidFill>
                <a:latin typeface="Times New Roman"/>
              </a:rPr>
              <a:t>-</a:t>
            </a:r>
            <a:r>
              <a:rPr b="0" lang="uk-UA" sz="1800" spc="-1" strike="noStrike">
                <a:solidFill>
                  <a:srgbClr val="336600"/>
                </a:solidFill>
                <a:latin typeface="Times New Roman"/>
              </a:rPr>
              <a:t> подібною  характеристикою. Замість домена ми розглянемо струм з площею поперечного перерізу </a:t>
            </a:r>
            <a:r>
              <a:rPr b="0" i="1" lang="uk-UA" sz="1800" spc="-1" strike="noStrike">
                <a:solidFill>
                  <a:srgbClr val="336600"/>
                </a:solidFill>
                <a:latin typeface="Times New Roman"/>
              </a:rPr>
              <a:t>а</a:t>
            </a:r>
            <a:r>
              <a:rPr b="0" lang="uk-UA" sz="1800" spc="-1" strike="noStrike">
                <a:solidFill>
                  <a:srgbClr val="336600"/>
                </a:solidFill>
                <a:latin typeface="Times New Roman"/>
              </a:rPr>
              <a:t>. В стаціонарних умовах для заданої величини струму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 5б)</a:t>
            </a:r>
            <a:r>
              <a:rPr b="0" lang="uk-UA" sz="1800" spc="-1" strike="noStrike">
                <a:solidFill>
                  <a:srgbClr val="336600"/>
                </a:solidFill>
                <a:latin typeface="Times New Roman"/>
              </a:rPr>
              <a:t> отримає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58920" y="5138640"/>
            <a:ext cx="86058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00"/>
                </a:solidFill>
                <a:latin typeface="Times New Roman"/>
              </a:rPr>
              <a:t>де </a:t>
            </a:r>
            <a:r>
              <a:rPr b="0" i="1" lang="uk-UA" sz="1800" spc="-1" strike="noStrike">
                <a:solidFill>
                  <a:srgbClr val="006600"/>
                </a:solidFill>
                <a:latin typeface="Times New Roman"/>
              </a:rPr>
              <a:t>А</a:t>
            </a:r>
            <a:r>
              <a:rPr b="0" lang="uk-UA" sz="1800" spc="-1" strike="noStrike">
                <a:solidFill>
                  <a:srgbClr val="006600"/>
                </a:solidFill>
                <a:latin typeface="Times New Roman"/>
              </a:rPr>
              <a:t> – площа поперечного перерізу приладу. Якщо потужність, що споживається мінімальна, напруга також має бути мінімальною, а площу поперечного перерізу шнура можна знайти з виразу, замінивши в ньому 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J</a:t>
            </a:r>
            <a:r>
              <a:rPr b="0" i="1" lang="uk-UA" sz="1800" spc="-1" strike="noStrike" baseline="-25000">
                <a:solidFill>
                  <a:srgbClr val="006600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6600"/>
                </a:solidFill>
                <a:latin typeface="Times New Roman"/>
              </a:rPr>
              <a:t> і 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J</a:t>
            </a:r>
            <a:r>
              <a:rPr b="0" i="1" lang="uk-UA" sz="1800" spc="-1" strike="noStrike" baseline="-25000">
                <a:solidFill>
                  <a:srgbClr val="006600"/>
                </a:solidFill>
                <a:latin typeface="Times New Roman"/>
              </a:rPr>
              <a:t>1</a:t>
            </a:r>
            <a:r>
              <a:rPr b="0" lang="uk-UA" sz="1800" spc="-1" strike="noStrike">
                <a:solidFill>
                  <a:srgbClr val="006600"/>
                </a:solidFill>
                <a:latin typeface="Times New Roman"/>
              </a:rPr>
              <a:t> на 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J</a:t>
            </a:r>
            <a:r>
              <a:rPr b="0" i="1" lang="uk-UA" sz="1800" spc="-1" strike="noStrike" baseline="-25000">
                <a:solidFill>
                  <a:srgbClr val="006600"/>
                </a:solidFill>
                <a:latin typeface="Times New Roman"/>
              </a:rPr>
              <a:t>2</a:t>
            </a:r>
            <a:r>
              <a:rPr b="0" i="1" lang="en-US" sz="1800" spc="-1" strike="noStrike" baseline="-25000">
                <a:solidFill>
                  <a:srgbClr val="006600"/>
                </a:solidFill>
                <a:latin typeface="Times New Roman"/>
              </a:rPr>
              <a:t>m</a:t>
            </a:r>
            <a:r>
              <a:rPr b="0" lang="uk-UA" sz="1800" spc="-1" strike="noStrike">
                <a:solidFill>
                  <a:srgbClr val="006600"/>
                </a:solidFill>
                <a:latin typeface="Times New Roman"/>
              </a:rPr>
              <a:t> і 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J</a:t>
            </a:r>
            <a:r>
              <a:rPr b="0" i="1" lang="uk-UA" sz="1800" spc="-1" strike="noStrike" baseline="-25000">
                <a:solidFill>
                  <a:srgbClr val="006600"/>
                </a:solidFill>
                <a:latin typeface="Times New Roman"/>
              </a:rPr>
              <a:t>1</a:t>
            </a:r>
            <a:r>
              <a:rPr b="0" i="1" lang="en-US" sz="1800" spc="-1" strike="noStrike" baseline="-25000">
                <a:solidFill>
                  <a:srgbClr val="006600"/>
                </a:solidFill>
                <a:latin typeface="Times New Roman"/>
              </a:rPr>
              <a:t>m</a:t>
            </a:r>
            <a:r>
              <a:rPr b="0" lang="uk-UA" sz="1800" spc="-1" strike="noStrike">
                <a:solidFill>
                  <a:srgbClr val="006600"/>
                </a:solidFill>
                <a:latin typeface="Times New Roman"/>
              </a:rPr>
              <a:t> відповід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99964-2EE6-4E8B-8DB8-C24B96F9A0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Arial"/>
              </a:rPr>
              <a:t>Міждолинний перехід електронів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79280" y="1052640"/>
            <a:ext cx="4267440" cy="444816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179280" y="566856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6. Структура енергетичних зон арсеніда галію і фосфіда інді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643280" y="981000"/>
            <a:ext cx="410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Перехід електронів з основного мінімума зони провідності з відносно великою рухливістю в побічні більш високоенергетичні мінімуми з меншими рухливостями називається </a:t>
            </a: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ефектом міждолинного переходу електроні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643280" y="3898800"/>
            <a:ext cx="43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643280" y="521640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643280" y="3214080"/>
            <a:ext cx="43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ля того щоб зрозуміти, як цей ефект приводить до появи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від’ємного диференційного опору,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розглянемо залежності енергії електрона від квазіімпульсу в арсеніді галію і фосфіді індію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 6)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– двох найбільш важливих для таких приладів напівпровідників. Видно, що зонні структури цих напівпровідників майже однакові. Зона провідності складається з декількох підзон. Дно зони провідності відповідає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k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=0 (точка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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A31DE-A87B-4478-8198-4A5C700BDB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250920" y="1197000"/>
            <a:ext cx="87138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Отримаємо наближене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співвідношення між дрейфовою швидкістю і напруженістю електричного поля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спираючись на припущення про рівність електронних температур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e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в нижній (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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 і верхній (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L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 долин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06360" y="3789360"/>
            <a:ext cx="844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ff"/>
                </a:solidFill>
                <a:uFillTx/>
                <a:latin typeface="Times New Roman"/>
              </a:rPr>
              <a:t>Густину стаціонарного струму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в напівпровіднику можна представити наступним чино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2700360" y="4365720"/>
                <a:ext cx="36003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nv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250920" y="18900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Перша більш високо енергетична зона розміщена в напрямку &lt;111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&gt;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 (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L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, а наступна – вздовж осі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&lt;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100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&gt;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 (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.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Таким чином підзони в цих напівпровідниках мають наступну послідовність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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 -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L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-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79280" y="2201760"/>
            <a:ext cx="87138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еличина енергетичної щілини між мінімумами зони провідності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0.31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еВ для арсеніду галію і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0.53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еВ для фосфіду індію. Введемо позначення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0" i="1" lang="uk-UA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i="1" lang="uk-UA" sz="1800" spc="-1" strike="noStrike" baseline="30000">
                <a:solidFill>
                  <a:srgbClr val="0000cc"/>
                </a:solidFill>
                <a:latin typeface="Times New Roman"/>
              </a:rPr>
              <a:t>*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0" i="1" lang="uk-UA" sz="1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uk-UA" sz="1800" spc="-1" strike="noStrike" baseline="30000">
                <a:solidFill>
                  <a:srgbClr val="0000cc"/>
                </a:solidFill>
                <a:latin typeface="Times New Roman"/>
              </a:rPr>
              <a:t>*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– ефективні маси,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i="1" lang="uk-UA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і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i="1" lang="uk-UA" sz="1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– рухливості,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uk-UA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uk-UA" sz="1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– концентрація електронів в нижній і верхній долинах відповідно, причому повна концентрація носіїв заряду рівна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uk-UA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uk-UA" sz="1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65840" y="5013360"/>
            <a:ext cx="35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де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- середня дрейфова швидкі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2556000" y="5734080"/>
                <a:ext cx="324144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E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E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9" name=""/>
          <p:cNvSpPr/>
          <p:nvPr/>
        </p:nvSpPr>
        <p:spPr>
          <a:xfrm>
            <a:off x="6452640" y="5826240"/>
            <a:ext cx="148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так як </a:t>
            </a:r>
            <a:r>
              <a:rPr b="0" lang="uk-UA" sz="18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uk-UA" sz="1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&gt;&gt;</a:t>
            </a:r>
            <a:r>
              <a:rPr b="0" lang="ru-RU" sz="18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uk-UA" sz="1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0AC20-56C9-4243-BF20-AC612636C3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56360" y="109872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50920" y="1882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відношення заселеностей верхньої і нижньої долини, які розділені енергетичним зазором </a:t>
            </a:r>
            <a:r>
              <a:rPr b="0" i="1" lang="uk-UA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, рів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2700360" y="981000"/>
                <a:ext cx="201600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ΔΕ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>
            <a:off x="245520" y="1843920"/>
            <a:ext cx="61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де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– відношення густини станів в верхній і нижній долин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771640" y="2205000"/>
                <a:ext cx="1800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num>
                      <m:den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8" name=""/>
          <p:cNvSpPr/>
          <p:nvPr/>
        </p:nvSpPr>
        <p:spPr>
          <a:xfrm>
            <a:off x="255600" y="2977920"/>
            <a:ext cx="528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а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i="1" lang="ru-RU" sz="1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і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i="1" lang="ru-RU" sz="1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- число верхніх і нижніх долин відповід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79280" y="3372480"/>
            <a:ext cx="882036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Для </a:t>
            </a:r>
            <a:r>
              <a:rPr b="1" lang="uk-UA" sz="1800" spc="-1" strike="noStrike">
                <a:solidFill>
                  <a:srgbClr val="0000ff"/>
                </a:solidFill>
                <a:latin typeface="Times New Roman"/>
              </a:rPr>
              <a:t>арсеніда галія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=1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, а число верхніх долин вздовж осі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L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дорівнює 8, але вони розміщені біля краю першої зони Бриллюена, і тому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4. Використовуючи значення ефективних мас електронів в арсеніді галію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i="1" lang="ru-RU" sz="1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uk-UA" sz="1800" spc="-1" strike="noStrike" baseline="30000">
                <a:solidFill>
                  <a:srgbClr val="0000ff"/>
                </a:solidFill>
                <a:latin typeface="Times New Roman"/>
              </a:rPr>
              <a:t>*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=0,067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i="1" lang="ru-RU" sz="18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і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i="1" lang="ru-RU" sz="1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uk-UA" sz="1800" spc="-1" strike="noStrike" baseline="30000">
                <a:solidFill>
                  <a:srgbClr val="0000ff"/>
                </a:solidFill>
                <a:latin typeface="Times New Roman"/>
              </a:rPr>
              <a:t>*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=0,55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i="1" lang="ru-RU" sz="18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отримаємо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=9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24000" y="4508640"/>
            <a:ext cx="84960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Оскільки електричне поле прискорює електрони і збільшує їх кінетичну енергію, електронна температура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перевищує температуру гратки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. Електронна температура визначається за допомогою часу релаксації енергії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2843280" y="5445000"/>
                <a:ext cx="247788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E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T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2" name=""/>
          <p:cNvSpPr/>
          <p:nvPr/>
        </p:nvSpPr>
        <p:spPr>
          <a:xfrm>
            <a:off x="307440" y="6308640"/>
            <a:ext cx="584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де час релаксації енергії </a:t>
            </a:r>
            <a:r>
              <a:rPr b="0" lang="uk-UA" sz="18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0" i="1" lang="en-US" sz="1800" spc="-1" strike="noStrike" baseline="-25000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припускається рівним </a:t>
            </a:r>
            <a:r>
              <a:rPr b="0" lang="uk-UA" sz="1800" spc="-1" strike="noStrike">
                <a:solidFill>
                  <a:srgbClr val="0000ff"/>
                </a:solidFill>
                <a:latin typeface="Symbol"/>
                <a:ea typeface="Symbol"/>
              </a:rPr>
              <a:t>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uk-UA" sz="1800" spc="-1" strike="noStrike" baseline="30000">
                <a:solidFill>
                  <a:srgbClr val="0000ff"/>
                </a:solidFill>
                <a:latin typeface="Times New Roman"/>
              </a:rPr>
              <a:t>-12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F7746-7DF8-4B3E-8D78-985A9E0022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250920" y="33660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79280" y="1886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86480" y="240840"/>
            <a:ext cx="3346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Підставивши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і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ru-RU" sz="1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ru-RU" sz="1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отримаєм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2195640" y="765000"/>
                <a:ext cx="36716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qτ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k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ΔΕ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9" name=""/>
          <p:cNvSpPr/>
          <p:nvPr/>
        </p:nvSpPr>
        <p:spPr>
          <a:xfrm>
            <a:off x="250920" y="1537920"/>
            <a:ext cx="8713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Використовуючи це рівняння можна розрахувати залежність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від напруженості електричного поля при заданій величині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18960" y="2348640"/>
            <a:ext cx="739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Отримаємо наступне співвідношення між дрейфовою швидкістю і поле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843280" y="2781360"/>
                <a:ext cx="2736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ΔΕ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80ADF-2CDC-46B3-ADF0-4AA6EEC931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79280" y="1052640"/>
            <a:ext cx="5238720" cy="404784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250920" y="5229360"/>
            <a:ext cx="49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7. Залежність дрейфової швидкості від напруженості електричного поля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As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при трьох температурах гратки (двох долинна модель при припущенні рівності електронних температур в обох мінімумах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508720" y="1109160"/>
            <a:ext cx="3384360" cy="56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Висновк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Times New Roman"/>
              </a:rPr>
              <a:t>1.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Існує певне порогове значення напруженості електричного поля 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0" i="1" lang="en-US" sz="1800" spc="-1" strike="noStrike" baseline="-25000">
                <a:solidFill>
                  <a:srgbClr val="008000"/>
                </a:solidFill>
                <a:latin typeface="Times New Roman"/>
              </a:rPr>
              <a:t>T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, при якому виникає ділянка ВДО (або від’ємної диференційної рухливості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2.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Порогове значення напруженості електричного поля збільшується з ростом температури грат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Times New Roman"/>
              </a:rPr>
              <a:t>3.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Ділянка від’ємної диференційної рухливості може існувати, якщо температура гратки достатньо висока  або енергетичний зазор </a:t>
            </a:r>
            <a:r>
              <a:rPr b="0" i="1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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між мінімумами зони провідності мал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50920" y="20124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Розраховані за допомогою виразів типові залежності  від для арсеніду галію при трьох температурах гратки наведені 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7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(суцільні криві). Показана також заселеність верхньої долини як функція напруженості електричного поля (штрихова крив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1A92C-971E-4B81-846A-45F0FDBFC6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5076720" y="1182600"/>
            <a:ext cx="38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50920" y="18936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0000"/>
                </a:solidFill>
                <a:latin typeface="Times New Roman"/>
              </a:rPr>
              <a:t>Для виникнення ВДО необхідно виконання наступних ум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Температура гратки повинна бути малою, щоб у відсутність поля більшість електронів знаходились в основному мінімумі зони провідності (тобто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kT</a:t>
            </a:r>
            <a:r>
              <a:rPr b="0" i="1" lang="ru-RU" sz="18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i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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В основному мінімумі зони провідності електрони повинні мати високу рухливість, малу ефективну масу і малу густину станів, в той час як в побічних мінімумах електрони повинні мати низку рухливість, велику ефективну масу, а густина станів повинна бути високо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Енергетичний зазор між мінімумами повинен бути меншим ширини забороненої зони, щоб лавинний пробій не відбувся раніше між долинних переходів електроні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50920" y="3573360"/>
            <a:ext cx="864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З усіх напівпровідників, що задовольняють цим умовам,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арсенід галію і фосфід індію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–типу найбільш досліджені широко використовуються. Тим не менше ефект між долинного переносу електронів спостерігався в багатьох інших напівпровідниках, в тому числі в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германії, бінарних, потрійних і четвертних сполуках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Ефект між долинного переносу електронів спостерігався також в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InAs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 і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InSb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при дії гідростатичного тиску, який прикладається для зменшення енергетичної щілини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яка при звичайних умовах перевищує ширину забороненої зони. Особливий інтерес для можливого використання в малопотужних, але швидкодіючих приладах являють потрійні сполуки елементів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III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 -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груп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GaInSb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так як в них порогові поля малі, а дрейфові швидкості велик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D393-3B24-4650-931C-B807CBB391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79280" y="18864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Прилади на основі між долинного переходу електронів (один з найважливіших НВЧ-приладів) широко використовуються в якості </a:t>
            </a:r>
            <a:r>
              <a:rPr b="0" lang="uk-UA" sz="1800" spc="-1" strike="noStrike" u="sng">
                <a:solidFill>
                  <a:srgbClr val="009900"/>
                </a:solidFill>
                <a:uFillTx/>
                <a:latin typeface="Times New Roman"/>
              </a:rPr>
              <a:t>гетеродина і підсилювача потужності в діапазоні частот </a:t>
            </a:r>
            <a:r>
              <a:rPr b="1" lang="uk-UA" sz="1800" spc="-1" strike="noStrike" u="sng">
                <a:solidFill>
                  <a:srgbClr val="009900"/>
                </a:solidFill>
                <a:uFillTx/>
                <a:latin typeface="Times New Roman"/>
              </a:rPr>
              <a:t>1-100 ГГц</a:t>
            </a: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. Твердотільні генератори на цих приладах застосовуються в радарах, системах раннього повідомлення і контрольно-вимірювальній апаратур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79280" y="1484280"/>
            <a:ext cx="878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Ганн (1963р.) виявив генерацію когерентних НВЧ-коливань при прикладанні на довільно орієнтований короткий зразок з арсеніду галію чи фосфіду індію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– типу постійного електричного поля, що перевищує порогове значення рівне декільком кіловольт на см. Частота коливань приблизно дорівнювала величині, оберненій часу прольоту носіїв через зразо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9280" y="32130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Причиною виникнення </a:t>
            </a:r>
            <a:r>
              <a:rPr b="1" lang="uk-UA" sz="1800" spc="-1" strike="noStrike">
                <a:solidFill>
                  <a:srgbClr val="009900"/>
                </a:solidFill>
                <a:latin typeface="Times New Roman"/>
              </a:rPr>
              <a:t>від’ємного диференційного питомого опору</a:t>
            </a: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 служить стимульований електричним полем перехід електронів зони провідності з низько енергетичної долини , в якій їх рухливість відносно велика, в більш високоенергетичну долину з меншими рухливост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79280" y="4562640"/>
            <a:ext cx="87854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Дослідження генерації в потрійних з’єднаннях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GaAs</a:t>
            </a:r>
            <a:r>
              <a:rPr b="0" lang="uk-UA" sz="1800" spc="-1" strike="noStrike" baseline="-25000">
                <a:solidFill>
                  <a:srgbClr val="0000ff"/>
                </a:solidFill>
                <a:latin typeface="Times New Roman"/>
              </a:rPr>
              <a:t>1-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 показали, що величина порогового електричного поля зменшується при зменшенні енергетичного зазору між основними і побічними мінімумами зони провідності. Все це переконливо показало, що причиною ганнівської генерації є ефект між долинного переходу електрон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C072A-F8E7-45B7-B0C8-3FF95D6B9F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179280" y="1424160"/>
            <a:ext cx="871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79280" y="3357720"/>
            <a:ext cx="4772160" cy="329544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5076720" y="5516640"/>
            <a:ext cx="37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8. Експериментальні залежності дрейфової швидкості від напруженості електричного поля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As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і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50920" y="281880"/>
            <a:ext cx="871380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Експериментальні залежності дрейфової швидкості від напруженості електричного поля в арсеніді галію і фосфіді індію при кімнатній температурі наведені 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8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Результати теоретичного аналізу процесів переносу електронів в сильних електричних полях знаходяться в гарному співвідношенні з експериментальними даними. Порогова величина напруженості електричного поля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яка визначає початок ділянки ВДО, рівна </a:t>
            </a:r>
            <a:r>
              <a:rPr b="0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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3.2 кеВ/см для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aAs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і </a:t>
            </a:r>
            <a:r>
              <a:rPr b="0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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10,5 кВ/см для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InP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. Максимальна величина дрейфової швидкост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vp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становить </a:t>
            </a:r>
            <a:r>
              <a:rPr b="0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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2.2</a:t>
            </a:r>
            <a:r>
              <a:rPr b="0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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10</a:t>
            </a:r>
            <a:r>
              <a:rPr b="0" lang="uk-UA" sz="1800" spc="-1" strike="noStrike" baseline="30000">
                <a:solidFill>
                  <a:srgbClr val="0000cc"/>
                </a:solidFill>
                <a:latin typeface="Times New Roman"/>
              </a:rPr>
              <a:t>7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см/с для надчистих кристалів арсеніду галію і </a:t>
            </a:r>
            <a:r>
              <a:rPr b="0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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2.5</a:t>
            </a:r>
            <a:r>
              <a:rPr b="0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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10</a:t>
            </a:r>
            <a:r>
              <a:rPr b="0" lang="uk-UA" sz="1800" spc="-1" strike="noStrike" baseline="30000">
                <a:solidFill>
                  <a:srgbClr val="0000cc"/>
                </a:solidFill>
                <a:latin typeface="Times New Roman"/>
              </a:rPr>
              <a:t>7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см/с для фосфіду індію. Максимальна величина від’ємної диференційної рухливості приблизно рівна – 2400 см</a:t>
            </a:r>
            <a:r>
              <a:rPr b="0" lang="uk-UA" sz="1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/В с для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aAs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і – 2000 см</a:t>
            </a:r>
            <a:r>
              <a:rPr b="0" lang="uk-UA" sz="1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/В с для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InP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016E-F6A7-4E85-AF64-0F53ED38B3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8000"/>
                </a:solidFill>
                <a:latin typeface="Arial"/>
              </a:rPr>
              <a:t>Режими роботи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79280" y="292428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Процес утворення </a:t>
            </a:r>
            <a:r>
              <a:rPr b="1" lang="uk-UA" sz="1800" spc="-1" strike="noStrike">
                <a:solidFill>
                  <a:srgbClr val="0000ff"/>
                </a:solidFill>
                <a:latin typeface="Times New Roman"/>
              </a:rPr>
              <a:t>домена високого поля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залежить від </a:t>
            </a:r>
            <a:r>
              <a:rPr b="0" lang="uk-UA" sz="1800" spc="-1" strike="noStrike" u="sng">
                <a:solidFill>
                  <a:srgbClr val="0000ff"/>
                </a:solidFill>
                <a:uFillTx/>
                <a:latin typeface="Times New Roman"/>
              </a:rPr>
              <a:t>кількості носіїв заряду в напівпровіднику і довжини приладу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, які повинні бути достатньо великими, щоб за пролітний час відбувалось формування просторового заряду необхідної величини. Виходячи з цього встановлюється критерій для того чи іншого режиму роботи прила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-5400" y="4436640"/>
            <a:ext cx="879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Виходячи з цього встановлюється критерій для того чи іншого режиму роботи прила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Збільшення просторового заряду з часом в приладі з ВДО на початковій стадії має ви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68360" y="5516640"/>
                <a:ext cx="33829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t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791960" y="6289200"/>
            <a:ext cx="379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Symbol"/>
                <a:ea typeface="Symbol"/>
              </a:rPr>
              <a:t></a:t>
            </a:r>
            <a:r>
              <a:rPr b="0" lang="uk-UA" sz="1800" spc="-1" strike="noStrike" baseline="-25000">
                <a:solidFill>
                  <a:srgbClr val="008000"/>
                </a:solidFill>
                <a:latin typeface="Times New Roman"/>
              </a:rPr>
              <a:t>-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-від’ємна диференційна рухливі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50920" y="494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50920" y="544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79280" y="105264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П’ять основних факторів визначають той чи інший режим робо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1) величина концентрації домішки і однорідність її розподілу у зразк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2) ширина активної області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3) властивості катодного контакт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4) тип зовнішнього ланцюжка, який використовуєтьс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5) величина напруги зміщення на прилад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4788000" y="5734080"/>
                <a:ext cx="35290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ρε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μ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den>
                    </m:f>
                    <m:r>
                      <m:t xml:space="preserve">n</m:t>
                    </m:r>
                    <m:r>
                      <m:t xml:space="preserve">≈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μ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51682-7477-463D-9CFA-08B280E3A8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5219640" y="20599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аб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902520" y="4795200"/>
            <a:ext cx="705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cc"/>
                </a:solidFill>
                <a:latin typeface="Times New Roman"/>
              </a:rPr>
              <a:t>Ідеальний режим однорідного електричного по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cc"/>
                </a:solidFill>
                <a:latin typeface="Times New Roman"/>
              </a:rPr>
              <a:t>2. Режим зі збагаченим шар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cc"/>
                </a:solidFill>
                <a:latin typeface="Times New Roman"/>
              </a:rPr>
              <a:t>3. Режим прольоту доме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cc"/>
                </a:solidFill>
                <a:latin typeface="Times New Roman"/>
              </a:rPr>
              <a:t>4. Режим з руйнуванням доме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3564000" y="2637000"/>
                <a:ext cx="16304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708360" y="1844640"/>
                <a:ext cx="12240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2" name=""/>
          <p:cNvSpPr/>
          <p:nvPr/>
        </p:nvSpPr>
        <p:spPr>
          <a:xfrm>
            <a:off x="317160" y="1484280"/>
            <a:ext cx="85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Для сутт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є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вого зб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і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льшення заряду цей фактор повинен перевищувати 1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, і, відповідно,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276720" y="907920"/>
                <a:ext cx="1657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4" name=""/>
          <p:cNvSpPr/>
          <p:nvPr/>
        </p:nvSpPr>
        <p:spPr>
          <a:xfrm>
            <a:off x="324000" y="189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Якщо це співвідношення залишається справедливим  протягом часу прольоту шару просторового заряду через зразок, то максимальний фактор росту буде дорівнюва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79280" y="3232440"/>
            <a:ext cx="8640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00"/>
                </a:solidFill>
                <a:latin typeface="Times New Roman"/>
              </a:rPr>
              <a:t>Для арсеніду галію і фосфіду індію 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6600"/>
                </a:solidFill>
                <a:latin typeface="Times New Roman"/>
              </a:rPr>
              <a:t>–типу права частина нерівності становить </a:t>
            </a:r>
            <a:r>
              <a:rPr b="0" lang="uk-UA" sz="1800" spc="-1" strike="noStrike">
                <a:solidFill>
                  <a:srgbClr val="006600"/>
                </a:solidFill>
                <a:latin typeface="Symbol"/>
                <a:ea typeface="Symbol"/>
              </a:rPr>
              <a:t></a:t>
            </a:r>
            <a:r>
              <a:rPr b="0" lang="uk-UA" sz="1800" spc="-1" strike="noStrike">
                <a:solidFill>
                  <a:srgbClr val="006600"/>
                </a:solidFill>
                <a:latin typeface="Times New Roman"/>
              </a:rPr>
              <a:t>10</a:t>
            </a:r>
            <a:r>
              <a:rPr b="0" lang="uk-UA" sz="1800" spc="-1" strike="noStrike" baseline="30000">
                <a:solidFill>
                  <a:srgbClr val="006600"/>
                </a:solidFill>
                <a:latin typeface="Times New Roman"/>
              </a:rPr>
              <a:t>12</a:t>
            </a:r>
            <a:r>
              <a:rPr b="0" lang="uk-UA" sz="1800" spc="-1" strike="noStrike">
                <a:solidFill>
                  <a:srgbClr val="006600"/>
                </a:solidFill>
                <a:latin typeface="Times New Roman"/>
              </a:rPr>
              <a:t> см</a:t>
            </a:r>
            <a:r>
              <a:rPr b="0" lang="uk-UA" sz="1800" spc="-1" strike="noStrike" baseline="30000">
                <a:solidFill>
                  <a:srgbClr val="006600"/>
                </a:solidFill>
                <a:latin typeface="Times New Roman"/>
              </a:rPr>
              <a:t>-2</a:t>
            </a:r>
            <a:r>
              <a:rPr b="0" lang="uk-UA" sz="1800" spc="-1" strike="noStrike">
                <a:solidFill>
                  <a:srgbClr val="006600"/>
                </a:solidFill>
                <a:latin typeface="Times New Roman"/>
              </a:rPr>
              <a:t>. Якщо добуток 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0" i="1" lang="ru-RU" sz="1800" spc="-1" strike="noStrike" baseline="-25000">
                <a:solidFill>
                  <a:srgbClr val="0066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&lt;</a:t>
            </a:r>
            <a:r>
              <a:rPr b="0" lang="uk-UA" sz="1800" spc="-1" strike="noStrike">
                <a:solidFill>
                  <a:srgbClr val="006600"/>
                </a:solidFill>
                <a:latin typeface="Times New Roman"/>
              </a:rPr>
              <a:t> 10</a:t>
            </a:r>
            <a:r>
              <a:rPr b="0" lang="uk-UA" sz="1800" spc="-1" strike="noStrike" baseline="30000">
                <a:solidFill>
                  <a:srgbClr val="006600"/>
                </a:solidFill>
                <a:latin typeface="Times New Roman"/>
              </a:rPr>
              <a:t>12 </a:t>
            </a:r>
            <a:r>
              <a:rPr b="0" lang="uk-UA" sz="1800" spc="-1" strike="noStrike">
                <a:solidFill>
                  <a:srgbClr val="006600"/>
                </a:solidFill>
                <a:latin typeface="Times New Roman"/>
              </a:rPr>
              <a:t>см</a:t>
            </a:r>
            <a:r>
              <a:rPr b="0" lang="uk-UA" sz="1800" spc="-1" strike="noStrike" baseline="30000">
                <a:solidFill>
                  <a:srgbClr val="006600"/>
                </a:solidFill>
                <a:latin typeface="Times New Roman"/>
              </a:rPr>
              <a:t>-2</a:t>
            </a:r>
            <a:r>
              <a:rPr b="0" lang="uk-UA" sz="1800" spc="-1" strike="noStrike">
                <a:solidFill>
                  <a:srgbClr val="006600"/>
                </a:solidFill>
                <a:latin typeface="Times New Roman"/>
              </a:rPr>
              <a:t>, то розподіл поля в такому пристрої стійкий. Тому важливою границею, що розділяє режими роботи, є величина добутку концентрації носіїв і довжини приладу, яка дорівнює 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0" i="1" lang="ru-RU" sz="1800" spc="-1" strike="noStrike" baseline="-25000">
                <a:solidFill>
                  <a:srgbClr val="0066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=</a:t>
            </a:r>
            <a:r>
              <a:rPr b="0" lang="uk-UA" sz="1800" spc="-1" strike="noStrike">
                <a:solidFill>
                  <a:srgbClr val="006600"/>
                </a:solidFill>
                <a:latin typeface="Times New Roman"/>
              </a:rPr>
              <a:t> 10</a:t>
            </a:r>
            <a:r>
              <a:rPr b="0" lang="uk-UA" sz="1800" spc="-1" strike="noStrike" baseline="30000">
                <a:solidFill>
                  <a:srgbClr val="006600"/>
                </a:solidFill>
                <a:latin typeface="Times New Roman"/>
              </a:rPr>
              <a:t>12</a:t>
            </a:r>
            <a:r>
              <a:rPr b="0" lang="uk-UA" sz="1800" spc="-1" strike="noStrike">
                <a:solidFill>
                  <a:srgbClr val="006600"/>
                </a:solidFill>
                <a:latin typeface="Times New Roman"/>
              </a:rPr>
              <a:t> см</a:t>
            </a:r>
            <a:r>
              <a:rPr b="0" lang="uk-UA" sz="1800" spc="-1" strike="noStrike" baseline="30000">
                <a:solidFill>
                  <a:srgbClr val="006600"/>
                </a:solidFill>
                <a:latin typeface="Times New Roman"/>
              </a:rPr>
              <a:t>-2</a:t>
            </a:r>
            <a:r>
              <a:rPr b="0" lang="uk-UA" sz="1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0227-E76A-418C-A700-C17E85689E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39607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66ff"/>
                </a:solidFill>
                <a:latin typeface="Arial"/>
              </a:rPr>
              <a:t>Режим прольоту домен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24000" y="1268280"/>
            <a:ext cx="3887640" cy="357660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179280" y="4941720"/>
            <a:ext cx="41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Чисельне моделювання процесу розповсюдження дипольного шару, що виникає біля катоду, в режимі прольоту домена. Розподіли поля, що зображені сусідніми кривими, відповідають моментам часу, які розділені 24 п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788000" y="189000"/>
            <a:ext cx="41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66ff"/>
                </a:solidFill>
                <a:latin typeface="Arial"/>
              </a:rPr>
              <a:t>Режим з руйнуванням  доме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4572000" y="1989000"/>
            <a:ext cx="4176720" cy="371952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4932360" y="58050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Чисельне моделювання режиму з руйнуванням домену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F2461-BECC-4F8E-827B-9C04DA331A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250920" y="189000"/>
            <a:ext cx="8642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8000"/>
                </a:solidFill>
                <a:latin typeface="Times New Roman"/>
              </a:rPr>
              <a:t>Характеристики приладів на ефекті міждолинного переходу електронів</a:t>
            </a:r>
            <a:br>
              <a:rPr sz="1400"/>
            </a:br>
            <a:r>
              <a:rPr b="1" lang="uk-UA" sz="3200" spc="-1" strike="noStrike">
                <a:solidFill>
                  <a:srgbClr val="6666ff"/>
                </a:solidFill>
                <a:latin typeface="Times New Roman"/>
              </a:rPr>
              <a:t>Катодні контак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24000" y="213408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ля виготовлення приладів на ефекті між долинного переходу електронів необхідні надзвичайно чисті і однорідні напівпровідникові матеріали з малою концентрацією глибоких донорних рівнів і пасток, особливо для приладів, що працюють в режимі з розсовуванням об’ємного заряду. Перші прилади виготовлялись з арсеніду галію і фосфіду індію зі сплавними омічними контактами. В даний час для цих цілей використовують епітаксій ні шари, які наносяться на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uk-UA" sz="1800" spc="-1" strike="noStrike" baseline="30000">
                <a:solidFill>
                  <a:srgbClr val="0000cc"/>
                </a:solidFill>
                <a:latin typeface="Times New Roman"/>
              </a:rPr>
              <a:t>+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–підкладку методами епітаксії із газової і рідкої фази  або методом молекулярно-променевої епітаксії.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Типовий діапазон донорних концентрацій складає 10</a:t>
            </a:r>
            <a:r>
              <a:rPr b="0" lang="uk-UA" sz="1800" spc="-1" strike="noStrike" u="sng" baseline="30000">
                <a:solidFill>
                  <a:srgbClr val="0000cc"/>
                </a:solidFill>
                <a:uFillTx/>
                <a:latin typeface="Times New Roman"/>
              </a:rPr>
              <a:t>14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 – 10</a:t>
            </a:r>
            <a:r>
              <a:rPr b="0" lang="uk-UA" sz="1800" spc="-1" strike="noStrike" u="sng" baseline="30000">
                <a:solidFill>
                  <a:srgbClr val="0000cc"/>
                </a:solidFill>
                <a:uFillTx/>
                <a:latin typeface="Times New Roman"/>
              </a:rPr>
              <a:t>16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 см</a:t>
            </a:r>
            <a:r>
              <a:rPr b="0" lang="uk-UA" sz="1800" spc="-1" strike="noStrike" u="sng" baseline="30000">
                <a:solidFill>
                  <a:srgbClr val="0000cc"/>
                </a:solidFill>
                <a:uFillTx/>
                <a:latin typeface="Times New Roman"/>
              </a:rPr>
              <a:t>-3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, а довжин приладу – від декількох мікрометрів до декількох сотень мікрометрів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ECF7D-B7FD-4EF9-A092-6FE7E12F467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716720" cy="352116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324000" y="407628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26. Основні стадії процесу виготовлення приладів на ефекті між долинного переходу електрон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508720" y="333360"/>
            <a:ext cx="345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Основні стадії виготовлення такого приладу на епітаксійному арсеніді галію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ru-RU" sz="1800" spc="-1" strike="noStrike" baseline="30000">
                <a:solidFill>
                  <a:srgbClr val="0000cc"/>
                </a:solidFill>
                <a:latin typeface="Times New Roman"/>
              </a:rPr>
              <a:t>+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ru-RU" sz="1800" spc="-1" strike="noStrike" baseline="30000">
                <a:solidFill>
                  <a:srgbClr val="0000cc"/>
                </a:solidFill>
                <a:latin typeface="Times New Roman"/>
              </a:rPr>
              <a:t>+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-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типу показані 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26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Кристали з приладами на ефекті між долинного переходу електронів монтуються в корпуси, які, як і тепловідводи, аналогічні корпусам ЛПД. Деякі високо потужні прилади виготовляються за допомогою селективної металізації або травлення мезаструктур.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79280" y="5139000"/>
            <a:ext cx="882036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ля покращення характеристик приладу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замість омічних 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1" i="1" lang="ru-RU" sz="1800" spc="-1" strike="noStrike" baseline="30000">
                <a:solidFill>
                  <a:srgbClr val="0000cc"/>
                </a:solidFill>
                <a:latin typeface="Times New Roman"/>
              </a:rPr>
              <a:t>+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 -контактів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застосовують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контакти з обмеженою інжекцією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При використанні таких контактів можна реалізувати ситуації, коли порогове поле для струму приблизно рівне пороговій напруженост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що визначає початок ділянки ВДО. Тому поле в напівпровіднику може бути однорідни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E2802-EA45-4F2C-8F27-17DA9896519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539640" y="260280"/>
            <a:ext cx="8209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 приладі з омічними контактами формування збагаченого шару або домену відбувається на деякій відстані від катоду через кінцевий час розігріву електронів в основному мінімумі зони провідності. Ширина «мертвої зони» може досягати 1 мкм, що накладає обмеження на мінімальну довжину діода і, відповідно, максимальну робочу частоту. В контактах з обмеженою інжекцією  гарячі електрони емітуються з катоду, що приводить до зменшення ширини «мертвої зони». Оскільки вплив пролітних ефектів можна звести до мінімуму, від’ємний опір приладу не буде залежати від частоти і буде шунтуватися геометричною ємністю діода. Якщо до приладу під єднати індуктивність і досить малий опір, то прилад може генерувати коливання резонансної частоти в режимі однорідного електричного по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378EF-972B-4CE3-86CC-09698F29D4B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50920" y="2276640"/>
            <a:ext cx="5553000" cy="439092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/>
          <p:nvPr/>
        </p:nvSpPr>
        <p:spPr>
          <a:xfrm>
            <a:off x="6156360" y="5118120"/>
            <a:ext cx="28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27. Характеристики трьох катодних контакт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а- омічни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б- бар’єр Шотткі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- двохшаровий контакт з бар’єром Шоттк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4000" y="189000"/>
            <a:ext cx="856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Були вивчені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два класи контактів з обмеженою інжекцією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: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1) контакт Шотткі з малою висотою бар’єра і 2) двошарова катодна структура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27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наведені характеристики трьох катодних контактів. В приладі з </a:t>
            </a:r>
            <a:r>
              <a:rPr b="1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омічними контактами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(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27,а)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завжди існує область низької напруженості електричного поля біля катоду, а поле в зразку неоднорідне. В </a:t>
            </a:r>
            <a:r>
              <a:rPr b="1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обернено зміщеному бар’єрі Шотткі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можна отримати достатньо однорідний розподіл електричного поля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 27, б)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Зворотній струм дорівню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6012000" y="2133720"/>
                <a:ext cx="291600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**</m:t>
                        </m:r>
                      </m:sup>
                    </m:sSup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qϕ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den>
                    </m:f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4" name=""/>
          <p:cNvSpPr/>
          <p:nvPr/>
        </p:nvSpPr>
        <p:spPr>
          <a:xfrm>
            <a:off x="6084720" y="2826360"/>
            <a:ext cx="280836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е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i="1" lang="ru-RU" sz="1800" spc="-1" strike="noStrike" baseline="30000">
                <a:solidFill>
                  <a:srgbClr val="0000cc"/>
                </a:solidFill>
                <a:latin typeface="Times New Roman"/>
              </a:rPr>
              <a:t>**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 ефективна постійна Річардсона, а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0" i="1" lang="en-US" sz="1800" spc="-1" strike="noStrike">
                <a:solidFill>
                  <a:srgbClr val="0000cc"/>
                </a:solidFill>
                <a:latin typeface="Symbol"/>
                <a:ea typeface="Symbol"/>
              </a:rPr>
              <a:t>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 висота бар’єра. Густинам струму в діапазоні 10</a:t>
            </a:r>
            <a:r>
              <a:rPr b="0" lang="uk-UA" sz="1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– 10</a:t>
            </a:r>
            <a:r>
              <a:rPr b="0" lang="uk-UA" sz="1800" spc="-1" strike="noStrike" baseline="30000">
                <a:solidFill>
                  <a:srgbClr val="0000cc"/>
                </a:solidFill>
                <a:latin typeface="Times New Roman"/>
              </a:rPr>
              <a:t>4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А/см</a:t>
            </a:r>
            <a:r>
              <a:rPr b="0" lang="uk-UA" sz="1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відповідають величини висот бар’єра в межах 0.15-0.3 е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58D97-461F-48B8-A980-2AF7234E66E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179280" y="18900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Однак нелегко отримати бар’єр Шотткі невеликої висоти в напівпровідникових сполуках типу А</a:t>
            </a:r>
            <a:r>
              <a:rPr b="0" lang="en-US" sz="1800" spc="-1" strike="noStrike" baseline="30000">
                <a:solidFill>
                  <a:srgbClr val="0000cc"/>
                </a:solidFill>
                <a:latin typeface="Times New Roman"/>
              </a:rPr>
              <a:t>III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</a:t>
            </a:r>
            <a:r>
              <a:rPr b="0" lang="en-US" sz="1800" spc="-1" strike="noStrike" baseline="30000">
                <a:solidFill>
                  <a:srgbClr val="0000cc"/>
                </a:solidFill>
                <a:latin typeface="Times New Roman"/>
              </a:rPr>
              <a:t>V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;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крім того, область робочих температур обмежена, оскільки струм змінюється експоненційно з температуро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50920" y="195408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Двохшаровий катодний контакт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складається з шару високої напруженості електричного поля и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+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–шару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 27, в)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Його конфігурація аналогічна конфігурації ЛПД з трьохшаровою базою. Електрони розігріваються в шарі високого електричного поля, а потім інжектуються в активну область, де поле однорідне. Такі структури успішно використовуються в широкому діапазоні температу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66524-7716-4000-BA66-A9C6573E59A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79280" y="189000"/>
            <a:ext cx="3724560" cy="360972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179280" y="4221000"/>
            <a:ext cx="4608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28. ККД, НВЧ потужність, що генерується, і струм в приладі з фосфіду індію з двохшаровим катодним контактом, що працює в імпульсному режимі пр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uk-UA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uk-UA" sz="18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см</a:t>
            </a:r>
            <a:r>
              <a:rPr b="0" lang="uk-UA" sz="1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і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8 мкм і в області температур -50 – 150</a:t>
            </a:r>
            <a:r>
              <a:rPr b="0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076720" y="333360"/>
            <a:ext cx="3856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Коефіцієнт корисної дії, потужність, яка генерується в імпульсному режимі</a:t>
            </a:r>
            <a:r>
              <a:rPr b="0" lang="ru-RU" sz="1800" spc="-1" strike="noStrike" u="sng">
                <a:solidFill>
                  <a:srgbClr val="0000cc"/>
                </a:solidFill>
                <a:uFillTx/>
                <a:latin typeface="Times New Roman"/>
              </a:rPr>
              <a:t>,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 і струм приладу з фосфіду індію в області температур -50 – 150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Symbol"/>
                <a:ea typeface="Symbol"/>
              </a:rPr>
              <a:t>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С наведені на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ис. 28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Відмітимо, що в цьому температурному інтервалі ККД і потужність змінюються приблизно всього лише на </a:t>
            </a:r>
            <a:r>
              <a:rPr b="0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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10 %. Найбільший ККД, який отриманий в приладах з фосфіду індію з двохшаровим катодним контактом,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рівний 24 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3576B-21C7-46BF-B2DA-4772DF0260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Об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’</a:t>
            </a: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ємний від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’</a:t>
            </a: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ємний диференційний питомий опір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79280" y="1484280"/>
            <a:ext cx="878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Фізичні механізми виникнення об’ємного від’ємного диференційного питомого опору досить різноманітні. Одним з найбільш важливих є ефект між долинного переходу електронів. Оскільки </a:t>
            </a:r>
            <a:r>
              <a:rPr b="0" lang="uk-UA" sz="1800" spc="-1" strike="noStrike" u="sng">
                <a:solidFill>
                  <a:srgbClr val="0000ff"/>
                </a:solidFill>
                <a:uFillTx/>
                <a:latin typeface="Times New Roman"/>
              </a:rPr>
              <a:t>випадкова флуктуація концентрації вільних носіїв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в будь-якій точці зразка з об’ємним від’ємним диференційним питомим опором приводить до </a:t>
            </a:r>
            <a:r>
              <a:rPr b="0" lang="uk-UA" sz="1800" spc="-1" strike="noStrike" u="sng">
                <a:solidFill>
                  <a:srgbClr val="0000ff"/>
                </a:solidFill>
                <a:uFillTx/>
                <a:latin typeface="Times New Roman"/>
              </a:rPr>
              <a:t>миттєвого виникнення просторового заряду, величина якого зростає з часом за експоненційним законом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, такий напівпровідник є за своєю природою нестабільн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080" y="3283920"/>
            <a:ext cx="51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Times New Roman"/>
              </a:rPr>
              <a:t>Рівняння неперервності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в одномірному випадк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5435640" y="3500280"/>
                <a:ext cx="1417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5" name=""/>
          <p:cNvSpPr/>
          <p:nvPr/>
        </p:nvSpPr>
        <p:spPr>
          <a:xfrm>
            <a:off x="179280" y="4254840"/>
            <a:ext cx="87138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Мале локальне відхилення концентрації основних носіїв від однорідної рівноважної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i="1" lang="uk-UA" sz="18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приводить до появи </a:t>
            </a:r>
            <a:r>
              <a:rPr b="0" lang="uk-UA" sz="1800" spc="-1" strike="noStrike" u="sng">
                <a:solidFill>
                  <a:srgbClr val="0000ff"/>
                </a:solidFill>
                <a:uFillTx/>
                <a:latin typeface="Times New Roman"/>
              </a:rPr>
              <a:t>просторового заряду густиною </a:t>
            </a: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n</a:t>
            </a:r>
            <a:r>
              <a:rPr b="0" i="1" lang="uk-UA" sz="1800" spc="-1" strike="noStrike" u="sng">
                <a:solidFill>
                  <a:srgbClr val="0000ff"/>
                </a:solidFill>
                <a:uFillTx/>
                <a:latin typeface="Times New Roman"/>
              </a:rPr>
              <a:t>-</a:t>
            </a: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n</a:t>
            </a:r>
            <a:r>
              <a:rPr b="0" i="1" lang="uk-UA" sz="1800" spc="-1" strike="noStrike" u="sng" baseline="-25000">
                <a:solidFill>
                  <a:srgbClr val="0000ff"/>
                </a:solidFill>
                <a:uFillTx/>
                <a:latin typeface="Times New Roman"/>
              </a:rPr>
              <a:t>0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. </a:t>
            </a:r>
            <a:r>
              <a:rPr b="1" lang="uk-UA" sz="1800" spc="-1" strike="noStrike">
                <a:solidFill>
                  <a:srgbClr val="0000ff"/>
                </a:solidFill>
                <a:latin typeface="Times New Roman"/>
              </a:rPr>
              <a:t>Рівняння Пуасона і </a:t>
            </a:r>
            <a:r>
              <a:rPr b="1" lang="uk-UA" sz="1800" spc="-1" strike="noStrike">
                <a:solidFill>
                  <a:srgbClr val="008000"/>
                </a:solidFill>
                <a:latin typeface="Times New Roman"/>
              </a:rPr>
              <a:t>вираз для густини струму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мають ви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1979640" y="5300640"/>
                <a:ext cx="15843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4500720" y="5300640"/>
                <a:ext cx="16556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qD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0" name=""/>
          <p:cNvSpPr/>
          <p:nvPr/>
        </p:nvSpPr>
        <p:spPr>
          <a:xfrm>
            <a:off x="394560" y="6187680"/>
            <a:ext cx="7552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де </a:t>
            </a:r>
            <a:r>
              <a:rPr b="0" lang="uk-UA" sz="18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- діелектрична проникність, </a:t>
            </a:r>
            <a:r>
              <a:rPr b="0" lang="uk-UA" sz="18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- питомий опір і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- коефіцієнт дифузії.</a:t>
            </a: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787DC-CB08-423A-AB0B-A7EB19500B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66ff"/>
                </a:solidFill>
                <a:latin typeface="Arial"/>
              </a:rPr>
              <a:t>Залежність потужності від частоти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79280" y="692280"/>
            <a:ext cx="3651480" cy="489744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179280" y="5660640"/>
            <a:ext cx="414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29. Часові залежності при раптовій зміні напруженості електричного поля з 6 до 5 кВ/см в момен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=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003640" y="4581360"/>
            <a:ext cx="39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716360" y="730080"/>
            <a:ext cx="4175280" cy="56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Процес передачі енергії електричного поля електронам і перехід останніх з основного мінімуму зони провідності в побічні займає кінцевий проміжок часу. Тому робочі частоти приладів обмежені зверху величинами, оберненими часу релаксації енергії і часу міждолинного розсіяння. 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29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наведені часові залежності дрейфової швидкості носіїв у верхній і нижній долинах, середньої швидкості і заселеності верхньої долини при раптовому зменшенні напруженості електричного поля від 6 до 5 кВ/см. Відмітимо, що швидкість електронів у верхній долин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0" i="1" lang="ru-RU" sz="1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практично миттєво реагує на зміну поля. Однак швидкість в нижній долин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0" i="1" lang="uk-UA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змінюється повільно (характерний час відгуку становить </a:t>
            </a:r>
            <a:r>
              <a:rPr b="0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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5 пс), оскільки гарячі електрони в основному мінімумі слабо розсіюютьс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E8363-9418-47AE-B546-FD94E577499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250920" y="260280"/>
            <a:ext cx="87138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Крім того, причиною повільної зміни концентрації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uk-UA" sz="1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є велика величина часу між долинного розсіяння електронів. Тому відгук середньої швидкості зв’язаний частково зі зміною швидкост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0" i="1" lang="uk-UA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і частково з міждолинним розсіюванням.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Оцінка верхньої межі робочої частоти приладу через кінцевий час відгуку становить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150 ГГ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50920" y="15573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В прольотному режимі роботи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робоча частота обернено пропорційна довжині діода, тобто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/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L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Співвідношення між потужністю, яка генерується, і частотою має ви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2484360" y="2349360"/>
                <a:ext cx="410544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395280" y="3429000"/>
            <a:ext cx="8569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е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rf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rf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 НВЧ-напруга і напруженість електричного поля відповідно, а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– імпеданс. Тому очікувана зміна потужності з частотою пропорційна 1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/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0" i="1" lang="uk-UA" sz="1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3E48E-720C-4620-B574-5D64A213E8A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50920" y="0"/>
            <a:ext cx="3927240" cy="659916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4284720" y="5589360"/>
            <a:ext cx="46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30. Залежність генерованої НВЧ-потужності від частоти для приладів на основі міждолинного переходу електрон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427640" y="738360"/>
            <a:ext cx="43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284720" y="477684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500720" y="190800"/>
            <a:ext cx="4284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Залежність НВЧ-потужності, що генерується в неперервному і імпульсному режимах, від частоти для сучасних приладів на ефекті між долинного переходу електронів із арсеніду галію і фосфіду індію показана 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30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В дужках рядом з експериментальними точками наведені значення ККД у відсотках. Як слідує з формули ( ), зміна потужності пропорційна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1/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0" i="1" lang="uk-UA" sz="1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. В імпульсному режимі в приладах з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aAs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з достатньо довгою базою отримана НВЧ-потужність до 6 кВт на частоті, близькій до 2 ГГц. Потужність, яка генерується в неперервному режимі, приблизно рівна 2 Вт на 10 ГГц, що приблизно в п’ять разів менша, ніж у лавинно-пролітного діода (ЛПД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FB789-A795-4B35-ABEC-E0120D53DAA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324000" y="189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Однак при фіксованій частоті напруга зміщення в приладі на ефекті між долинного переходу електронів менша (в 2 – 5 разів), ніж в лавинно-пролітному діоді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24000" y="114264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Характеристики приладів із фосфіду індію в неперервному режимі порівнянні з характеристиками приладів з арсеніду галію. Однак в імпульсному режимі вони гірші, не зважаючи на те, що відповідно до теоретичних оцінок ККД приладів із фосфіду індію вищий. Причиною цього є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більш розвинена технологія арсеніду галію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77C1D-2F16-4B20-9C81-634E8B5247D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66ff"/>
                </a:solidFill>
                <a:latin typeface="Times New Roman"/>
              </a:rPr>
              <a:t>Дякую за увагу!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250920" y="1663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Продиференціювавши вираз для густини струму по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і враховуючи рівняння Пуасона, отримаєм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124000" y="907920"/>
                <a:ext cx="22320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ρε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D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n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4" name=""/>
          <p:cNvSpPr/>
          <p:nvPr/>
        </p:nvSpPr>
        <p:spPr>
          <a:xfrm>
            <a:off x="247680" y="1772640"/>
            <a:ext cx="75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Підстановка цього виразу в рівняння неперервності приводить до рівняння</a:t>
            </a: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1835280" y="2205000"/>
                <a:ext cx="259236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ρε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D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n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>
            <a:off x="176040" y="2996640"/>
            <a:ext cx="61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Дане рівняння можна вирішити </a:t>
            </a:r>
            <a:r>
              <a:rPr b="0" lang="uk-UA" sz="1800" spc="-1" strike="noStrike" u="sng">
                <a:solidFill>
                  <a:srgbClr val="0000ff"/>
                </a:solidFill>
                <a:uFillTx/>
                <a:latin typeface="Times New Roman"/>
              </a:rPr>
              <a:t>методом розділення змінних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3160" y="3357000"/>
            <a:ext cx="81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Якщо концентрація залежить лише від координати, то рішення рівняння має ви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1042920" y="3789360"/>
                <a:ext cx="3973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254880" y="4273200"/>
            <a:ext cx="383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де 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L</a:t>
            </a:r>
            <a:r>
              <a:rPr b="0" i="1" lang="en-US" sz="18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 - дебаєвська довжина, яка рі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492360" y="5084640"/>
                <a:ext cx="12970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≡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5364000" y="5065560"/>
            <a:ext cx="32418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L</a:t>
            </a:r>
            <a:r>
              <a:rPr b="0" i="1" lang="en-US" sz="18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визначає відстань, на якій затухають малі флуктуації заря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0CB21-E9F9-4B37-B631-7FE84C9059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389160" y="229320"/>
            <a:ext cx="73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Якщо концентрація залежить лише від часу, то рішення рівняння має ви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116000" y="692280"/>
                <a:ext cx="33926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t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470880" y="11775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де </a:t>
            </a:r>
            <a:r>
              <a:rPr b="0" i="1" lang="uk-UA" sz="1800" spc="-1" strike="noStrike">
                <a:solidFill>
                  <a:srgbClr val="cc0000"/>
                </a:solidFill>
                <a:latin typeface="Symbol"/>
                <a:ea typeface="Symbol"/>
              </a:rPr>
              <a:t></a:t>
            </a:r>
            <a:r>
              <a:rPr b="0" i="1" lang="en-US" sz="1800" spc="-1" strike="noStrike" baseline="-25000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 - </a:t>
            </a: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 час діелектричної релаксації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900000" y="1700280"/>
                <a:ext cx="352764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ρε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qμn</m:t>
                        </m:r>
                      </m:den>
                    </m:f>
                    <m:r>
                      <m:t xml:space="preserve">≈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μ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50920" y="2257200"/>
            <a:ext cx="8315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cc0000"/>
                </a:solidFill>
                <a:latin typeface="Symbol"/>
                <a:ea typeface="Symbol"/>
              </a:rPr>
              <a:t></a:t>
            </a:r>
            <a:r>
              <a:rPr b="0" i="1" lang="en-US" sz="1800" spc="-1" strike="noStrike" baseline="-25000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- час, за який відбувається розсосування просторового заряду, якщо диференційний питомий опір і диференційна рухливість </a:t>
            </a:r>
            <a:r>
              <a:rPr b="0" i="1" lang="uk-UA" sz="1800" spc="-1" strike="noStrike">
                <a:solidFill>
                  <a:srgbClr val="cc0000"/>
                </a:solidFill>
                <a:latin typeface="Symbol"/>
                <a:ea typeface="Symbol"/>
              </a:rPr>
              <a:t></a:t>
            </a: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 є додатн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79280" y="2904840"/>
            <a:ext cx="8785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Однак в напівпровіднику з від’ємним диференційним опором (ВДО) будь-яка флуктуація концентрації буде наростати з постійною часу, яка рівна  </a:t>
            </a:r>
            <a:r>
              <a:rPr b="0" lang="uk-UA" sz="1800" spc="-1" strike="noStrike">
                <a:solidFill>
                  <a:srgbClr val="cc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 , а не затуха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3574080"/>
            <a:ext cx="8569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Прилади з об’ємним ВДО можна розділити на </a:t>
            </a:r>
            <a:r>
              <a:rPr b="1" lang="uk-UA" sz="1800" spc="-1" strike="noStrike">
                <a:solidFill>
                  <a:srgbClr val="0000ff"/>
                </a:solidFill>
                <a:latin typeface="Times New Roman"/>
              </a:rPr>
              <a:t>дві групи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: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)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прилади, що керуються напругою (з</a:t>
            </a:r>
            <a:r>
              <a:rPr b="0" i="1" lang="uk-UA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–подібними характеристиками) і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)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прилади, що керуються струмом (з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подібними характеристикам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Наприклад, тунельний діод є прилад з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–подібною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0" i="1" lang="ru-RU" sz="18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E 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характеристикою, а тиристор – прилад з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подібною характеристико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Об’ємний ВДО обумовлений </a:t>
            </a:r>
            <a:r>
              <a:rPr b="0" lang="uk-UA" sz="1800" spc="-1" strike="noStrike" u="sng">
                <a:solidFill>
                  <a:srgbClr val="0000ff"/>
                </a:solidFill>
                <a:uFillTx/>
                <a:latin typeface="Times New Roman"/>
              </a:rPr>
              <a:t>мікроскопічними властивостями напівпровідника: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ff"/>
                </a:solidFill>
                <a:latin typeface="Times New Roman"/>
              </a:rPr>
              <a:t>1)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стимульованим електричним полем захопленням носіїв на глибокі рівні; </a:t>
            </a:r>
            <a:r>
              <a:rPr b="1" lang="uk-UA" sz="1800" spc="-1" strike="noStrike">
                <a:solidFill>
                  <a:srgbClr val="0000ff"/>
                </a:solidFill>
                <a:latin typeface="Times New Roman"/>
              </a:rPr>
              <a:t>2)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ударною іонізацією мілких домішкових рівнів в компенсованих напівпровідниках; </a:t>
            </a:r>
            <a:r>
              <a:rPr b="1" lang="uk-UA" sz="1800" spc="-1" strike="noStrike">
                <a:solidFill>
                  <a:srgbClr val="0000ff"/>
                </a:solidFill>
                <a:latin typeface="Times New Roman"/>
              </a:rPr>
              <a:t>3)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переходом електронів із основного мінімума зони провідності в побічні (ефект між долинного переходу електронів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07D51-F267-4E1B-B85F-0310D3FEBB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В приладах з </a:t>
            </a: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N</a:t>
            </a:r>
            <a:r>
              <a:rPr b="0" lang="uk-UA" sz="1800" spc="-1" strike="noStrike" u="sng">
                <a:solidFill>
                  <a:srgbClr val="0000ff"/>
                </a:solidFill>
                <a:uFillTx/>
                <a:latin typeface="Times New Roman"/>
              </a:rPr>
              <a:t>–подібними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характеристиками будуть утворюватись </a:t>
            </a:r>
            <a:r>
              <a:rPr b="1" lang="uk-UA" sz="1800" spc="-1" strike="noStrike">
                <a:solidFill>
                  <a:srgbClr val="0000ff"/>
                </a:solidFill>
                <a:latin typeface="Times New Roman"/>
              </a:rPr>
              <a:t>домени високого електричного поля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(або збагачені шари), а в приладах з </a:t>
            </a: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S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</a:rPr>
              <a:t>-</a:t>
            </a:r>
            <a:r>
              <a:rPr b="0" lang="uk-UA" sz="1800" spc="-1" strike="noStrike" u="sng">
                <a:solidFill>
                  <a:srgbClr val="0000ff"/>
                </a:solidFill>
                <a:uFillTx/>
                <a:latin typeface="Times New Roman"/>
              </a:rPr>
              <a:t>подібними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характеристиками - </a:t>
            </a:r>
            <a:r>
              <a:rPr b="1" lang="uk-UA" sz="1800" spc="-1" strike="noStrike">
                <a:solidFill>
                  <a:srgbClr val="0000ff"/>
                </a:solidFill>
                <a:latin typeface="Times New Roman"/>
              </a:rPr>
              <a:t>шнури струму з високою густиною.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79280" y="1709640"/>
            <a:ext cx="8498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Times New Roman"/>
              </a:rPr>
              <a:t>Для приладу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uk-UA" sz="1800" spc="-1" strike="noStrike">
                <a:solidFill>
                  <a:srgbClr val="0000ff"/>
                </a:solidFill>
                <a:latin typeface="Times New Roman"/>
              </a:rPr>
              <a:t>–подібною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E </a:t>
            </a:r>
            <a:r>
              <a:rPr b="1" lang="uk-UA" sz="1800" spc="-1" strike="noStrike">
                <a:solidFill>
                  <a:srgbClr val="0000ff"/>
                </a:solidFill>
                <a:latin typeface="Times New Roman"/>
              </a:rPr>
              <a:t>характеристикою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позитивний диференційний питомий опір збільшується з ростом електричного поля, тобто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dE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&gt;0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. Якщо напруженість електричного поля в деякій області напівпровідника набагато більша середньої, то її питомий опір також більший. Тому густина струму буде меншою. Це приведе до збільшення розмірів області і утворення </a:t>
            </a:r>
            <a:r>
              <a:rPr b="1" lang="uk-UA" sz="1800" spc="-1" strike="noStrike">
                <a:solidFill>
                  <a:srgbClr val="0000ff"/>
                </a:solidFill>
                <a:latin typeface="Times New Roman"/>
              </a:rPr>
              <a:t>домена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0" lang="uk-UA" sz="1800" spc="-1" strike="noStrike" u="sng">
                <a:solidFill>
                  <a:srgbClr val="0000ff"/>
                </a:solidFill>
                <a:uFillTx/>
                <a:latin typeface="Times New Roman"/>
              </a:rPr>
              <a:t>області високого електричного поля</a:t>
            </a:r>
            <a:r>
              <a:rPr b="0" lang="uk-UA" sz="1800" spc="-1" strike="noStrike">
                <a:solidFill>
                  <a:srgbClr val="0000ff"/>
                </a:solidFill>
                <a:latin typeface="Times New Roman"/>
              </a:rPr>
              <a:t>), поза якою поле відносно мале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Times New Roman"/>
              </a:rPr>
              <a:t>Для приладу з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-</a:t>
            </a:r>
            <a:r>
              <a:rPr b="1" lang="uk-UA" sz="1800" spc="-1" strike="noStrike">
                <a:solidFill>
                  <a:srgbClr val="008000"/>
                </a:solidFill>
                <a:latin typeface="Times New Roman"/>
              </a:rPr>
              <a:t>подібною характеристикою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початкова величина позитивного диференційного питомого опору зменшується при збільшенні напруженості електричного поля, тобто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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dE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&lt;0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. Якщо поле в деякій області напівпровідника набагато більше середнього, то питомий опір цієї області менший. Тому струм буде втікати в цю область, що приведе до її видовження в напрямі електричного поля і утворення </a:t>
            </a:r>
            <a:r>
              <a:rPr b="1" lang="uk-UA" sz="1800" spc="-1" strike="noStrike">
                <a:solidFill>
                  <a:srgbClr val="008000"/>
                </a:solidFill>
                <a:latin typeface="Times New Roman"/>
              </a:rPr>
              <a:t>шнура струму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uk-UA" sz="1800" spc="-1" strike="noStrike" u="sng">
                <a:solidFill>
                  <a:srgbClr val="008000"/>
                </a:solidFill>
                <a:uFillTx/>
                <a:latin typeface="Times New Roman"/>
              </a:rPr>
              <a:t>з високою густиною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17EE-B0CA-411C-9512-C02C34EB8F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Об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’</a:t>
            </a: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ємний від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’</a:t>
            </a: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ємний диференційний питомий опір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79280" y="1557360"/>
            <a:ext cx="4515120" cy="494352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4932360" y="4969800"/>
            <a:ext cx="37450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алежність густини струму 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иференційного питомого опору від напруженості електричного поля.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і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– для приладів з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–подібними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-характеристиками;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і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– для приладів з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-подібними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характеристик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4ED6B-AAFE-416B-928A-17E9423B63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250920" y="4223160"/>
            <a:ext cx="504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Формування домена високого електричного поля (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) в зразку 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ід’ємним диференційним питомим опором, що керується напругою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-подібною характеристикою), а також формування шнура струму з високою густиною (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) в зразку з від’ємним диференційним питомим опором , що керується струмом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-подібною характеристикою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24000" y="189000"/>
            <a:ext cx="5276880" cy="384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FC3B-B9A7-4470-9970-EF850C22B9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189000"/>
            <a:ext cx="4071960" cy="640872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4427640" y="5597280"/>
            <a:ext cx="455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3. Формування збагаченого електронного шару в збудженому середовищі з від’ємним диференційним опором (ВДО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500720" y="243720"/>
            <a:ext cx="439236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Розглянемо більш детально нестабільність об’ємного заряду в приладах з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–подібними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J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характеристиками. 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наведена типова миттєва залежність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J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від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а 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3 б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– схема приладу. Допустимо, що в точці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А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утворився надлишок від’ємного заряду. Причиною цього можуть бути випадкові шуми або неоднорідне легування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 3в)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Проінтегрувавши один раз рівняння Пуассона, отримаємо розподіл електричного поля у зразку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 3г),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причому поле зліва від точки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А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менше ніж справа. Якщо постійна напруга на приладі відповідає точц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на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J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кривій, то струм, який втікає в точку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А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буде більший струму, який витікає, що приведе до накоплення від’ємного просторового заряду в точці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А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A50A8-07FC-4FB3-83DB-F85C60EF1B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06:59:09Z</dcterms:created>
  <dc:creator>Home_RDM</dc:creator>
  <dc:description/>
  <dc:language>en-US</dc:language>
  <cp:lastModifiedBy>Anatoli</cp:lastModifiedBy>
  <dcterms:modified xsi:type="dcterms:W3CDTF">2013-11-28T07:52:29Z</dcterms:modified>
  <cp:revision>291</cp:revision>
  <dc:subject/>
  <dc:title>NANOCRYSTAL MEMORY</dc:title>
</cp:coreProperties>
</file>