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7A1C-C9E8-46CD-815E-3B15E920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3271-71E9-49EB-AD02-BF4E03B1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0B66-DDE6-45C3-9ADF-25442B2D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F2B1-98EC-42DD-AF15-D1ACCE26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0391-B50E-4E36-A683-1B206633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1B15-4BD5-4F08-BBC1-C1282E91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80EB-67B2-4C26-8D56-B70C0C44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F6AC-B04E-4520-9461-6E889E04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9197-CA2F-40CD-A89F-440137DA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4E6E-3A54-4082-9C94-A1DB1796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4709-A1C6-4D01-83F7-CF19918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1A00-AC12-4944-BCCE-BD35BC1C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0F8F-08C4-4D77-9320-301DF721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C5FB-0895-4922-972F-DB09FA1C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C431-ECB0-4AFE-8B7A-8C9FFB9E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3830-ECEA-42CD-8B5A-8461728A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1FFA-D2B2-4CBF-98F7-C7459FCF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4B01-A0CD-4C61-BB00-DE80121D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FEC7-18D1-486C-BC7B-86A0C30E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340C-4C7E-48D3-814A-092BE85D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07E7-F576-430D-8161-983FA6F2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2DFF-2BF5-4178-B38F-9A61FAD8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68E1-4F77-4CFC-B185-C5CEACB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701F-8879-4166-8512-96684F4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ACE4-7B83-4E15-BC99-3541425C4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2794-4F6D-4E6C-B8CC-8CFA14D117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9900"/>
                </a:solidFill>
                <a:latin typeface="Arial"/>
              </a:rPr>
              <a:t>ОСНОВИ НАПІВПРОВІДНИКОВОЇ ЕЛЕКТРОНІКИ </a:t>
            </a:r>
            <a:br>
              <a:rPr sz="36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Лекці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2</a:t>
            </a:r>
            <a:br>
              <a:rPr sz="3200"/>
            </a:br>
            <a:br>
              <a:rPr sz="4000"/>
            </a:br>
            <a:r>
              <a:rPr b="1" lang="uk-UA" sz="4000" spc="-1" strike="noStrike">
                <a:solidFill>
                  <a:srgbClr val="009900"/>
                </a:solidFill>
                <a:latin typeface="Arial"/>
              </a:rPr>
              <a:t>Лавинно-пролітні діоди</a:t>
            </a:r>
            <a:br>
              <a:rPr sz="4000"/>
            </a:br>
            <a:r>
              <a:rPr b="1" lang="uk-UA" sz="4000" spc="-1" strike="noStrike">
                <a:solidFill>
                  <a:srgbClr val="009900"/>
                </a:solidFill>
                <a:latin typeface="Arial"/>
              </a:rPr>
              <a:t>Інжекційно-пролітні діоди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4626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9900"/>
                </a:solidFill>
                <a:latin typeface="Arial"/>
              </a:rPr>
              <a:t>Анатолій Євту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Інститут високих технологі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иївського національного університету імені Тараса Шевч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247320" y="260280"/>
            <a:ext cx="75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Напруга пробою і ширина збідненої області в діоді з трьохшаровою базо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68360" y="907920"/>
                <a:ext cx="36720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907920"/>
                <a:ext cx="2654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50920" y="1844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Оскільки напруженість електричного поля приблизно постійна при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0 </a:t>
            </a:r>
            <a:r>
              <a:rPr b="0" i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 x </a:t>
            </a:r>
            <a:r>
              <a:rPr b="0" i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 b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, ефективний коефіцієнт ударної іонізації </a:t>
            </a:r>
            <a:r>
              <a:rPr b="0" i="1" lang="uk-UA" sz="1800" spc="-1" strike="noStrike">
                <a:solidFill>
                  <a:srgbClr val="000099"/>
                </a:solidFill>
                <a:latin typeface="Symbol"/>
                <a:ea typeface="Symbol"/>
              </a:rPr>
              <a:t>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=1/b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. Максимальну напруженість електричного поля можна знайти, якщо відома залежність коефіцієнта іонізації від поля.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66ff"/>
                </a:solidFill>
                <a:latin typeface="Arial"/>
              </a:rPr>
              <a:t>Конструкція приладу</a:t>
            </a: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628640"/>
            <a:ext cx="5003640" cy="30830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79280" y="483408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руктура деяких ЛП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 – діод створений за допомогою дифузії або подвійної епітаксії; б – бар’єр Шотткі; д – діод з двохшаровою базою; г – діод з двома областями дрейфу створений за допомогою іонної імплантац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003640" y="548640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9075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Лавинно-пролітні діоди зазвичай конструюються так, щоб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вихідна потужність і ККД були максимальні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32360" y="1990440"/>
            <a:ext cx="39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іодна структура, яка зображена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ис.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отримана за допомогою подвійної епітаксії або дифузії в епітаксій ний шар. Для зниження послідовного опору використовуют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ідкладку. Товщину епітаксійного шару слід контролювати, щоб при пробої була відсутня область не змикання. При роботі на високих частотах навіть підкладк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ипу повинна бути досить тонкою (порядку декілька мікрометрів), щоб знизити втрати і вплив неоднорідностей через скін-ефек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79280" y="5364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ис.б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оказаний </a:t>
            </a: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ЛПД з бар’єром Шотткі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який являє собою випрямляючий контакт метал-напівпровідник. Не дивлячись на те, що розподіл електричного поля в структурах, показаних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а і б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дентичний, діод з бар’єром Шотткі має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ряд переваг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По-перше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напруженість електричного поля максимальна на металургійній границі розділу, і тому тепло, що виділяється легко виводиться через металічний контакт. Діод може бути виготовлений у формі зрізаного конус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б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 метою зниження впливу крайових ефектів, пов’язаних з великою напруженістю електричного поля, і отримання однорідної області пробою.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По-друге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іод з бар’єром Шотткі можна створити при відносно низьких температурах, при яких не відбувається порушення високоякісної структури епітаксійного шару. Однак такі діоди мають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суттєвий недолік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Справа в тому, що в присутності електронів і дірок високих енергій атоми напівпровідника можуть хімічно діяти на метал, що приводить до погіршення характеристик контак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9280" y="386100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Бар’єр Шотткі можна також використовувати в </a:t>
            </a: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модифікованому діоді Рід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якщо заміст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шару нанести металічний контакт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рис.в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Оскільки в бар’єрах Шотткі головну роль грають основні носії, ефект накоплення неосновних носіїв, який має місце в звичайних структурах Ріда, тут несуттєвий, а ККД може бути навіть вищ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користовуючи модифіковані структури Ріда, можна отримати значно більші ККД в порівнянні зі звичайними діодами з постійним профілем домішки. Однак при виготовленні модифікованих діодів Ріда вимагається більш строгий контроль профілю домішки, щоб отримати прилад з заданою частотною характеристико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24000" y="189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Метод самообмеженого анодного травлення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икористовується для зменшення товщини високолегованого шару (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в діоді з двошаровою базою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і низьколегованого шару (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в діоді з трьохшаровою базою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 метою отримання оптимальної напруги пробою (тобто робочої частоти)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0920" y="1394640"/>
            <a:ext cx="8713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 більшості бар’єрів Шотткі на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исота бар’єра велика, а зворотній струм насичення малий. Однак платина реагує з арсенідом галію при робочих температурах, утворюючи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tAs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викликаючи зміщення поверхні бар’єра. Це «в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’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їдання» платини в арсенід галію змінює напругу пробою і приводить до деградації приладу. Ефект можна контролювати, якщо нанести на підкладку шар платини товщиною 20-50 нм з послідуючим нанесенням шару ртуті для обмеження реакції платини з арсенідом галі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9280" y="371700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г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оказана структура діода створеного за допомогою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методу іонної імплантації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У випадку бору чи фосфору, які найбільш часто використовуються при легуванні напівпровідників, глибина проникнення іонів становить 0.5 мкм/100 кеВ. Тому шар шириною 1 мкм можна легко отримати на установці для іонної імплантації з енергією іонів, рівною декільком сотням кілоелектронвольт. Такі джерела використовуються при виготовленні ЛПД, які працюють в діапазоні міліметрових довжин хвиль. До переваг цього методу слід віднести можливість виготовлення структур з двома дрейфовими областями (рис.г), в яких вихідна потужність і імпеданс, віднесені до одиниці площі, приблизно в два рази більші. Тому очікується, що такі структури будуть генерувати більші вихідні потужності з більш високими КК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219640" y="2133720"/>
            <a:ext cx="3800520" cy="39607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219640" y="609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ва НВЧ корпуси з поміщеними в них ЛП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0920" y="396720"/>
            <a:ext cx="83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ЛПД можуть бути виготовлені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методом молекулярно-променевої епітаксії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Оскільки при цьому можна контролювати рівень легування і товщину аж до атомних розмірів, допускається, що даний метод виявиться досить корисним при створенні ЛПД, що працюють в міліметровому і субміліметровому діапазоні довжин хви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84360" y="2277000"/>
            <a:ext cx="392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готовлений діод зазвичай монтують в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НВЧ корпус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Два типові корпуси показані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 обох випадках діод кріпиться дифузійною областю або металічним електродом на мідний або алмазний тепло відвід для забезпечення ефективного охолодження переходу під час робо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Зв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язок параметрів діода з частотою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94240" y="2420280"/>
            <a:ext cx="72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Наближені співвідношення між параметрами ЛПД і робочою частот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4000" y="9075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00"/>
                </a:solidFill>
                <a:latin typeface="Times New Roman"/>
              </a:rPr>
              <a:t>З малосигнальної теорії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можна отримати наближені співвідношення між різними параметрами діода і робочою частот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468360" y="2852640"/>
          <a:ext cx="8229240" cy="3192120"/>
        </p:xfrm>
        <a:graphic>
          <a:graphicData uri="http://schemas.openxmlformats.org/drawingml/2006/table">
            <a:tbl>
              <a:tblPr/>
              <a:tblGrid>
                <a:gridCol w="5045760"/>
                <a:gridCol w="318348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Залежність від част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лоща поперечного перерізу перехода</a:t>
                      </a: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Густина постійного струму</a:t>
                      </a: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Ширина збідненої області</a:t>
                      </a: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Напруга пробою</a:t>
                      </a: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Вихідна потужність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 P</a:t>
                      </a:r>
                      <a:r>
                        <a:rPr b="0" lang="en-US" sz="1800" spc="-1" strike="noStrike" baseline="-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cc"/>
                        </a:buClr>
                        <a:buFont typeface="Times New Roman"/>
                        <a:buChar char="-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температурні обмеж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cc"/>
                        </a:buClr>
                        <a:buFont typeface="Times New Roman"/>
                        <a:buChar char="-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бмеження пов’язані з властивостями напівпровідник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КД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8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Не залежи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"/>
          <p:cNvSpPr/>
          <p:nvPr/>
        </p:nvSpPr>
        <p:spPr>
          <a:xfrm>
            <a:off x="468360" y="1566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скільки ширина збідненої област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W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обернено пропорційна робочій частоті , площа приладу, пропорцій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W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, залежить по закону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-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79280" y="261360"/>
            <a:ext cx="56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Обмеження на вихідну потужність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Допускається, що при низьких частотах коефіцієнт корисної дії буде дуже слабо залежати від частоти. Однак в діапазоні міліметрових довжин хвиль густини робочих струмів великі (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, а площа мала 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-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, тому робоча температура діода висока. Підвищення температури в свою чергу приводить до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збільшення оберненого струму насичення і зниження КК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Крім того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скін-ефект, тунельний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та інші ефекти, які пов’язані з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високими частотами і сильними електричними полям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також погіршують ККД. Отже, по мірі збільшення частоти слід очікувати зменшення КК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084720" y="189000"/>
            <a:ext cx="2849760" cy="5041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227640" y="546732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лежність порогової частоти від густини стру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9280" y="4076640"/>
            <a:ext cx="54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ведена залежність порогової густини струму, тобто мінімальної густини струму, при якій починається генерація, від частоти.  Відмітимо, що порогова густина струму змінюється приблизно як квадрат частоти у відповідності з загальними висновками, зробленими вищ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Звязок параметрів діода з частотою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211640" y="1197000"/>
            <a:ext cx="4683240" cy="44226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539640" y="6157800"/>
            <a:ext cx="34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500720" y="564480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лежність ширини збідненої області від частоти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ЛПД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- одна область дрейф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24000" y="105228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алежність оптимальної ширини збідненої області від частоти для ЛПД з кремнію і арсеніду галія приведена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9280" y="2276640"/>
            <a:ext cx="37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Оптимальна ширина збідненої області змінюється обернено пропорційно частоті. При частотах вищих 100 ГГц ширина збідненої області менша 0,5 мкм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0920" y="378972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ака мала ширина шару може дати уяву про труднощі, з якими приходиться зіштовхуватись при виготовлені </a:t>
            </a: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модифікованих діодів Ріда і діодів з двома дрейфовими областям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які працюють в цьому діапазоні част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50920" y="2599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В даний час найбільша величина потужності на квадрат частоти отримана для 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діодів з двома дрейфовими обла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9280" y="3348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9280" y="2420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99"/>
                </a:solidFill>
                <a:uFillTx/>
                <a:latin typeface="Times New Roman"/>
              </a:rPr>
              <a:t>Переваги діодів з двома дрейфовими областями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обумовлені тим, що в цих діодах електрони і дірки, які генеруються в лавині, пролітаючи відповідні дрейфові області, здійснюють роботу проти сил високочастотного електричного поля. В діодах з однією дрейфовою областю використовується лише один тип носії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4000" y="936720"/>
            <a:ext cx="86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творений методами іонної імплантації кремнієвий </a:t>
            </a: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ЛПД з двома дрейфовими областям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в неперервному режимі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генерує потужність вище 1 Вт при частоті 50 ГГц при максимальному ККД 14 %. Ці дані можна порівняти з характеристиками аналогічних </a:t>
            </a: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діодів з однією дрейфовою областю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які генерують потужність 0.5 Вт при ККД 10 %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260280"/>
            <a:ext cx="4187880" cy="6120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4788000" y="5013360"/>
            <a:ext cx="36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Характеристики ЛПД і ІПД. Рядом з експериментальними точками вказані значення КПД у відсотках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– одна область дрейфа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D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– дві області дрейф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0" y="198360"/>
            <a:ext cx="435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При низьких частотах вихідна потужність обмежена тепловими ефектами і залежить від частоти як 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1/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, а при більш високих частотах ( 50 ГГц) потужність обмежена характеристиками носіїв і пропорційна 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1/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. На частотах, близьких до 10 ГГц, для модифікованих діодів з трьохшаровою базою і контактом  отримані к.к.д., близькі до 40%.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ЛПД є найбільш потужним твердо тільним джерелом НВЧ коливань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Із всіх твердо тільних приладів ЛПД можуть генерувати максимальну потужність в неперервному режимі  в міліметровому діапазоні довжин хви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24000" y="249480"/>
            <a:ext cx="856908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Лавинно-пролітний діод (ЛП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mpact ionization avalanche transit time (IMPAT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2. Інжекційно-пролітний діод (ІП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arrier injection transit time (BARIT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3. Двохшвидкісний пролітний діод (ДШПД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ouble velocity transit time (DOVET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Швидкість носіїв біля одного контакту значно менша ніж біля другог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4. Пролітний діод з захопленим об’ємним зарядом лав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В режимі великого сигналу лавинний процес починається в області високого поля, а потім швидко розповсюджується на весь зразок, в результаті чого останній заповнюється високопровідною електронно-дірковою плазмою, просторовий заряд якої знижує напругу на діоді до дуже малих величин. Так як плазма не може бути швидко виведена з приладу, цей режим роботи названий режимом з захопленим об’ємним зарядом лавин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694520" y="115920"/>
            <a:ext cx="56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Інжекційно-пролітні діод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0920" y="90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Оскільки в 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ІПД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немає запізнення, обумовленого кінцевим часом наростання лавини, вважається, що ці прилади будуть генерувати менші потужності при більш низьких ККД в порівнянні з лавинно-пролітними діодами. З іншої сторони, </a:t>
            </a:r>
            <a:r>
              <a:rPr b="0" lang="uk-UA" sz="1800" spc="-1" strike="noStrike" u="sng">
                <a:solidFill>
                  <a:srgbClr val="000099"/>
                </a:solidFill>
                <a:uFillTx/>
                <a:latin typeface="Times New Roman"/>
              </a:rPr>
              <a:t>шум зв’язаний з інжекцією носіїв заряду через бар’єр, менший лавинного шуму ЛПД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0" lang="uk-UA" sz="1800" spc="-1" strike="noStrike" u="sng">
                <a:solidFill>
                  <a:srgbClr val="000099"/>
                </a:solidFill>
                <a:uFillTx/>
                <a:latin typeface="Times New Roman"/>
              </a:rPr>
              <a:t>Низький рівень шуму і гарна стабільність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дають змогу застосовувати ІПД в якості гетеродина. Інжекційно-пролітні діоди мають </a:t>
            </a:r>
            <a:r>
              <a:rPr b="0" lang="uk-UA" sz="1800" spc="-1" strike="noStrike" u="sng">
                <a:solidFill>
                  <a:srgbClr val="000099"/>
                </a:solidFill>
                <a:uFillTx/>
                <a:latin typeface="Times New Roman"/>
              </a:rPr>
              <a:t>більшу потужність і меншу величину мінімального виявного сигналу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, ніж ЛПД або прилади на ефекті між долинного переходу електронів при їх використанні в якості допплерівських детектор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79280" y="320832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Інжекційно-пролідний діо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належать до сімейства пролітних НВЧ діодів. В основі його роботи лежать два механізми: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1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термоемісія (інжекція) і дифузія неосновних носіїв через прямо зміщений бар’єр і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2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оліт носіїв через область дрейфу, що приводить до запізнення фази на кут прольоту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/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 Зазвичай ІПД малопотужні і мають низькі ККД, однак відношення сигнал/шум краще, ніж у інших діодів. ІПД використовуються найчастіше в якості гетеродинів в НВЧ приймач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601640"/>
            <a:ext cx="3922560" cy="52563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4284720" y="5240160"/>
            <a:ext cx="4537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руктура метал-напівпровідник-метал (МНМ –структур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- МН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структура з однорідно легованим напівпровідником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типу;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- розподіл просторового заряду при малих зміщеннях діода;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- розподіл поля;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- енергетична діагра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140360" y="2997360"/>
                <a:ext cx="2376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6588000" y="2997360"/>
                <a:ext cx="23036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4284720" y="3733200"/>
            <a:ext cx="45370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i="1" lang="uk-UA" sz="1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i="1" lang="uk-UA" sz="1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 - ширина збіднених областей прямо- і обернено зміщених бар’єрів відповідно,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 - концентрація іонізованої домішки і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bi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 - контактна різниця потенціал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79280" y="0"/>
            <a:ext cx="864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Інжекційно-пролятний діо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являє собою два випрямляючі контакти зі спільною базою, яка в робочих умовах повністю збіднена носіями. Розглянемо протікання струму в такому діоді. Спочатку розглянемо протікання електричного струму в симетричній структурі метал-напівпровідник-метал (МНМ) з однорідно легованим шаром напівпровідник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ип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356000" y="1195560"/>
            <a:ext cx="446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бернено зміщений діод (менша позитивна напруга прикладена до контакту 1, причому контакт1 зміщений, таким чином, в прямому напрямку, а контакт 2 – в оберненому. Ширина збіднених областей визначається наступними рівнянням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08000" y="96840"/>
            <a:ext cx="8785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цих умовах повний струм дорівнює сумі оберненого струму насичення діода Шотткі з висотою бар’єра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B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генераційно-рекомбінаційного струму і струму поверхневих виток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980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о мірі збільшення напруги врешті-решт відбудеться змикання збідненої області контакту, який зміщений в оберненому напрямку, зі збідненою областю прямо зміщеного контак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3357720"/>
            <a:ext cx="4896000" cy="33080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003640" y="551664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поділ електричного поля і енергетична діаграма МНМ структури при проколі (а) і в умовах плоских зон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9280" y="1806840"/>
            <a:ext cx="8569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ідповідна напруга називається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напругою змикання (або напругою проколу)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R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Цю напругу можна знайти прирівнявш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W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W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W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(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W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шири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бласті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476360" y="2565360"/>
                <a:ext cx="60800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4788000" y="3235320"/>
            <a:ext cx="4248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RT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– 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напруга змикання або напруга проко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468360" y="23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655880" y="1248840"/>
            <a:ext cx="268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FB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- напруга плоских з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2700360" y="1125360"/>
                <a:ext cx="15127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179280" y="29034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0920" y="450216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79280" y="169920"/>
            <a:ext cx="8856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подальшому збільшенні напруги енергетичні зони на контакті 1 стають плоскими. В цьому випадку електричне поле пр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=0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рівне нулю, а падіння напруги на першому контакт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bi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б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ідповідна напруга називається напругою плоских зон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FB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4000" y="1969920"/>
            <a:ext cx="8353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Залежність напруги плоских зон від концентрації домішки в кремнієвих діодах з різною шириною бази наведена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ля заданої ширини бази максимальна величи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FB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бмежена напругою лавинного проб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0920" y="3213000"/>
            <a:ext cx="3809880" cy="35053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4356000" y="479736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лежність напруги плоских зон від концентрації домішки в кремнієвих діодах з різною шириною бази. Для заданої ширини бази максимальна величина напруги плоских зон обмежена напругою лавинного пробою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50920" y="115920"/>
            <a:ext cx="8640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Величина постійного зміщення ІПД в умовах генерації НВЧ-потужності зазвичай лежить між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RT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FB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. В цьому випадку (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RT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i="1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FB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 прикладена напруга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 зв’язана з висотою бар’єра зміщеного в прямому напрямі наступним співвідношенн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627280" y="1197000"/>
                <a:ext cx="28544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700360" y="2205000"/>
                <a:ext cx="2808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W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340000" y="3357720"/>
                <a:ext cx="39592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  <m:sup/>
                    </m:sSub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179280" y="1557360"/>
            <a:ext cx="8713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Положення точки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, де відбувається змикання збіднених областей, визначається рівнянн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0920" y="2708280"/>
            <a:ext cx="8496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Після змикання збіднених областей струм термічно емітованих через бар’єр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Bp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дірок стає домінуюч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9960" y="4100040"/>
            <a:ext cx="519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*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ефективна постійна Річардсона. З рівнян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940360" y="4292640"/>
                <a:ext cx="25192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235080" y="4746600"/>
            <a:ext cx="24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Для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RT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отримуєм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465280" y="5157720"/>
                <a:ext cx="4070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  <m:sup/>
                    </m:sSub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B</m:t>
                            </m:r>
                          </m:sub>
                        </m:sSub>
                      </m:den>
                    </m:f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324000" y="59986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Таким чино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після змикання збіднених носіями областей залежність струму від напруги буде експоненційною</a:t>
            </a:r>
            <a:r>
              <a:rPr b="0" lang="uk-UA" sz="14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826920" y="18900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7928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-2557440" y="58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79280" y="412272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4000" y="11556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Якщо струм настільки великий, що концентрація інжектованих носіїв порівняна з концентрацією іонізованої домішки, об’ємний заряд рухливих носіїв впливає на розподіл електричного поля в області дрейфу. Це явище називається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ефектом обмеження об’ємним зарядом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364000" y="1035360"/>
            <a:ext cx="35290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Викладені вище міркування можна застосувати і для інших структур, таких як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і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uk-UA" sz="18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 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діоди (рис.). Вирази для напруг змикання і плоских зон в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діоді мають такий же вигляд, як і для МНМ структури. Для ускладненої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uk-UA" sz="18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 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структури із аналогічних міркувань також можна отримати величини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9900"/>
                </a:solidFill>
                <a:latin typeface="Times New Roman"/>
              </a:rPr>
              <a:t>RT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9900"/>
                </a:solidFill>
                <a:latin typeface="Times New Roman"/>
              </a:rPr>
              <a:t>FB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99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і співвідношення між прикладеною напругою і падінням напруги на зміщеному в прямому напрямку переході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1341360"/>
            <a:ext cx="4786560" cy="518328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5292720" y="530064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поділ електричного поля при малих зміщеннях і проколі та енергетичні діаграми при проколі дл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структури (а) 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структури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651640" y="5338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79280" y="260280"/>
            <a:ext cx="8642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Протікання струму через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i="1" lang="ru-RU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- 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діод, в якому відбувся прокол, визначається тими ж механізмами, що і в МНМ структурі. Єдиною відмінністю є відсутність множника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exp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(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 baseline="-25000">
                <a:solidFill>
                  <a:srgbClr val="009900"/>
                </a:solidFill>
                <a:latin typeface="Times New Roman"/>
              </a:rPr>
              <a:t>Bp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kT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у випадку інжекції носіїв через зміщений в прямому напрямку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 - 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перехі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050920" y="1557360"/>
                <a:ext cx="4970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B</m:t>
                            </m:r>
                          </m:sub>
                        </m:sSub>
                      </m:den>
                    </m:f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B</m:t>
                            </m:r>
                          </m:sub>
                        </m:sSub>
                      </m:den>
                    </m:f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179280" y="2239200"/>
            <a:ext cx="8713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сота бар’єра в структурі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PtSi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Si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рівна 0.2 еВ. Отже, при температурі 300 К і заданій напрузі, яка перевищує напругу змикання, струм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іода буде приблизно в 3000 разів більший струму МНМ структури. При кімнатній температур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J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FB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(=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*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 складає  1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7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А/см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Тому в звичайних робочих умовах ефект обмеження об’ємним стає суттєвим при струмах, значно менших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J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FB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0920" y="115920"/>
            <a:ext cx="4286160" cy="616428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5003640" y="55652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ольт-амперна характеристика кремнієвого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іода в умовах роботи з прокол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643280" y="189360"/>
            <a:ext cx="417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ипова вольт-амперна характеристика кремнієвого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іода з концентрацією домішки 5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14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м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-3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шириною бази 8.5 мкм наведена на рис. Напруга плоских зон дорівнює 29 В, а напруга змикання складає 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21 В. Відмітимо, що спочатку струм зростає експоненційно, а потім лінійно з напруго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716360" y="2834640"/>
            <a:ext cx="424836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ефективної роботи ІПД необхідно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контролювати величину інжектованого заряду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Тому струм має різко зростати зі збільшенням напруги. Лінійна вольт-амперна залежність, зв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’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язана з ефектом обмеження об’ємним зарядом, буде погіршувати характеристики приладу. Зазвичай оптимальна густина струму значно менш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J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q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95280" y="533520"/>
            <a:ext cx="856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писаний вище діод зі змиканням збіднених областей використовується в якості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швидкодіючого обмежувача напруг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оскільки струм в такому діоді різко зростає, як тільки напруга перевищить напругу змикання. Ефект накоплення заряду практично відсутній; крім того, діод має гарну температурну стабільні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Були створені діоди зі змиканням з робочою напругою 1.5 В, причому характеристики були порівняльні і навіть кращі, ніж характеристики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зінерівського діод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в якому використовується явище лавинного пробою або тунелювання (при великих напругах – лавинний пробій, при малих – тунелюванн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66ff"/>
                </a:solidFill>
                <a:latin typeface="Times New Roman"/>
              </a:rPr>
              <a:t>Дякую за увагу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Лавинно-пролітний діод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9280" y="969120"/>
            <a:ext cx="87854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Принцип роботи лавинно-пролітних діодів (ЛПД)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 оснований на виникненні від’ємного опору в діапазоні надвисоких частот, яке обумовлено процесами лавинного помноження носіїв і їх прольоту через напівпровідникову структур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Поява від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ємного опору обумовлена часовим запізненням цих двох процесів, що приводить до </a:t>
            </a:r>
            <a:r>
              <a:rPr b="1" lang="uk-UA" sz="1800" spc="-1" strike="noStrike" u="sng">
                <a:solidFill>
                  <a:srgbClr val="000099"/>
                </a:solidFill>
                <a:uFillTx/>
                <a:latin typeface="Times New Roman"/>
              </a:rPr>
              <a:t>фазового зсуву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між струмом і напруг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99"/>
                </a:solidFill>
                <a:uFillTx/>
                <a:latin typeface="Times New Roman"/>
              </a:rPr>
              <a:t>«Лавинне запізнення»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виникає за рахунок кінцевого часу наростання лавинного струму, а </a:t>
            </a:r>
            <a:r>
              <a:rPr b="0" lang="uk-UA" sz="1800" spc="-1" strike="noStrike" u="sng">
                <a:solidFill>
                  <a:srgbClr val="000099"/>
                </a:solidFill>
                <a:uFillTx/>
                <a:latin typeface="Times New Roman"/>
              </a:rPr>
              <a:t>«пролітне запізнення»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- за рахунок кінечного часу проходження носіями області дрейф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Опір діода від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ємний на деякій частоті, якщо сума цих часів рівна півперіоду коливанн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ЛПД є одним з самих потужних твердотільних джерел НВЧ коливань. ЛПД може генерувати в неперервному режимі найбільшу потужність в діапазоні частот, що відповідають міліметровим довжинам хвиль (тобто більше 30 ГГц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Труднощі при роботі ЛПД в зовнішньому ланцюг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1) високий рівень шум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2) необхідність ретельного розрахунку ланцюгів (щоб уникнути розузгодження або навіть перегоряння діоду, оскільки реактивність велика і сильно залежить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від амплітуди осциляці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IMPATT – impact ionization avalanche transit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95280" y="400320"/>
            <a:ext cx="84596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Times New Roman"/>
              </a:rPr>
              <a:t>Основними представниками сімейства лавинно-пролітних діодів є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1.Діод Рі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2. Асиметричний різкий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перехі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3. Симетричний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перехід (діод з двома дрейфовими областя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4. Діод з двохшаровою баз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5. Діод з трьохшаровою базою (модифікований діод Ріда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6.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 ді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Лавинно-пролітний діод</a:t>
            </a:r>
            <a:br>
              <a:rPr sz="3600"/>
            </a:b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Діод Рід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981000"/>
            <a:ext cx="3354480" cy="47516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0" y="5733720"/>
            <a:ext cx="63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поділ домішок (а), напруженості електричного поля (б) і ефективного коефіцієнта іонізації (в) при пробої в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іоді Р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708360" y="14839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В діоді Ріда область лавинного помноження розміщена на одному кінці відносно високоомного шару, що служить дрейфовим пролітним простором для генерованих носіїв заря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48280" y="2780280"/>
            <a:ext cx="1058760" cy="398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6666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6666ff"/>
                </a:solidFill>
                <a:latin typeface="Times New Roman"/>
              </a:rPr>
              <a:t>-n-i-n</a:t>
            </a:r>
            <a:r>
              <a:rPr b="0" lang="en-US" sz="2000" spc="-1" strike="noStrike" baseline="30000">
                <a:solidFill>
                  <a:srgbClr val="6666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40640" y="2780280"/>
            <a:ext cx="1058760" cy="398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-p-i-p</a:t>
            </a:r>
            <a:r>
              <a:rPr b="0" lang="en-US" sz="20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3840" y="32839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Ефективний коефіцієнт ударної іонізації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284720" y="3716280"/>
                <a:ext cx="23749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W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3635280" y="4417920"/>
            <a:ext cx="500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де </a:t>
            </a:r>
            <a:r>
              <a:rPr b="0" lang="uk-UA" sz="18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і </a:t>
            </a:r>
            <a:r>
              <a:rPr b="0" lang="uk-UA" sz="18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- коефіцієнти ударної іонізації електронів і дірок відповідно і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W 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– ширина збідненої област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59240" y="529992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Умова лавинного пробо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7020000" y="5767560"/>
                <a:ext cx="1224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W</m:t>
                        </m:r>
                      </m:sup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79280" y="95760"/>
            <a:ext cx="8713800" cy="24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Через сильну залежність коефіцієнтів ударної іонізації від напруженості електричного поля область лавинного помноження сильно локалізована, тобто практично весь процес помноження носіїв відбувається в вузькому шарі високого поля від 0 да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, де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- ширина</a:t>
            </a:r>
            <a:r>
              <a:rPr b="0" lang="uk-UA" sz="18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області помноження.</a:t>
            </a:r>
            <a:r>
              <a:rPr b="0" lang="uk-UA" sz="18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Падіння напруги на області помноження-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Оптимальна густина струму і максимальний ККД лавинно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пролітних діодів сильно залежать як від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, так і від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Шар поза областю помноження 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</a:rPr>
              <a:t>≤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</a:rPr>
              <a:t>≤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W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називається</a:t>
            </a:r>
            <a:r>
              <a:rPr b="0" lang="uk-UA" sz="18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областю дрейфа.</a:t>
            </a:r>
            <a:r>
              <a:rPr b="0" lang="uk-UA" sz="18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79280" y="2797560"/>
            <a:ext cx="8640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00"/>
                </a:solidFill>
                <a:latin typeface="Times New Roman"/>
              </a:rPr>
              <a:t>Існують два граничні випадки розподілу домішки в діоді Ріда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. 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Якщо відсутня область з концентрацією домішки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i="1" lang="ru-RU" sz="1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, то маємо різкий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r>
              <a:rPr b="0" i="1" lang="ru-RU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перехі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2. 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Якщо відсітня область з концентрацією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i="1" lang="uk-UA" sz="18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, то діод Ріда вироджується в 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i="1" lang="uk-UA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діод (діод Місав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4183560"/>
            <a:ext cx="84628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У випадку кремнієвого діода з симетричним різким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переходом область помноження розміщена поблизу центра збідненої області. Невелика асиметрія коефіцієнту ударної іонізації по відношенню до точки, в якій напруженість електричного поля максимальна, повязана з тим, що в кремнії </a:t>
            </a:r>
            <a:r>
              <a:rPr b="0" i="1" lang="uk-UA" sz="1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і </a:t>
            </a:r>
            <a:r>
              <a:rPr b="0" i="1" lang="uk-UA" sz="1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сильно різняться. Якщо </a:t>
            </a:r>
            <a:r>
              <a:rPr b="0" lang="uk-UA" sz="1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, як це має місце в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GaP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, ефективний коефіцієнт іонізац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635280" y="5734080"/>
                <a:ext cx="1609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45880" y="6277680"/>
            <a:ext cx="76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область лавинного помноження симетрична по відношенню до точки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=0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Діод з асиметричним різьким 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p</a:t>
            </a:r>
            <a:r>
              <a:rPr b="1" lang="en-US" sz="3200" spc="-1" strike="noStrike" baseline="30000">
                <a:solidFill>
                  <a:srgbClr val="6666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-n </a:t>
            </a: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переходом.</a:t>
            </a:r>
            <a:br>
              <a:rPr sz="3200"/>
            </a:b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Діод з симетричним різьким 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p-n </a:t>
            </a: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переходом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0920" y="1700280"/>
            <a:ext cx="4497120" cy="4824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4643280" y="4437360"/>
            <a:ext cx="43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поділ домішок, напруженості електричного поля і ефективного коефіцієнта іонізації в діоді з асиметричним різки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переходом (діод з однією дрейфовою областю) (а) і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діоді з симетричним різки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ереходом (діод з двома дрейфовими областями) (б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Діод Ріда з двохшаровою базою і трьохшаровою базою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125360"/>
            <a:ext cx="4157640" cy="48247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50920" y="59558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поділ домішок, напруженості електричного поля і ефективного коефіцієнта іонізації в в модифікованих діодах Ріда: з двохшаровою базою (а) і з трьохшаровою базою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11640" y="1106640"/>
            <a:ext cx="4680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Модифікована структура Ріда – діод з двохшаровою базою, в якому концентрація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ru-RU" sz="18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суттєво перевищує відповідну величину для діода Рі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284720" y="2276640"/>
            <a:ext cx="461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Друга модифікація діода Ріда – діод з трьохшаровою базою. В діоді «згусток» заряду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розташований в точці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. Оскільки достатньо висока напруженість електричного поля залишається постійною між точками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=0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, то максимальне поле може бути меншим, ніж в діоді з двохшаровою баз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56000" y="4508640"/>
            <a:ext cx="47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В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 діодах електричне поле однорідне у всій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області при малих струмах. В цьому випадку область лавинного помноження відповідає всій ширині шару власної концентрац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66ff"/>
                </a:solidFill>
                <a:latin typeface="Arial"/>
              </a:rPr>
              <a:t>Напруга пробою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692280"/>
            <a:ext cx="5419800" cy="36097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0" y="422100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аксимальна напруженість електричного поля при пробої як функція концентрації для асиметричних і симетричних різьких переходів 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579280" y="691560"/>
            <a:ext cx="33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Асиметричні різкі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9900"/>
                </a:solidFill>
                <a:latin typeface="Times New Roman"/>
              </a:rPr>
              <a:t> переход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5508720" y="1197000"/>
                <a:ext cx="1295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093080" y="1125360"/>
                <a:ext cx="183492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5650920" y="2133000"/>
            <a:ext cx="32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Симетричні різкі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uk-UA" sz="1800" spc="-1" strike="noStrike">
                <a:solidFill>
                  <a:srgbClr val="3333cc"/>
                </a:solidFill>
                <a:latin typeface="Times New Roman"/>
              </a:rPr>
              <a:t>переход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5292720" y="2637000"/>
                <a:ext cx="21607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596360" y="2708280"/>
                <a:ext cx="1331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"/>
          <p:cNvSpPr/>
          <p:nvPr/>
        </p:nvSpPr>
        <p:spPr>
          <a:xfrm>
            <a:off x="5508720" y="40050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Напруга пробою і ширина збідненої області в діоді Ріда і діоді з двошаровою базо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076720" y="5013360"/>
                <a:ext cx="4067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b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084720" y="5734080"/>
                <a:ext cx="22338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6:59:09Z</dcterms:created>
  <dc:creator>Home_RDM</dc:creator>
  <dc:description/>
  <dc:language>en-US</dc:language>
  <cp:lastModifiedBy>Anatoli</cp:lastModifiedBy>
  <dcterms:modified xsi:type="dcterms:W3CDTF">2013-11-17T15:51:53Z</dcterms:modified>
  <cp:revision>272</cp:revision>
  <dc:subject/>
  <dc:title>NANOCRYSTAL MEMORY</dc:title>
</cp:coreProperties>
</file>