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901AE-DDE0-4341-A95F-F544518F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B3907-F278-406F-B0E3-0211BB48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C60E-B768-4786-A1F8-FAB51550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D23AA-A064-4E60-9C02-BCC1176B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6973-9FA8-4EB5-AB8E-74126BB2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224F-B8A3-44EB-94AE-85AB327A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6B06-D576-4DED-B905-36601CE1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5505-6408-4DD6-824D-7BA3D173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BBC3-FACD-4033-98F7-671DF4F8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0C08-D515-4AB0-85C4-1F4D5381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496C-173B-4659-8541-0C9242CA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2D17-F963-46C2-97D1-6F858D1B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A8B4-BA9C-403D-8D30-0B16D34D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E4DB-DC99-4458-BE52-642C9E8A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0E9F-4E9E-455D-8C4E-3AEAD3D0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E9A1-2B71-4011-890D-2E661A71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E9AD-5C0E-4630-9F33-D91E14ED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817D-CCB9-4E4B-9110-27D53A66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DD69-A2BC-49A9-9A4E-0E14A326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8DB2-F153-4523-BC90-FBF154F9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B13A-D3DA-4635-A287-555BDF4D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1ABEB-84E9-4D90-B915-38AD1A72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0BDD-088E-41B9-8BD8-6D8D55CF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16D8-1DDB-4B9D-A43A-BC6268C4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7191-D886-4877-9644-D7C4C05972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51E6-6DD7-44FD-94D7-F29CCAC384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uk-UA" sz="3600" spc="-1" strike="noStrike">
                <a:solidFill>
                  <a:srgbClr val="ff9900"/>
                </a:solidFill>
                <a:latin typeface="Arial"/>
              </a:rPr>
              <a:t>ОСНОВИ НАПІВПРОВІДНИКОВОЇ ЕЛЕКТРОНІКИ </a:t>
            </a:r>
            <a:br>
              <a:rPr sz="3600"/>
            </a:b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Лекція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4</a:t>
            </a:r>
            <a:br>
              <a:rPr sz="3200"/>
            </a:b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1" lang="uk-UA" sz="4000" spc="-1" strike="noStrike">
                <a:solidFill>
                  <a:srgbClr val="008000"/>
                </a:solidFill>
                <a:latin typeface="Arial"/>
              </a:rPr>
              <a:t>вітлодіоди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8360" y="4626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9900"/>
                </a:solidFill>
                <a:latin typeface="Arial"/>
              </a:rPr>
              <a:t>Анатолій Євту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Інститут високих технологі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Київського національного університету імені Тараса Шевче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7C477-1734-4B71-BF13-CD142797A5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cc"/>
                </a:solidFill>
                <a:latin typeface="Arial"/>
              </a:rPr>
              <a:t>Ефективність люмінесценції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0920" y="9079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При заданій енергії збудження поряд з випромінювальною рекомбінацією протікають конкуруючі безвипромінювальні процеси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 4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50920" y="1628640"/>
            <a:ext cx="5381640" cy="29624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249120" y="4797360"/>
            <a:ext cx="72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4. Процеси випромінювальної і безвипромінювальної рекомбінації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86A7-D38B-4DD9-9B24-6A8C1328F6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79280" y="522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Квантова ефективність люмінесценції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визначається як відношення кількості збуджених носіїв, що дають вклад у випромінювання, до повної кількості носіїв, що приймають участь у рекомбінації, і може бути виражена через часи життя наступним чино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2050920" y="1197000"/>
                <a:ext cx="36687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r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179280" y="1806840"/>
            <a:ext cx="878544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де </a:t>
            </a: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Times New Roman"/>
              </a:rPr>
              <a:t>r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і </a:t>
            </a:r>
            <a:r>
              <a:rPr b="0" lang="uk-UA" sz="1800" spc="-1" strike="noStrike">
                <a:solidFill>
                  <a:srgbClr val="008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Times New Roman"/>
              </a:rPr>
              <a:t>nr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-  часи життя випромінювальної і безвипромінювальної рекомбінації відповідно, а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8000"/>
                </a:solidFill>
                <a:latin typeface="Times New Roman"/>
              </a:rPr>
              <a:t>r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і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R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-швидкості випромінювальної і повної рекомбінації. Для напівпровідникових шарів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p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-типу провідності швидкості рекомбінації і часи життя зв’язані співвідношенн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132000" y="3068640"/>
                <a:ext cx="1673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322920" y="3644280"/>
            <a:ext cx="30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Аналогічно для шарів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–тип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2987640" y="4076640"/>
                <a:ext cx="171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2" name=""/>
          <p:cNvSpPr/>
          <p:nvPr/>
        </p:nvSpPr>
        <p:spPr>
          <a:xfrm>
            <a:off x="0" y="4562280"/>
            <a:ext cx="88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де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0" i="1" lang="uk-UA" sz="1800" spc="-1" strike="noStrike" baseline="-25000">
                <a:solidFill>
                  <a:srgbClr val="008000"/>
                </a:solidFill>
                <a:latin typeface="Times New Roman"/>
              </a:rPr>
              <a:t>0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і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p</a:t>
            </a:r>
            <a:r>
              <a:rPr b="0" i="1" lang="uk-UA" sz="1800" spc="-1" strike="noStrike" baseline="-25000">
                <a:solidFill>
                  <a:srgbClr val="008000"/>
                </a:solidFill>
                <a:latin typeface="Times New Roman"/>
              </a:rPr>
              <a:t>0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- концентрації електронів і дірок в стані теплової рівноваги, а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і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– електронна і діркова концентрації при оптичному збудженн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51640" y="5228640"/>
            <a:ext cx="500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Час життя неосновних носіїв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задається вираз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867280" y="5229360"/>
                <a:ext cx="26877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r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6013440" y="126756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7)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0920" y="6002280"/>
            <a:ext cx="8642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З рівняння (7) видно, що для забезпечення високої квантової ефективності час життя </a:t>
            </a:r>
            <a:r>
              <a:rPr b="0" i="1" lang="uk-UA" sz="1800" spc="-1" strike="noStrike">
                <a:solidFill>
                  <a:srgbClr val="008000"/>
                </a:solidFill>
                <a:latin typeface="Symbol"/>
                <a:ea typeface="Symbol"/>
              </a:rPr>
              <a:t></a:t>
            </a:r>
            <a:r>
              <a:rPr b="0" i="1" lang="en-US" sz="1800" spc="-1" strike="noStrike" baseline="-25000">
                <a:solidFill>
                  <a:srgbClr val="008000"/>
                </a:solidFill>
                <a:latin typeface="Times New Roman"/>
              </a:rPr>
              <a:t>r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має бути мал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2D53F-FA0A-489A-9E70-C5991F8E03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24000" y="2781360"/>
            <a:ext cx="4324320" cy="309564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4932360" y="4005360"/>
            <a:ext cx="38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5. Залежність квантової ефективності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As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- світлодіодів від температури. На вставці показаний поперечний переріз пристрою, що використовується для вимірювання ефективності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79280" y="170280"/>
            <a:ext cx="8748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Вставка 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 5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ілюструє </a:t>
            </a:r>
            <a:r>
              <a:rPr b="0" lang="ru-RU" sz="1800" spc="-1" strike="noStrike" u="sng">
                <a:solidFill>
                  <a:srgbClr val="0000cc"/>
                </a:solidFill>
                <a:uFillTx/>
                <a:latin typeface="Times New Roman"/>
              </a:rPr>
              <a:t>схему вимірювання ефективності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. Вимірювання випромінювання проводиться безпосередньо по струму короткого замикання сонячної батареї. Зовнішня ефективність, виміряна як функція від температури, представлена 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 5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. Зі зростанням температури ефективність зменшується і має значення близько 40, 32 і 7% при температурах 20, 77 і 300 К відповідно.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Зменшення ефективності обумовлено зменшенням відно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шення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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/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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із зростанням температури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B169-E7C6-4DF6-A0F2-C359EDF05A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8000"/>
                </a:solidFill>
                <a:latin typeface="Arial"/>
              </a:rPr>
              <a:t>Світлодіоди видимого діапазону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55640" y="764640"/>
            <a:ext cx="81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00"/>
                </a:solidFill>
                <a:latin typeface="Times New Roman"/>
              </a:rPr>
              <a:t>Світлодіоди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- це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-n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ереходи, які при прямому зміщенні можуть випромінювати спонтанне випромінювання в ультрафіолетовій, видимій і інфрачервоній ділянках спектр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276360" y="1699560"/>
            <a:ext cx="17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9&lt;</a:t>
            </a:r>
            <a:r>
              <a:rPr b="0" lang="uk-UA" sz="18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&lt;0,77м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651640" y="1557360"/>
            <a:ext cx="2592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</a:t>
            </a:r>
            <a:r>
              <a:rPr b="0" lang="it-IT" sz="1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8 еВ; 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&lt;0,7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м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Symbol"/>
                <a:ea typeface="Symbol"/>
              </a:rPr>
              <a:t></a:t>
            </a:r>
            <a:r>
              <a:rPr b="0" lang="it-IT" sz="1800" spc="-1" strike="noStrike" baseline="-25000">
                <a:solidFill>
                  <a:srgbClr val="008000"/>
                </a:solidFill>
                <a:latin typeface="Times New Roman"/>
              </a:rPr>
              <a:t>max</a:t>
            </a:r>
            <a:r>
              <a:rPr b="0" lang="it-IT" sz="1800" spc="-1" strike="noStrike">
                <a:solidFill>
                  <a:srgbClr val="008000"/>
                </a:solidFill>
                <a:latin typeface="Times New Roman"/>
              </a:rPr>
              <a:t>=0,555 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м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79280" y="220500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Ефективність дії світла на око людини визначається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функцією відносної видимо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ті ока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V(</a:t>
            </a:r>
            <a:r>
              <a:rPr b="1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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яка залежить від довжини хвилі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79280" y="3114720"/>
            <a:ext cx="4392720" cy="374328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4716360" y="5118120"/>
            <a:ext cx="42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6. Функція відносної видимості ока, що визначена Міжнародною комісією по освітленню (МКО) для стандартного фотометричного спостерігача. Позначені основні кольорові зони видимого випромінюван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788000" y="27813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Ефективність використання променевої енергії при зоровому сприйнятті характеризується </a:t>
            </a: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яскравістю променевої енергії.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788000" y="4005360"/>
            <a:ext cx="4356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1 Вт променевої енергії в максимумі чутливості ока (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</a:t>
            </a:r>
            <a:r>
              <a:rPr b="0" i="1" lang="it-IT" sz="1800" spc="-1" strike="noStrike" baseline="-25000">
                <a:solidFill>
                  <a:srgbClr val="0000cc"/>
                </a:solidFill>
                <a:latin typeface="Times New Roman"/>
              </a:rPr>
              <a:t>max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=0,555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мкм) відповідає 680 л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094F1-E3CA-4D7C-9CB3-52C7E40E06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Arial"/>
              </a:rPr>
              <a:t>Матеріали для світлодіодів видимого діапазону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1484280"/>
            <a:ext cx="4862520" cy="518328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219640" y="5229360"/>
            <a:ext cx="374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7. Напівпровідники, на основі яких можуть бути створені світлодіоди зі спектром випромінювання, що включає діапазон видимого світ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148360" y="1701000"/>
            <a:ext cx="360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Оскільки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око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чутлив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е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тільки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до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світла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з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енергією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0" i="1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1,8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еВ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(~0,7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мкм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),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то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напівпровідники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які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можуть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бути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використані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для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створення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світлодіодів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видимого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діапазону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овинні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мати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ширину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забороненої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зони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більше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цього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значення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 7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наведено перелік напівпровідників, що представляють інтерес з цієї точки зор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76F00-B839-4179-AD2F-F7610C773C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250920" y="189000"/>
            <a:ext cx="87138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Заштриховані </a:t>
            </a:r>
            <a:r>
              <a:rPr b="0" lang="ru-RU" sz="1800" spc="-1" strike="noStrike" u="sng">
                <a:solidFill>
                  <a:srgbClr val="0000cc"/>
                </a:solidFill>
                <a:uFillTx/>
                <a:latin typeface="Times New Roman"/>
              </a:rPr>
              <a:t>прямозоні напівпровідники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особливо важливі для електролюмінесцентних приладів, так як випромінювальна рекомбінація в них є процесом першого порядку (протікає без участі фононів) і очікувана квантова ефективність повинна бути значно вищою, ніж для напівпровідників з непрямою зоною, в яких при переходах збуджуються фонони. Серед усіх наведених 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 7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напівпровідників найбільший інтерес представляє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As</a:t>
            </a:r>
            <a:r>
              <a:rPr b="0" lang="ru-RU" sz="1800" spc="-1" strike="noStrike" baseline="-25000">
                <a:solidFill>
                  <a:srgbClr val="0000cc"/>
                </a:solidFill>
                <a:latin typeface="Times New Roman"/>
              </a:rPr>
              <a:t>1-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, що відноситься до сполук типу А</a:t>
            </a:r>
            <a:r>
              <a:rPr b="0" lang="en-US" sz="1800" spc="-1" strike="noStrike" baseline="30000">
                <a:solidFill>
                  <a:srgbClr val="0000cc"/>
                </a:solidFill>
                <a:latin typeface="Times New Roman"/>
              </a:rPr>
              <a:t>III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-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0" lang="en-US" sz="1800" spc="-1" strike="noStrike" baseline="30000">
                <a:solidFill>
                  <a:srgbClr val="0000cc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50920" y="2401560"/>
            <a:ext cx="8642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 8,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а наведена залежність ширини забороненої зони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ＭＳ Ｐゴシック"/>
              </a:rPr>
              <a:t>GaAs</a:t>
            </a:r>
            <a:r>
              <a:rPr b="0" lang="ru-RU" sz="1800" spc="-1" strike="noStrike" baseline="-25000">
                <a:solidFill>
                  <a:srgbClr val="0000cc"/>
                </a:solidFill>
                <a:latin typeface="Times New Roman"/>
              </a:rPr>
              <a:t>1-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  <a:ea typeface="ＭＳ Ｐゴシック"/>
              </a:rPr>
              <a:t>x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ＭＳ Ｐゴシック"/>
              </a:rPr>
              <a:t>P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  <a:ea typeface="ＭＳ Ｐゴシック"/>
              </a:rPr>
              <a:t>x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від молярного вмісту компонент 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7E71E-2C39-4DBF-B07E-3441458F44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50920" y="189000"/>
            <a:ext cx="5832360" cy="47736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250920" y="4845600"/>
            <a:ext cx="54734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8. Залежності ширини енергетичних зазорів (а) для прямого (</a:t>
            </a:r>
            <a:r>
              <a:rPr b="0" i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) і непрямого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) мінімумів зони провідності від склад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A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і енергетична зонна структур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A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(б). Значення складу, що відповідають червоному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0,4)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, померанчевому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,65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), жовтому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,85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) і зеленому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,0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) світл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967800" y="139680"/>
            <a:ext cx="1072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GaAs</a:t>
            </a:r>
            <a:r>
              <a:rPr b="0" lang="ru-RU" sz="1800" spc="-1" strike="noStrike" baseline="-25000">
                <a:solidFill>
                  <a:srgbClr val="cc0000"/>
                </a:solidFill>
                <a:latin typeface="Times New Roman"/>
              </a:rPr>
              <a:t>1-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867280" y="583560"/>
            <a:ext cx="3097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 діапазоні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0&lt;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&lt;0,45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заборонена зона пряма, а її ширина збільшується від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</a:rPr>
              <a:t>g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=1,424 еВ при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=0 до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g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=1,977 еВ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=0,45. При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&gt;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0,45 напівпровідник стає непрямозонн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2000" y="4500720"/>
            <a:ext cx="31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940360" y="3128040"/>
            <a:ext cx="295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 8, б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наведена залежність енергії від хвильового вектора для декількох значень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, з якої випливає, що зона провідності має два мінімуми. Ті мінімуми, які розташовані в точці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Г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, є прямими, тоді як інші, розташовані на осі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, непрямі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BF5C1-DA60-4EB1-ACA0-81CDB5DE94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179280" y="2060640"/>
            <a:ext cx="87138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В прямозонних матеріалах процес </a:t>
            </a:r>
            <a:r>
              <a:rPr b="0" lang="uk-UA" sz="1800" spc="-1" strike="noStrike" u="sng">
                <a:solidFill>
                  <a:srgbClr val="008000"/>
                </a:solidFill>
                <a:uFillTx/>
                <a:latin typeface="Times New Roman"/>
              </a:rPr>
              <a:t>випромінювальної рекомбінації є домінуючим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. В той час як для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GaAs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Times New Roman"/>
              </a:rPr>
              <a:t>1-x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при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gt;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0,45 і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GaP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, в яких заборонена зона непряма, ймовірність міжзонних переходів надзвичайно мала, оскільки в цьому випадку для перетворення квазиімпульса при переході потрібна участь фононів або інших факторів розсіюван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79280" y="189000"/>
            <a:ext cx="87854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Електрони в прямому мінімумі зони провідності і дірки в максимумі валентної зони мають однаков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і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квазіімпульс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и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; електрони в непрямому мінімумі мають інше значення квазіімпульса. Для таких прямозоні напівпровідників, як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As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і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As</a:t>
            </a:r>
            <a:r>
              <a:rPr b="0" lang="ru-RU" sz="1800" spc="-1" strike="noStrike" baseline="-25000">
                <a:solidFill>
                  <a:srgbClr val="0000cc"/>
                </a:solidFill>
                <a:latin typeface="Times New Roman"/>
              </a:rPr>
              <a:t>1-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cc"/>
                </a:solidFill>
                <a:latin typeface="Symbol"/>
                <a:ea typeface="Symbol"/>
              </a:rPr>
              <a:t>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0,45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) квазіімпульс при м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іжзонних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переходах зберігається, тому ці переходи характеризуються високим ступенем вірогідності.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При цьому енергія фотона приблизно дорівнює ширині забороненої зони напівпровідн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50920" y="3573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Тому для посилення випромінювальних процесів у непрямозонних напівпровідниках, таких, наприклад, як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P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0" lang="ru-RU" sz="1800" spc="-1" strike="noStrike" u="sng">
                <a:solidFill>
                  <a:srgbClr val="0000cc"/>
                </a:solidFill>
                <a:uFillTx/>
                <a:latin typeface="Times New Roman"/>
              </a:rPr>
              <a:t>спеціально створюються рекомбінаційні центри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9280" y="4282200"/>
            <a:ext cx="878544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Ефективні центри випромінювальної рекомбінації в GaAs</a:t>
            </a:r>
            <a:r>
              <a:rPr b="0" lang="ru-RU" sz="1800" spc="-1" strike="noStrike" baseline="-25000">
                <a:solidFill>
                  <a:srgbClr val="0000cc"/>
                </a:solidFill>
                <a:latin typeface="Times New Roman"/>
              </a:rPr>
              <a:t>1-x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ru-RU" sz="1800" spc="-1" strike="noStrike" baseline="-25000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можуть бути створені шляхом впровадження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спеціальних домішок, наприклад азоту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. Азот, введений в напівпровідник, заміщає атоми фосфору в вузлах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гратки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. Азот і фосфор мають однакову зовнішню електронну структуру (обидва належать до V груп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и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елементів періодичної системи), а структури їх внутрішніх оболонок сильно розрізняються. Це призводить до виникнення поблизу зони провідності електронного рівня захоплення. Отриманий таким чином рекомбінаційний центр називається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ізоелектронних центром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B4C98-E595-45E6-BA2D-E690C1BE98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58920" y="189000"/>
            <a:ext cx="87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У нормальному стані ізоелектронн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і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центри нейтральні. У матеріалі р-типу інжектовани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й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електрон спочатку захоплюється на центр. Заряджений негативно центр потім захоплює дірку з валентної зони, формуючи пов'язаний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ексит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50920" y="1268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Наступна анігіляція цієї електронно-діркової пари приводить до народження фотона з енергією, приблизно рівною різниці між шириною забороненої зони і енергією зв’язку центра. Так як захоплений електрон сильно локалізований на центрі, його імпульс розсіює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79280" y="2565000"/>
            <a:ext cx="871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cc"/>
                </a:solidFill>
                <a:uFillTx/>
                <a:latin typeface="Times New Roman"/>
              </a:rPr>
              <a:t>Таким чином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, забезпечується перетворення квазіімпульса, внаслідок чого ймовірність прямого переходу істотно зростає. У непрямозонних матеріалах, таких, як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P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, описаний механізм випромінювальної рекомбінації є переважаюч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F595-50A0-4BAB-BE4F-B74F251F93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6335640" cy="421956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250920" y="4221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9. Залежність квантової ефективності (а) і довжини хвилі, що відповідає максимуму випромінювання (б), від складу при наявності і відсутності ізоелектронної домішки азо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443640" y="260280"/>
            <a:ext cx="24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588000" y="290880"/>
            <a:ext cx="237672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 9 а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наведена залежність квантової ефективності від складу GaAs</a:t>
            </a:r>
            <a:r>
              <a:rPr b="0" lang="ru-RU" sz="1800" spc="-1" strike="noStrike" baseline="-25000">
                <a:solidFill>
                  <a:srgbClr val="0000cc"/>
                </a:solidFill>
                <a:latin typeface="Times New Roman"/>
              </a:rPr>
              <a:t>1-x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ru-RU" sz="1800" spc="-1" strike="noStrike" baseline="-25000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при наявності і під час відсутності ізоелектронних домішки азоту. Різке зменшення ефективності випромінювання GaAs</a:t>
            </a:r>
            <a:r>
              <a:rPr b="0" lang="ru-RU" sz="1800" spc="-1" strike="noStrike" baseline="-25000">
                <a:solidFill>
                  <a:srgbClr val="0000cc"/>
                </a:solidFill>
                <a:latin typeface="Times New Roman"/>
              </a:rPr>
              <a:t>1-x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ru-RU" sz="1800" spc="-1" strike="noStrike" baseline="-25000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без домішки азоту в діапазоні 0,4 &lt;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&lt;0,5 зумовлено зміною механізму рекомбінації: при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= 0,45 переважа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ючими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стають непрямі перехо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832B-7350-4C62-8940-745D6EFEC9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00"/>
                </a:solidFill>
                <a:latin typeface="Arial"/>
              </a:rPr>
              <a:t>Оптоелектронні прилади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9280" y="907920"/>
            <a:ext cx="87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До оптоелектронни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приладів відносяться прилади, в яких основні процеси протікають за участю квантів світла - фотонів.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Оптоелектронні прилади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можна розділити на три групи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прилади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що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перетворюють електричну енергію в оптичне випромінювання (світлодіоди, напівпровідникові лазери);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прилади,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що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детектую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ть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оптичні сигнали за рахунок електронних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роцесів, які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отікають під дією світла (фотодетектори);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прилади, що здійснюють перетворення оптичного випромінювання в електричну енергію (фотовольтаїчні прилади, сонячні батареї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9280" y="3205080"/>
            <a:ext cx="87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Явище </a:t>
            </a: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електролюмінесценції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було відкрито в 1907 р. Воно полягає в генерації світла в матеріалі, крізь який протікає електричний струм, викликаний електричним полем. Випромінювання електролюмінесценції на відміну від теплового характеризується порівняно вузьким спектром (</a:t>
            </a:r>
            <a:r>
              <a:rPr b="0" lang="ru-RU" sz="1800" spc="-1" strike="noStrike" u="sng">
                <a:solidFill>
                  <a:srgbClr val="0000cc"/>
                </a:solidFill>
                <a:uFillTx/>
                <a:latin typeface="Times New Roman"/>
              </a:rPr>
              <a:t>для світлодіодів спектральна ширина лінії лежить зазвичай в діапазоні 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</a:rPr>
              <a:t>довжин хвиль 10-50 нм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). Випромінювання може бути практично монохроматичн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им: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наприклад, для </a:t>
            </a:r>
            <a:r>
              <a:rPr b="0" lang="ru-RU" sz="1800" spc="-1" strike="noStrike" u="sng">
                <a:solidFill>
                  <a:srgbClr val="0000cc"/>
                </a:solidFill>
                <a:uFillTx/>
                <a:latin typeface="Times New Roman"/>
              </a:rPr>
              <a:t>лазерного діода спектральна ширина випромінювання лежить в межах 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</a:rPr>
              <a:t>0,01-0</a:t>
            </a:r>
            <a:r>
              <a:rPr b="1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,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</a:rPr>
              <a:t>1 нм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79280" y="537336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Було показано, що генерація лазерного випромінювання може бути практично реалізована в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прямозон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них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 напівпровідниках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, і були знайдені найважливіші критерії для такого режиму. З часу перших відкриттів було знайдено безліч нових матеріалів для лазері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BC4C-569A-4101-902D-70332BA9EC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250920" y="169848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50920" y="18900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Наявність азоту забезпечує більш високі значення ефективності при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&gt;0,45, однак остання все ж постійно зменшується з ростом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внаслідок збільшення різниці глибин прямої і непрямої заборонених зон. Крім того, довжина хвилі максимуму випромінювання для з’єднань легованих азотом, зміщується під впливом енергії зв’язку ізоелектронного центр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 9б).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5A09-3DFA-46A5-8066-C92202AD3B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1209600"/>
            <a:ext cx="5477040" cy="564840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5508720" y="5445000"/>
            <a:ext cx="36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0. Проходження світла, що випромінюється переходом в структурах з непрозорою (а) і прозорою (б) підклад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867280" y="90792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Серед світлодіодних структур основною є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структура з плоскою геометрією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 10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651640" y="2276640"/>
            <a:ext cx="33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Зазвичай прямозонні світлодіоди (червоне випромінювання) формуються на підкладках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GaAs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 10а),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тоді як непрямозонні (померанчеве, жовте і зелене випромінювання - на підкладках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GaP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 10 ,б).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96000" y="6124680"/>
            <a:ext cx="32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09120" y="187920"/>
            <a:ext cx="81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</a:rPr>
              <a:t>Конструкції і характеристики світлодіод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60CA-4889-435D-9CFE-FDBFF7A9A5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50920" y="1700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Фотони, що генеруються в області переходу, випромінюються в усіх напрямках, однак спостерігача досягає лише та їх частина, яка проходить через поверхн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50920" y="169920"/>
            <a:ext cx="87138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При використанні підкладки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As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на ній епітаксійно нарощується перехідний шар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As</a:t>
            </a:r>
            <a:r>
              <a:rPr b="0" lang="uk-UA" sz="1800" spc="-1" strike="noStrike" baseline="-25000">
                <a:solidFill>
                  <a:srgbClr val="0000cc"/>
                </a:solidFill>
                <a:latin typeface="Times New Roman"/>
              </a:rPr>
              <a:t>1-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змінного складу з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що міняється в межах 0-0,4, а потім шар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As</a:t>
            </a:r>
            <a:r>
              <a:rPr b="0" lang="uk-UA" sz="1800" spc="-1" strike="noStrike" baseline="-25000">
                <a:solidFill>
                  <a:srgbClr val="0000cc"/>
                </a:solidFill>
                <a:latin typeface="Times New Roman"/>
              </a:rPr>
              <a:t>1-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з постійним складом. Перехідна область обмежує утворення безвипромінювальних центрів, які обумовлені різницею грат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0920" y="2421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Зменшення кількості фотонів, що випромінює світлодіод, обумовле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-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тратами на поглинання в матеріалі світлоді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- 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втратами за рахунок відбиванн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тратами за рахунок повного внутрішнього відбиван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50920" y="465300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трати повязані з поглинанням дуже суттєві на підкладках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As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 10,а),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оскільки в цьому випадку підкладка непрозора для світла і поглинає приблизно 85% фотонів, що випромінюються переходом. В світлодіодах на підкладках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P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 10,б)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фотони, що випромінюються в напрямку тилового контакту, можуть відбиватися від нього, причому поглинання складає 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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25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53080" y="4243320"/>
            <a:ext cx="48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Втрат на поглинання в матеріалі світлоді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4422B-7007-4B7F-B6AE-A036A5E05A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395280" y="47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79280" y="1962000"/>
            <a:ext cx="878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5280" y="188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Втрати на відбивання.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132000" y="2565360"/>
                <a:ext cx="16574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179280" y="4130640"/>
            <a:ext cx="8785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Третій фактор обумовлений повним внутрішнім відбиванням світла, що падає на границю розділу під кутом більшим ніж критичний </a:t>
            </a:r>
            <a:r>
              <a:rPr b="0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, що визначається вираз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3348000" y="4797360"/>
                <a:ext cx="18018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230400" y="5281200"/>
            <a:ext cx="87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As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3,66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критичний кут становить </a:t>
            </a:r>
            <a:r>
              <a:rPr b="0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, а дл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P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3,45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від рівний </a:t>
            </a:r>
            <a:r>
              <a:rPr b="0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77840" y="1989000"/>
            <a:ext cx="65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При нормальному падінні світла коефіцієнт відбивання дорівню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54880" y="3716280"/>
            <a:ext cx="578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трати за рахунок повного внутрішнього відбиван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95280" y="654480"/>
            <a:ext cx="84978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При переході фотонів із середовища з показником заломлення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0" i="1" lang="ru-RU" sz="1800" spc="-1" strike="noStrike" baseline="-25000">
                <a:solidFill>
                  <a:srgbClr val="008000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(наприклад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з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GaAs 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з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0" i="1" lang="ru-RU" sz="1800" spc="-1" strike="noStrike" baseline="-25000">
                <a:solidFill>
                  <a:srgbClr val="008000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=3.66) в середовище з показником заломлення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0" i="1" lang="ru-RU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(наприклад, в повітря з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0" i="1" lang="ru-RU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=0.1) частина світла відбивається від границі розділу середовищ в зворотному напрямку. Ці втрати називають втратами відбиван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24000" y="5715000"/>
            <a:ext cx="856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ри плоскій геометрії (рис. 10, а) промінь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послаблюється внаслідок поглинання, а також частково через втрати на відбивання. Промені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, які приходять до границі розділу напівпровідник-повітря під кутом </a:t>
            </a:r>
            <a:r>
              <a:rPr b="0" i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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, мають повне внутрішнє відбиван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657A-3A01-4654-A43F-6D85CE5385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5256360" y="6080040"/>
            <a:ext cx="38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74960" y="188280"/>
            <a:ext cx="87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Повна ефективність перетворення електричного сигналу в оптичний надається вираз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50920" y="692280"/>
                <a:ext cx="51847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λ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λ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dλ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  <m:r>
                              <m:t xml:space="preserve">dλ</m:t>
                            </m:r>
                          </m:e>
                        </m:nary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6300720" y="692280"/>
                <a:ext cx="259236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358920" y="1572480"/>
            <a:ext cx="878508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е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–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отужність на входу;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uk-UA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uk-UA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/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uk-UA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+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uk-UA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i="1" lang="uk-UA" sz="1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коефіцієнт предачі рівний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uk-UA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/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uk-UA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+1)</a:t>
            </a:r>
            <a:r>
              <a:rPr b="0" i="1" lang="uk-UA" sz="1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для границь розділу напівпровідник –повітря;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(1-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cos</a:t>
            </a:r>
            <a:r>
              <a:rPr b="0" i="1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c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тілесний кут;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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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)-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швидкість генерації фотонів в одиницях фотон/(с см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;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i="1" lang="uk-UA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коефіцієнт відбивання від тилового контакту; 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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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) 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відповідно коефіцієнт поглинання і товщин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-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i n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- областей прила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79280" y="31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79280" y="350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076720" y="4632480"/>
            <a:ext cx="38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B322-CD00-45D5-B7F2-F83893D36B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321480" y="1557360"/>
            <a:ext cx="50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Для сферичних структур тілесний кут дорівнює 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47680" y="2205000"/>
            <a:ext cx="51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Таким чином співвідношення ефективностей рів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940360" y="2170080"/>
                <a:ext cx="2808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η</m:t>
                        </m:r>
                      </m:num>
                      <m:den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rad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5867280" y="2997360"/>
                <a:ext cx="936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η</m:t>
                        </m:r>
                      </m:num>
                      <m:den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7097400" y="3092400"/>
            <a:ext cx="1267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при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8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gt;&gt;1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50920" y="378936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Для структур на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GaP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з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0" i="1" lang="ru-RU" sz="1800" spc="-1" strike="noStrike" baseline="-25000">
                <a:solidFill>
                  <a:srgbClr val="008000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=3,45 при даній геометрії можна очікувати збільшення ефективності на порядок величи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50920" y="4437000"/>
            <a:ext cx="4838760" cy="22194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5219640" y="566100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1. Розріз трьох світлодіодів. а- напівсфера; б- зрізана сфера; в- параболоїд.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24000" y="25992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1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показані поперечні перерізи інших світло діодів, які мають напівсферичну, зрізану сферичну і параболічну геометрію. Основна відмінність цих трьох структур від структури з плоскою геометрією (рис. 10, ф) полягає в тому, що тілесний кут для них рівний 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B902-2B17-4C15-988A-4B9469218E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79280" y="1125360"/>
            <a:ext cx="4629240" cy="432468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250920" y="544500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2. Діаграма направленості випромінювання діодів плоскої (а), напівсферичної (б) і параболічної (в) геометрії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79280" y="18864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2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наведені типові діаграми направленості для плоского, напівсферичного і параболічного світло діодів. Вочевидь, що потрібна діаграма направленості може бути отримана за рахунок зміни геометрії прила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FC819-B98B-4C8B-8076-84E490CC89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981000"/>
            <a:ext cx="5276880" cy="456264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179280" y="580500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3. Відносні спектри випромінювання різних світлодіодів видимого і інфрачервоного діапазон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435640" y="41544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24000" y="6008760"/>
            <a:ext cx="864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24000" y="188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3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редставлені відносні спектри випромінювання деяких типових світло діодів при кімнатній температур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651640" y="76500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GaAs, </a:t>
            </a:r>
            <a:r>
              <a:rPr b="1" lang="uk-UA" sz="1800" spc="-1" strike="noStrike">
                <a:solidFill>
                  <a:srgbClr val="cc0000"/>
                </a:solidFill>
                <a:latin typeface="Times New Roman"/>
              </a:rPr>
              <a:t>і сполуки типу 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n-US" sz="1800" spc="-1" strike="noStrike" baseline="30000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en-US" sz="1800" spc="-1" strike="noStrike" baseline="30000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– </a:t>
            </a:r>
            <a:r>
              <a:rPr b="1" lang="uk-UA" sz="1800" spc="-1" strike="noStrike">
                <a:solidFill>
                  <a:srgbClr val="cc0000"/>
                </a:solidFill>
                <a:latin typeface="Times New Roman"/>
              </a:rPr>
              <a:t>інфрачервоні світлодіо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651640" y="1700280"/>
            <a:ext cx="3349440" cy="47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GaAs</a:t>
            </a:r>
            <a:r>
              <a:rPr b="1" lang="uk-UA" sz="1800" spc="-1" strike="noStrike" baseline="-25000">
                <a:solidFill>
                  <a:srgbClr val="ff3300"/>
                </a:solidFill>
                <a:latin typeface="Times New Roman"/>
              </a:rPr>
              <a:t>0,6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uk-UA" sz="1800" spc="-1" strike="noStrike" baseline="-25000">
                <a:solidFill>
                  <a:srgbClr val="ff3300"/>
                </a:solidFill>
                <a:latin typeface="Times New Roman"/>
              </a:rPr>
              <a:t>0,4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</a:rPr>
              <a:t> ,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GaP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ZnO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</a:rPr>
              <a:t>) –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</a:rPr>
              <a:t>червоні світлодіоди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</a:rPr>
              <a:t>Світлодіоди на основі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GaP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</a:rPr>
              <a:t> з домішкою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ZnO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uk-UA" sz="1800" spc="-1" strike="noStrike">
                <a:solidFill>
                  <a:srgbClr val="ff3300"/>
                </a:solidFill>
                <a:latin typeface="Times New Roman"/>
              </a:rPr>
              <a:t> яка, маючи таку ж кількість загальних валентних електронів, як і пари сусідніх атомів галій – фосфор, заміщує їх в гратці напівпровідника.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ZnO</a:t>
            </a:r>
            <a:r>
              <a:rPr b="0" lang="uk-UA" sz="1800" spc="-1" strike="noStrike">
                <a:solidFill>
                  <a:srgbClr val="ff3300"/>
                </a:solidFill>
                <a:latin typeface="Times New Roman"/>
              </a:rPr>
              <a:t> є однією з домішок, що формує ізоелектронні центри. Рівень рекомбінації, обумовлений цією домішкою, розміщений  на 0,3 еВ нижче краю зони провідності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GaP</a:t>
            </a:r>
            <a:r>
              <a:rPr b="0" lang="uk-UA" sz="1800" spc="-1" strike="noStrike">
                <a:solidFill>
                  <a:srgbClr val="ff3300"/>
                </a:solidFill>
                <a:latin typeface="Times New Roman"/>
              </a:rPr>
              <a:t>, в результаті чого випромінюються кванти з енергією 1,95 еВ.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9270-77C8-41F1-9309-BA8C4959BA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179280" y="2421000"/>
            <a:ext cx="878544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Times New Roman"/>
              </a:rPr>
              <a:t>Зі збільшенням довжини хвилі </a:t>
            </a:r>
            <a:r>
              <a:rPr b="1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</a:t>
            </a:r>
            <a:r>
              <a:rPr b="1" i="1" lang="uk-UA" sz="18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r>
              <a:rPr b="1" i="1" lang="uk-UA" sz="1800" spc="-1" strike="noStrike">
                <a:solidFill>
                  <a:srgbClr val="0000cc"/>
                </a:solidFill>
                <a:latin typeface="Times New Roman"/>
              </a:rPr>
              <a:t>, що відповідає максимуму спектру випромінювання, збільшується також і напівширина спектра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Це обумовлено тим, що ширина спектра спонтанного випромінювання пропорційна 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</a:t>
            </a:r>
            <a:r>
              <a:rPr b="0" lang="uk-UA" sz="18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50920" y="1916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GaN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– фіолетові світлодіо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93680" y="210960"/>
            <a:ext cx="6234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GaAs</a:t>
            </a:r>
            <a:r>
              <a:rPr b="1" lang="uk-UA" sz="1800" spc="-1" strike="noStrike" baseline="-25000">
                <a:solidFill>
                  <a:srgbClr val="008000"/>
                </a:solidFill>
                <a:latin typeface="Times New Roman"/>
              </a:rPr>
              <a:t>1-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P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x</a:t>
            </a: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GaP</a:t>
            </a: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) – </a:t>
            </a:r>
            <a:r>
              <a:rPr b="1" lang="uk-UA" sz="1800" spc="-1" strike="noStrike" u="sng">
                <a:solidFill>
                  <a:srgbClr val="008000"/>
                </a:solidFill>
                <a:uFillTx/>
                <a:latin typeface="Times New Roman"/>
              </a:rPr>
              <a:t>померанчеві, жовті, зелені світлодіоди</a:t>
            </a: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GaP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легований ізоелектронною домішкою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50920" y="1052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Times New Roman"/>
              </a:rPr>
              <a:t>ZnS</a:t>
            </a:r>
            <a:r>
              <a:rPr b="0" lang="uk-UA" sz="1800" spc="-1" strike="noStrike">
                <a:solidFill>
                  <a:srgbClr val="6666ff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6666ff"/>
                </a:solidFill>
                <a:latin typeface="Times New Roman"/>
              </a:rPr>
              <a:t>SiC</a:t>
            </a:r>
            <a:r>
              <a:rPr b="0" lang="uk-UA" sz="1800" spc="-1" strike="noStrike">
                <a:solidFill>
                  <a:srgbClr val="6666ff"/>
                </a:solidFill>
                <a:latin typeface="Times New Roman"/>
              </a:rPr>
              <a:t>, перетворювачі інфрачервоного випромінювання в видиме</a:t>
            </a:r>
            <a:r>
              <a:rPr b="0" lang="en-US" sz="18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6666ff"/>
                </a:solidFill>
                <a:latin typeface="Times New Roman"/>
              </a:rPr>
              <a:t>– </a:t>
            </a:r>
            <a:r>
              <a:rPr b="1" lang="uk-UA" sz="1800" spc="-1" strike="noStrike" u="sng">
                <a:solidFill>
                  <a:srgbClr val="6666ff"/>
                </a:solidFill>
                <a:uFillTx/>
                <a:latin typeface="Times New Roman"/>
              </a:rPr>
              <a:t>голубі світлодіо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79280" y="349992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3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риведена також характеристика чутливості ока (штрихова крива) з максимумом на довжині хвилі 0,555 мкм (зелене світло). По мірі зміщення довжини хвилі в червону область видимого спектру чутливість ока швидко падає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DE1D-BE08-4C67-B325-1F25F4DF0C7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250920" y="32544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4а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люструє основну структуру перетворювача, в якому інфрачервоне випромінення свтлодіода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As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оглинається шаром фосфору з добавками іонів рідкоземельних елементів, наприклад ітербія (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Yb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3+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 або ербія (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Er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3+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. Характеристики перетворювача залежать від процесу послідовного поглинання двох фотонів в інфрачервоній області спектра, що супроводжується випроміненням одного фотона у видимій області спектру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 14,б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68360" y="2276640"/>
            <a:ext cx="4305240" cy="279072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0920" y="530064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4. Перетворювач, в якому випромінювання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A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іода збуджує випускання світла фосфором (а) і енергетичні рівні перетворення (б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BC40-9A7D-4482-81DF-86E89A5B7B8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79280" y="260280"/>
            <a:ext cx="878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Діапазон довжин хвиль когерентного випромінювання включає 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близьку ультрафіолетову видиму і дальню інфрачервону області спектр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у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 (від </a:t>
            </a:r>
            <a:r>
              <a:rPr b="0" lang="ru-RU" sz="1800" spc="-1" strike="noStrike">
                <a:solidFill>
                  <a:srgbClr val="008000"/>
                </a:solidFill>
                <a:latin typeface="Symbol"/>
                <a:ea typeface="Symbol"/>
              </a:rPr>
              <a:t>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0,3 до </a:t>
            </a:r>
            <a:r>
              <a:rPr b="0" lang="ru-RU" sz="1800" spc="-1" strike="noStrike">
                <a:solidFill>
                  <a:srgbClr val="008000"/>
                </a:solidFill>
                <a:latin typeface="Symbol"/>
                <a:ea typeface="Symbol"/>
              </a:rPr>
              <a:t>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30 мкм).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Напівпровідникові лазери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розглядаються як </a:t>
            </a:r>
            <a:r>
              <a:rPr b="0" lang="ru-RU" sz="1800" spc="-1" strike="noStrike" u="sng">
                <a:solidFill>
                  <a:srgbClr val="0000cc"/>
                </a:solidFill>
                <a:uFillTx/>
                <a:latin typeface="Times New Roman"/>
              </a:rPr>
              <a:t>основні джерела світла для волоконно-оптичних систем зв'язку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. Вони знаходять також широке застосування в багатьох областях фундаментальних досліджень, таких як газова спектроскопія високо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ї роздільної здатності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і контроль атмосферних забрудн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4408F-50BB-42BD-882E-13AA7A3B11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819680" y="260280"/>
            <a:ext cx="4324320" cy="228600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250920" y="3656160"/>
            <a:ext cx="4105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148360" y="2780640"/>
            <a:ext cx="37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5. Оцінка яскравісного еквіваленту випромінюванн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4000" y="260280"/>
            <a:ext cx="410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Спектральна характеристика чутливості ока повинна враховуватись при оцінках 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ефективності візуального сприйняття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ипромінювання від різних світло діодів з відомими значеннями енергії</a:t>
            </a:r>
            <a:r>
              <a:rPr b="0" lang="uk-UA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ипромінювання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24000" y="220500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Яскравісний еквівалент випромінювання 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 має вид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1258920" y="2924280"/>
                <a:ext cx="2232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t xml:space="preserve">d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5" name=""/>
          <p:cNvSpPr/>
          <p:nvPr/>
        </p:nvSpPr>
        <p:spPr>
          <a:xfrm>
            <a:off x="179280" y="3500280"/>
            <a:ext cx="43214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е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L</a:t>
            </a:r>
            <a:r>
              <a:rPr b="0" i="1" lang="ru-RU" sz="18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– максимальне значення яскравості, рівне 680 лм/Вт;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ru-RU" sz="1800" spc="-1" strike="noStrike">
                <a:solidFill>
                  <a:srgbClr val="0000cc"/>
                </a:solidFill>
                <a:latin typeface="Symbol"/>
                <a:ea typeface="Symbol"/>
              </a:rPr>
              <a:t>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функція відносної видимості ока;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ru-RU" sz="1800" spc="-1" strike="noStrike">
                <a:solidFill>
                  <a:srgbClr val="0000cc"/>
                </a:solidFill>
                <a:latin typeface="Symbol"/>
                <a:ea typeface="Symbol"/>
              </a:rPr>
              <a:t>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-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спектр випромінюван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50920" y="48891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Як показано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5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максимум червоного випромінювання діода на основі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P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ZnO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лежить на довжині хвилі 0,69 мкм. Максимум кривої, що відповідає суперпозиції спектра випромінювання з кривою видимості зміщується до значень 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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=0,65 мкм і відповідає яскравісному еквіваленту, що рівний 15 лм/В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5632-1692-447C-915A-302641958F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4896000" cy="480852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250920" y="479700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6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хеми конструкцій деяких світлодіодних випромінювач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003640" y="4923000"/>
            <a:ext cx="3959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003640" y="191160"/>
            <a:ext cx="396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Світлодіоди, які випромінюють у видимій області спектру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можуть використовуватись в якості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індикаторів і дисплеїв, а також в оптронах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6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наведені схеми конструкцій різних світлодіодних джерел. Джерело містить кристал з світло діодом і пластмасову лінзу, яка зазвичай закрашується з метою підсилення контрасту і фільтрації випромінювання. Джерела, показані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6 а і б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виконані на базі звичайних транзисторних і діодних корпусів. В джерелі, зображеному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6, в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використовується базовий тримач у вигляді металевих провідників, на яких розміщені світло діод і послідовний опір. Пластмасова лінза задає діаграму направленості і кут зору прила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79280" y="580536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Конструкція корпуса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6, г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задовольняє вимогам для розміщення прозорих світлодіодних кристалів, наприклад, таких, як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P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які випромінюють через всі п’ять своїх гра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D6A5-9EF5-49FC-82F4-5C0AB62255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364000" y="189000"/>
            <a:ext cx="3600720" cy="359100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4788000" y="400536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7.Формати цифрових і буквових світлодіодних дисплеї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а- 7-сегментний (цифровий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б- матричний 3х5 (цифровий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- 14-сегментний (алфавітно-цифровий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г- матрични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алфавітно-цифровий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0920" y="261360"/>
            <a:ext cx="43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7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наведені основні формати світлодіодних дисплеїв. Для відображення цифр від 0 до 9 зазвичай застосовуються 7-сегментні дисплеї або світлодіодні матриці з кількістю елементів 3 х 5. В алфавітно-цифрових дисплеях (0 – 9 і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-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Z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 використовують формати, що містять 14 сегментів або 5 х 7 елементів. Дисплеї можна виготовляти на базі інтегральної технології таким чином, як і кремнієві монолітні схеми, або використовуючи гібридну зборку, в ході якої на рефлекторі формуються сегменти з окремих світлодіодних чіп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EE27-1FE9-43E7-B527-113464F6210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4424400" cy="58323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179280" y="5758560"/>
            <a:ext cx="42483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8. Оптро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а- схема; б- оптрон з високим коефіцієнто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еретворення;  в- оптрон, який розміщений 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одній контактній площадці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922720" y="6289200"/>
            <a:ext cx="1189440" cy="40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/I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0,1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002640" y="4417560"/>
            <a:ext cx="1052280" cy="405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/I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10</a:t>
            </a:r>
            <a:r>
              <a:rPr b="0" lang="en-US" sz="1800" spc="-1" strike="noStrike" baseline="30000">
                <a:solidFill>
                  <a:srgbClr val="0000cc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572000" y="243360"/>
            <a:ext cx="428472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Світлодіоди можуть використовуватись в оптронах, які забезпечують оптичну розв’язку між вхідним або керуючим сигналом і виходом.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8, а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оказана схема оптрона, що містить світло діод в якості джерела світла і фотодіод в якості детектора. Випромінювання, яке генерується світло діодом при подачі на нього вхідного електричного сигналу, детектується фотодіодом. Потім випромінювання знову перетворюється в електричний сигнал у вигляді струму, який протікає через опір загрузки. Типові значення коефіцієнта перетворення за струмом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/I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складає 10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-3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643280" y="4869000"/>
            <a:ext cx="42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ля підсилення коефіцієнта перетворення в оптронах в якості детекторів використовують фото транзистори, при цьому відношення струмів може бути підвищеним до 0.1 : 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62B4A-A638-42CA-90D7-49D6078227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0920" y="1886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8, в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оказана оптронна структура, яка розміщена в одному корпусі. В таких приладах здійснюється оптична передача сигналів зі швидкістю світла і забезпечується електрична ізоляція, так як відсутній зворотний зв’язок з виходу на вхі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2730-CF39-4112-A314-F3E82781503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1766160" y="189000"/>
            <a:ext cx="54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8000"/>
                </a:solidFill>
                <a:latin typeface="Times New Roman"/>
              </a:rPr>
              <a:t>Інфрачервоні світлодіод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50920" y="889920"/>
            <a:ext cx="8569080" cy="2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Інфрачервоні світлодіоди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як і світлодіоди видимого випромінювання, мають різну конфігурацію.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Інфрачервоне джерело світла на основі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Times New Roman"/>
              </a:rPr>
              <a:t>GaAs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 даний час має найбільшу ефективність електролюмінісценції в основному завдяки тому, що серед всіх прямозонних напівпровідників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As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є технологічно найбільш освоєним. Одним з важливих застосувань діодів на основі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As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є </a:t>
            </a: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джерела випромінювання в оптронах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Для виготовлення інфрачервоних світлодіодів використовуються багато інших напівпровідників, які мають заборонену зону меншу 1.5 еВ. До них відносяться тверді розчини, в склад яких входять три чи чотири елементи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III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і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V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груп періодичної системи.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3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наведені спектри випромінювання інфрачервоних світло діодів з чорирьохелементних напівпровідників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In</a:t>
            </a:r>
            <a:r>
              <a:rPr b="0" lang="uk-UA" sz="1800" spc="-1" strike="noStrike" baseline="-25000">
                <a:solidFill>
                  <a:srgbClr val="0000cc"/>
                </a:solidFill>
                <a:latin typeface="Times New Roman"/>
              </a:rPr>
              <a:t>1-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As</a:t>
            </a:r>
            <a:r>
              <a:rPr b="0" lang="uk-UA" sz="1800" spc="-1" strike="noStrike" baseline="-25000">
                <a:solidFill>
                  <a:srgbClr val="0000cc"/>
                </a:solidFill>
                <a:latin typeface="Times New Roman"/>
              </a:rPr>
              <a:t>1-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</a:rPr>
              <a:t>y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24000" y="40057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Інфрачервоні світло діоди є перспективними джерелами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для волоконно-оптичних ліній зв’язку</a:t>
            </a: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Світло діоди в порівнянні з лазерами мають як </a:t>
            </a:r>
            <a:r>
              <a:rPr b="1" lang="uk-UA" sz="1800" spc="-1" strike="noStrike">
                <a:solidFill>
                  <a:srgbClr val="cc0000"/>
                </a:solidFill>
                <a:latin typeface="Times New Roman"/>
              </a:rPr>
              <a:t>недоліки,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так і </a:t>
            </a: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переваги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До останніх відносяться 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1) висока робоча температура, 2) менший вплив температури на потужність випромінювання, а також 3) простота конструкції і 4) схеми живлен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о 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недоліків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ідносяться 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1) менша яскравість, 2) більш низькі частоти модуляції і 3) більша спектральна ширина лінії випромінювання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типове значення якої становить 10-50 нм, тоді як лазери характеризуються шириною лінії 0.01 – 0.1 н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CCE5-1AF2-4436-A26C-A8378484CEF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79280" y="189000"/>
            <a:ext cx="3475080" cy="547200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179280" y="55162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9. Поверхнево-випромінюючий світлодіод (а) на основі подвійної гетероструктур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aAs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, що має малу площу і високу випромінюючу здатніст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і суміщений з скловолокном, и світлодіод з випромінюючою гранню на основі подвійної гетероструктури (б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83560" y="4483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211640" y="18864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3300"/>
                </a:solidFill>
                <a:latin typeface="Times New Roman"/>
              </a:rPr>
              <a:t>Інфрачервоні світло діоди є перспективними джерелами для 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</a:rPr>
              <a:t>волоконно-оптичних ліній зв’яз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067280" y="429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85128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84720" y="1126080"/>
            <a:ext cx="460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Розрізняють два основних типів світлодіодів, які забезпечують ввід випромінювання в оптичні волокна малого діаметра: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1) світлодіоди з випромінюючою поверхнею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2) світлодіоди з випромінюючою гранн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В поверхневих випромінювачах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 19, а)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ипромінююча область переходу обмежена шаром окисла, а діаметр контакту зазвичай становить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15 – 100 мкм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EC81-61B6-4169-8C03-7E86F6A36FC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179280" y="189000"/>
            <a:ext cx="878544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ля зменшення втрат поглинання і забезпечення тісного контакту випромінюючої поверхні з торцем волокна шар напівпровідника, через який проходить випромінювання, повинні бути дуже тонкими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(10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15 мкм)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 гетеропереходах (наприклад,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As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–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Al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</a:t>
            </a:r>
            <a:r>
              <a:rPr b="0" lang="uk-UA" sz="1800" spc="-1" strike="noStrike" baseline="-25000">
                <a:solidFill>
                  <a:srgbClr val="0000cc"/>
                </a:solidFill>
                <a:latin typeface="Times New Roman"/>
              </a:rPr>
              <a:t>1-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As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 потужність випромінювання на виході може бути підвищена за рахунок ефекту обмеження носіїв, який виникає при оточенні шару випромінювальної рекомбінації  (наприклад,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As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 областю напівпровідника з більш широкою забороненою зоною (наприклад,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Al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</a:t>
            </a:r>
            <a:r>
              <a:rPr b="0" lang="uk-UA" sz="1800" spc="-1" strike="noStrike" baseline="-25000">
                <a:solidFill>
                  <a:srgbClr val="0000cc"/>
                </a:solidFill>
                <a:latin typeface="Times New Roman"/>
              </a:rPr>
              <a:t>1-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As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. Гетероперехід може також слугувати в якості вікна, яке не поглинає випромінювання, що виникає в напівпровіднику з меншою забороненою зоною.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95280" y="2924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403280" y="2781360"/>
            <a:ext cx="56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0" i="1" lang="en-US" sz="1800" spc="-1" strike="noStrike" baseline="-25000">
                <a:solidFill>
                  <a:srgbClr val="cc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&lt;1,5 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еВ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; GaAs, Ga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In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Times New Roman"/>
              </a:rPr>
              <a:t>1-x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As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Times New Roman"/>
              </a:rPr>
              <a:t>1-y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; GaAs – Al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Ga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Times New Roman"/>
              </a:rPr>
              <a:t>1-x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50920" y="32842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При </a:t>
            </a: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виводі через грань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 19, б)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випромінювання може бути зосереджене у відносно направленому промені, що підвищує ефективність зв’язку світлодіода з волокнами, що мають малий приймальний кут. Просторовий розподіл випромінювання при цьому аналогічний розподілу для лазерів на гетеропереход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972DC-A048-47B6-A97C-891F5748D9F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5172120" cy="507672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250920" y="544500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20. Розподіл інтенсивності світла поблизу випромінюючої поверхні світлодіода. На вставці показана структура світлоді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292720" y="614880"/>
            <a:ext cx="36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ставка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20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люструє структуру поверхневого випромінювача, в якому область випромінення обмежена областю з високим контактним опором. Діаметр омічного контакту до шару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uk-UA" sz="18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As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становить 30 мкм. Шар металізації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Cr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Au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навколо області омічного контакту має високий контактний опір з шаром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AlGaAs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(концентрація легування 5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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10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16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см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-3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. Тому основна частина струму протікає через область омічного контакту.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20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риведено розподіл інтенсивності світла поблизу випромінюючої поверхні. Видно, що діаметр області випромінювання обмежений розміром 30 мкм, який задається конфігурацією контак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B634-A6F8-47FA-A05F-21FBB3DF627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250920" y="24912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Іншим важливим параметром, який повинен враховуватись при конструювання світло діодів для оптичних систем зв’язку, є </a:t>
            </a:r>
            <a:r>
              <a:rPr b="1" lang="uk-UA" sz="1800" spc="-1" strike="noStrike">
                <a:solidFill>
                  <a:srgbClr val="cc0000"/>
                </a:solidFill>
                <a:latin typeface="Times New Roman"/>
              </a:rPr>
              <a:t>діапазон робочих частот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Квантова ефективність люмінесценції і повний час життя зв’язані з часом життя випромінювальної рекомбінації. При зовнішньому збудженні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швидкість повної випромінювальної рекомбінації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изначається вираз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3203640" y="1773360"/>
                <a:ext cx="18921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np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2" name=""/>
          <p:cNvSpPr/>
          <p:nvPr/>
        </p:nvSpPr>
        <p:spPr>
          <a:xfrm>
            <a:off x="250920" y="22536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е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швидкість повної термічної генерації. Зазвичай це співвідношення записується наступним чино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564000" y="2781360"/>
                <a:ext cx="107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np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2771640" y="4365720"/>
                <a:ext cx="31687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327600" y="3265200"/>
            <a:ext cx="6680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е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В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– константа випромінювальної рекомбінації, яка рівн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/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ru-RU" sz="18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ru-RU" sz="18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79280" y="3697200"/>
            <a:ext cx="8713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При достатньо малих рівнях збудження, таких, що в матеріал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типу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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час життя випромінювальної рекомбінації стає рівн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97720" y="4849560"/>
            <a:ext cx="360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а для матеріалу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–типу, коли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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ru-RU" sz="18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2627280" y="5300640"/>
                <a:ext cx="32400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8E0B-1DC3-47E3-9C1E-F91B93C891F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8000"/>
                </a:solidFill>
                <a:latin typeface="Arial"/>
              </a:rPr>
              <a:t>Випромінювальні переходи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765000"/>
            <a:ext cx="5051520" cy="573264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4350960" y="6307920"/>
            <a:ext cx="44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1. Діаграма електромагнітного спект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435640" y="1054080"/>
            <a:ext cx="352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Світлодіоди і напівпровідникові лазери належать до класу люмінесцентних приладів. </a:t>
            </a: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Люмінесценцією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називається оптичне випромінювання (в ультрафіолетовій, видимій або інфрачервоній областях спектру), що виникає в результаті електронного збудження матеріалу, на відміну від теплового випромінювання обумовленого тільки тепловим нагріванням матеріалу. 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1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наведена діаграма електромагнітного спектр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6D09-683F-469F-A950-31DDAC885E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79280" y="189000"/>
            <a:ext cx="4667400" cy="551484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179280" y="566856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21. Залежність граничної частоти світлодіода від концентрації дірок в активному шар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577840" y="3024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Гранична частота світлоді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6443640" y="765000"/>
                <a:ext cx="9367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>
            <a:off x="5148360" y="59277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148360" y="1537200"/>
            <a:ext cx="3600360" cy="52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Якщо </a:t>
            </a:r>
            <a:r>
              <a:rPr b="0" i="1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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r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 &lt; </a:t>
            </a:r>
            <a:r>
              <a:rPr b="0" i="1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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nr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то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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 рівнянні (22) стає близьким до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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Таким чином, як слідує з рівнянь (20) і (21), при збільшенні концентрації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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зменшується, 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зростає. Результати теоретичного розрахунку і експериментальні дані вимірювання залежності граничної частоти від концентрації дірок для світлодіода на основі гетероструктури з виводом випромінювання через поверхню наведені на рис. 21. Видно, що експериментально виміряна гранична частота зростає з концентрацією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ru-RU" sz="18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що знаходиться у відповідності до рівнянь (10) і (20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55AF5-C9B2-408B-A901-5F19E08AB01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468360" y="5719680"/>
            <a:ext cx="50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68360" y="1485360"/>
            <a:ext cx="777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00"/>
                </a:solidFill>
                <a:latin typeface="Times New Roman"/>
              </a:rPr>
              <a:t>Порівняння світлодіодів і лазері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Times New Roman"/>
              </a:rPr>
              <a:t>Переваги світлодіоді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исока робоча температу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менший вплив температурина потужність випромінюванн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простота конструкції і схеми живлен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8000"/>
                </a:solidFill>
                <a:latin typeface="Times New Roman"/>
              </a:rPr>
              <a:t>Недоліки світлодіоді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менша яскраві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нижчі частоти модуляції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більша спектральна ширина лінії випромінюванн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ля свідлодіодів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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=10-50 н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ля лазерів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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=0,01-0,1 н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50920" y="260280"/>
            <a:ext cx="8351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Для досягнення високих значень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 необхідно зменшувати товщину рекомбінаційної області і збільшувати концентрацію носії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54D4-D28B-4505-8B06-485D5FAF4FB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66ff"/>
                </a:solidFill>
                <a:latin typeface="Times New Roman"/>
              </a:rPr>
              <a:t>Дякую за увагу!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250920" y="189000"/>
            <a:ext cx="87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Незважаючи на те, що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збудження</a:t>
            </a:r>
            <a:r>
              <a:rPr b="0" lang="ru-RU" sz="1800" spc="-1" strike="noStrike" u="sng">
                <a:solidFill>
                  <a:srgbClr val="0000cc"/>
                </a:solidFill>
                <a:uFillTx/>
                <a:latin typeface="Times New Roman"/>
              </a:rPr>
              <a:t> випромінювання на різних довжинах хвиль здійснюється різними методами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, природа випромінювання у всіх випадках однакова. Випромінювання,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що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видиме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людським оком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лежить у вузькій області довжин хвиль приблизно від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0,4 до 0,7 мкм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. 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 1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показані основні колірні зони видимого випромінювання від фіолетового до червоного.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Інфрачервона область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простягається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від 0,7 до ~ 1000 мкм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, а ультрафіолетова область включає довжини хвиль від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0,4 до ~ 0,01 мкм (тобто 10 н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79280" y="2213280"/>
            <a:ext cx="878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В залежності від джерела енергії збудження люмінесценцію можна розділити на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фотолюмінесценцію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(з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будження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оптичним випромінюванням);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катодолюмінесценцію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(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збудження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під впливом пучка електронів, або катодних променів);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рад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і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аціон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у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 люмінесценцію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(збудження іншими швидкими частинками або випромінюванням високої енергії) і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електролюмінесценці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ю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(збудження електричним полем або струмом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. Ми будемо розглядати в основному електролюмінесценці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ю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. Перш за все 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інжекційн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у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 електролюмінесценці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ю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яка являє собою оптичне випромінювання, що виникає при </a:t>
            </a:r>
            <a:r>
              <a:rPr b="0" lang="ru-RU" sz="1800" spc="-1" strike="noStrike" u="sng">
                <a:solidFill>
                  <a:srgbClr val="0000cc"/>
                </a:solidFill>
                <a:uFillTx/>
                <a:latin typeface="Times New Roman"/>
              </a:rPr>
              <a:t>інжекції неосновних носіїв в область напівпровідникового p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-</a:t>
            </a:r>
            <a:r>
              <a:rPr b="0" lang="ru-RU" sz="1800" spc="-1" strike="noStrike" u="sng">
                <a:solidFill>
                  <a:srgbClr val="0000cc"/>
                </a:solidFill>
                <a:uFillTx/>
                <a:latin typeface="Times New Roman"/>
              </a:rPr>
              <a:t>n-переходу,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де є випромінювальні перехо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2DFA-FF4E-424F-AD6D-2C8561A01B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50920" y="3429000"/>
            <a:ext cx="3981240" cy="282564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-1800" y="6308640"/>
            <a:ext cx="45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2. Основні переходи в напівпровідни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0920" y="383400"/>
            <a:ext cx="871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 2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схематично представлені основні переходи в напівпровіднику. Ці переходи можна класифікувати таким чином. </a:t>
            </a: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По-перше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, це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м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іжзонні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 переход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и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що викликають: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а)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власне випромінювання з енергією, дуже бліз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ь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ко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ю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до ширини забороненої зони, яке може супроводжуватися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збудженням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фононів або екситонів,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б)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випромінювання з більш високою енергією за участю енергійних або «гарячих» носіїв, яке іноді може бути пов'язано з лавинним пробоєм. </a:t>
            </a: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По-друге,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це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переходи з участю хімічних домішок або фізичних дефектів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: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а)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між зоною провідності та акцепторним рівнем;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б)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між донорн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им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рівн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ем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і валентною зоною,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в)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між донорни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м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і акцепторни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м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рівнями (м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іждомішкове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випромінювання);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г)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через глибокі рівні. </a:t>
            </a: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По-третє,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це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внутрізонн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і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 переходи,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які викликають випромінювання, зване іноді гальмівним, і які протікають за участю «гарячих» носії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716360" y="3710520"/>
            <a:ext cx="42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Не всі переходи можуть виникати в одному і тому ж матеріалі або при одних і тих же умовах і не всі з них є випромінювальними. Ефективним з точки зору люмінесценції є такий матеріал, в якому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випромінювальні переходи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превалюють над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безвипромінювальни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ми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(до останніх відносяться, наприклад, переходи при оже-рекомбінації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60C47-1511-4644-9C8E-CF1EF16777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Arial"/>
              </a:rPr>
              <a:t>Спектри випромінювання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50920" y="908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Існують три типи взаємодії між фотонами і електронами в твердому тіл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1.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Фотон може поглинутись в результаті переходу електрона з заповненого стану валентної зони в вільний стан зони провідност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2.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Фотон може стимулювати випромінювання подібного собі фотона, визиваючи перехід електрона з заповненого стану в зоні провідності в вільний стан валентної зо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3.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Можуть також виникати спонтанні зворотні переходи електронів з зони провідності на вільні стани валентної зони, що визиває випускання фот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50920" y="32839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Інтенсивність спонтанного випромінювання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залежить від густини заповнених станів в зоні провідності і густини вільних станів в валентній зоні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124000" y="3933720"/>
                <a:ext cx="37432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hν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ν</m:t>
                    </m:r>
                    <m:sSup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539640" y="4532040"/>
            <a:ext cx="7489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матричний елемент переходу;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N</a:t>
            </a:r>
            <a:r>
              <a:rPr b="0" i="1" lang="en-US" sz="1800" spc="-1" strike="noStrike" baseline="-30000">
                <a:solidFill>
                  <a:srgbClr val="0000cc"/>
                </a:solidFill>
                <a:latin typeface="Arial"/>
                <a:ea typeface="Times New Roman"/>
              </a:rPr>
              <a:t>C</a:t>
            </a:r>
            <a:r>
              <a:rPr b="0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- густина станів в зоні провідності;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N</a:t>
            </a:r>
            <a:r>
              <a:rPr b="0" i="1" lang="en-US" sz="1800" spc="-1" strike="noStrike" baseline="-30000">
                <a:solidFill>
                  <a:srgbClr val="0000cc"/>
                </a:solidFill>
                <a:latin typeface="Arial"/>
                <a:ea typeface="Times New Roman"/>
              </a:rPr>
              <a:t>V</a:t>
            </a:r>
            <a:r>
              <a:rPr b="0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- густина станів в валентній зоні;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F</a:t>
            </a:r>
            <a:r>
              <a:rPr b="0" i="1" lang="en-US" sz="1800" spc="-1" strike="noStrike" baseline="-30000">
                <a:solidFill>
                  <a:srgbClr val="0000cc"/>
                </a:solidFill>
                <a:latin typeface="Arial"/>
                <a:ea typeface="Times New Roman"/>
              </a:rPr>
              <a:t>C</a:t>
            </a:r>
            <a:r>
              <a:rPr b="0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E</a:t>
            </a:r>
            <a:r>
              <a:rPr b="0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)</a:t>
            </a:r>
            <a:r>
              <a:rPr b="0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і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F</a:t>
            </a:r>
            <a:r>
              <a:rPr b="0" i="1" lang="en-US" sz="1800" spc="-1" strike="noStrike" baseline="-30000">
                <a:solidFill>
                  <a:srgbClr val="0000cc"/>
                </a:solidFill>
                <a:latin typeface="Arial"/>
                <a:ea typeface="Times New Roman"/>
              </a:rPr>
              <a:t>V</a:t>
            </a:r>
            <a:r>
              <a:rPr b="0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E</a:t>
            </a:r>
            <a:r>
              <a:rPr b="0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)</a:t>
            </a:r>
            <a:r>
              <a:rPr b="0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- функції розподілу Фермі-Дірака для електронів і дірок відповід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179280" y="4653000"/>
                <a:ext cx="4334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250200" y="5589000"/>
            <a:ext cx="55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Спектр спонтанного випромінювання зазвичай має ви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50920" y="6041880"/>
                <a:ext cx="46814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hν</m:t>
                    </m:r>
                    <m:r>
                      <m:t xml:space="preserve">)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ν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hν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hν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den>
                    </m:f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5728320" y="6146280"/>
            <a:ext cx="3411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е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g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- ширина забороненої зо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005440" y="609228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7EDB-46E8-4D65-86C7-7CB0331762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79280" y="295920"/>
            <a:ext cx="864072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 основі стандартної оптичних між зонних переходів лежить так зване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правило </a:t>
            </a:r>
            <a:r>
              <a:rPr b="1" i="1" lang="en-US" sz="1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uk-UA" sz="1800" spc="-1" strike="noStrike">
                <a:solidFill>
                  <a:srgbClr val="cc0000"/>
                </a:solidFill>
                <a:latin typeface="Times New Roman"/>
              </a:rPr>
              <a:t>– відбору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Хвильовий вектор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1" i="1" lang="uk-UA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що відповідає хвильовій функції валентної зони, і хвильовий вектор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1" i="1" lang="uk-UA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що відповідає хвильовій функції зони провідності, повинні відрізнятися на хвильовий вектор фотона, тобто матричний елемент дорівнює нулю.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Оскільки хвильовий вектор електрона суттєво перевищує хвильовий вектор фотона,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равило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- відбору зазвичай записується в виду рівност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9280" y="2035800"/>
            <a:ext cx="87138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=k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озволеними є переходи, при яких початковий і кінцевий стан характеризуються однаковими хвильовими векторами; такі переходи називаються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«прямими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» або «вертикальними». Якщо мінімум зони провідності і максимум валентної зони не відповідають одному і тому ж значенню вектора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, то для збереження квазиімпульса при переходах необхідна участь фонона; ці переходи називаються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«непрямим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79280" y="44924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ведення в напівпровідник домішок приводить до збурення хвильових функцій і матричних елементів переходу, внаслідок чого правило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ідбору строго не виконує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F773-18B2-4DF6-9419-336D4C06DB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189000"/>
            <a:ext cx="6121440" cy="421308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250920" y="436536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3. Спектри випромінювання діода 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As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(а) при 295 і 77 К і температурна залежність енергії максимуму (суцільна лінія) і рівнів напівширини спектра випромінювання (штрихові криві) (б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84720" y="262440"/>
            <a:ext cx="2916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 3,а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представлені спектри випромінювання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р-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-переходу на основі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As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, які спостерігаються при температурах 77 і 295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. Зменшення енергії фотона,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що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відповід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ає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максимуму спектра при зростанні температури обумовлено в основному </a:t>
            </a:r>
            <a:r>
              <a:rPr b="0" lang="ru-RU" sz="1800" spc="-1" strike="noStrike" u="sng">
                <a:solidFill>
                  <a:srgbClr val="0000cc"/>
                </a:solidFill>
                <a:uFillTx/>
                <a:latin typeface="Times New Roman"/>
              </a:rPr>
              <a:t>звуженням забороненої зони.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 3,б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наведена температурна залежність енергії максимуму і рівнів напівширини спектру випромінювання діода. Напівширина спектра слабо збільшується із зростанням температури, як це і слід очікувати з рівнянн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2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F3871-8515-4AA8-B346-02A42AEBFB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06:59:09Z</dcterms:created>
  <dc:creator>Home_RDM</dc:creator>
  <dc:description/>
  <dc:language>en-US</dc:language>
  <cp:lastModifiedBy>Anatoli</cp:lastModifiedBy>
  <dcterms:modified xsi:type="dcterms:W3CDTF">2013-11-28T07:51:13Z</dcterms:modified>
  <cp:revision>315</cp:revision>
  <dc:subject/>
  <dc:title>NANOCRYSTAL MEMORY</dc:title>
</cp:coreProperties>
</file>