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52E9F-91E3-4E37-A43F-01A89E0C9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6FE1-7E53-429E-99E3-F059751B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F88E4-F36A-4B05-972E-D17F90E5C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A846C-8DBB-4D8F-8407-B72D82E24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703CE-B56F-4FCB-8CBD-04C1FCDBD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D51CF-7343-4550-9A71-BDD495413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1A5D5-4EFD-4F2B-B636-7F4BC3F4D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37FDF-5DFA-436A-BBC9-E09DD3DB5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42391-1C29-4187-8C8A-3E3BFD4E5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6BC71-A5AE-4B36-8DDA-1ED67EF34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B3FD2-1640-4EEE-9A46-B793FDD51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CFB8-F5B9-4B25-BE9E-FD1FCD94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9B3F1-4DE2-4328-9E0C-CF0D3EE5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86844-BB30-47C7-A81E-F80C73F00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4EB3A-6BD5-466B-9032-160FD1834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9DCA6-2E4C-422F-99E0-53E46C5D8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B8995-AC44-4CB6-A7E7-FDC9229C7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A07E-011A-455E-AC80-A9163155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D644-3CFD-42E8-97A7-6680AF3F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C303-B4F9-4998-88DF-99D7BDE9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687A-E875-4C5D-B383-63D519ED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5F9E-8568-40FB-808E-7B55FEF7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A390-153B-4E8B-960F-FCDC5DB2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26EB-2763-4044-81E6-1277F2B2C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347C-C11F-4E54-A81C-B45EE8C0D6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CC3B-4BC6-4A23-BC43-00706E95B4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Solid-state physics</a:t>
            </a:r>
            <a:endParaRPr b="0" lang="en-US" sz="4400" spc="-1" strike="noStrike">
              <a:solidFill>
                <a:srgbClr val="e5ffff"/>
              </a:solidFill>
              <a:latin typeface="Tahoma"/>
            </a:endParaRPr>
          </a:p>
        </p:txBody>
      </p:sp>
      <p:sp>
        <p:nvSpPr>
          <p:cNvPr id="83" name="PlaceHolder 2"/>
          <p:cNvSpPr>
            <a:spLocks noGrp="1"/>
          </p:cNvSpPr>
          <p:nvPr>
            <p:ph type="subTitle"/>
          </p:nvPr>
        </p:nvSpPr>
        <p:spPr>
          <a:xfrm>
            <a:off x="6659280" y="6597360"/>
            <a:ext cx="2484360" cy="2602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orbachenko Vasyl</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odern research in solid state physics</a:t>
            </a:r>
            <a:endParaRPr b="0" lang="en-US" sz="4000" spc="-1" strike="noStrike">
              <a:solidFill>
                <a:srgbClr val="e5ffff"/>
              </a:solidFill>
              <a:latin typeface="Tahoma"/>
            </a:endParaRPr>
          </a:p>
        </p:txBody>
      </p:sp>
      <p:sp>
        <p:nvSpPr>
          <p:cNvPr id="125" name="PlaceHolder 2"/>
          <p:cNvSpPr>
            <a:spLocks noGrp="1"/>
          </p:cNvSpPr>
          <p:nvPr>
            <p:ph/>
          </p:nvPr>
        </p:nvSpPr>
        <p:spPr>
          <a:xfrm>
            <a:off x="323640" y="1197000"/>
            <a:ext cx="856908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urrent research topics in solid state physics includ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ongly correlated materia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sicrysta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n gla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it?</a:t>
            </a:r>
            <a:endParaRPr b="0" lang="en-US" sz="4400" spc="-1" strike="noStrike">
              <a:solidFill>
                <a:srgbClr val="e5ffff"/>
              </a:solidFill>
              <a:latin typeface="Tahoma"/>
            </a:endParaRPr>
          </a:p>
        </p:txBody>
      </p:sp>
      <p:grpSp>
        <p:nvGrpSpPr>
          <p:cNvPr id="85" name=""/>
          <p:cNvGrpSpPr/>
          <p:nvPr/>
        </p:nvGrpSpPr>
        <p:grpSpPr>
          <a:xfrm>
            <a:off x="108000" y="1268280"/>
            <a:ext cx="4248000" cy="5256360"/>
            <a:chOff x="108000" y="1268280"/>
            <a:chExt cx="4248000" cy="5256360"/>
          </a:xfrm>
        </p:grpSpPr>
        <p:pic>
          <p:nvPicPr>
            <p:cNvPr id="86" name="" descr=""/>
            <p:cNvPicPr/>
            <p:nvPr/>
          </p:nvPicPr>
          <p:blipFill>
            <a:blip r:embed="rId2"/>
            <a:stretch/>
          </p:blipFill>
          <p:spPr>
            <a:xfrm>
              <a:off x="108000" y="1268280"/>
              <a:ext cx="4248000" cy="5256360"/>
            </a:xfrm>
            <a:prstGeom prst="rect">
              <a:avLst/>
            </a:prstGeom>
            <a:ln w="0">
              <a:noFill/>
            </a:ln>
          </p:spPr>
        </p:pic>
        <p:sp>
          <p:nvSpPr>
            <p:cNvPr id="87" name=""/>
            <p:cNvSpPr txBox="1"/>
            <p:nvPr/>
          </p:nvSpPr>
          <p:spPr>
            <a:xfrm>
              <a:off x="108000" y="1268280"/>
              <a:ext cx="42480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8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lid-state physics is the study of rigid matter, or solids, through methods such as quantum mechanics, crystallography, electromagnetism, and metallurgy. It is the largest branch of condensed matter physics. Solid-state physics studies how the large-scale properties of solid materials result from their atomic-scale properties. Thus, solid-state physics forms the theoretical basis of materials science. It also has direct applications, for example in the technology of transistors and semiconduc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90" name=""/>
          <p:cNvGrpSpPr/>
          <p:nvPr/>
        </p:nvGrpSpPr>
        <p:grpSpPr>
          <a:xfrm>
            <a:off x="395280" y="1197000"/>
            <a:ext cx="3757680" cy="5256360"/>
            <a:chOff x="395280" y="1197000"/>
            <a:chExt cx="3757680" cy="5256360"/>
          </a:xfrm>
        </p:grpSpPr>
        <p:pic>
          <p:nvPicPr>
            <p:cNvPr id="91" name="" descr=""/>
            <p:cNvPicPr/>
            <p:nvPr/>
          </p:nvPicPr>
          <p:blipFill>
            <a:blip r:embed="rId2"/>
            <a:srcRect l="18237" t="5496" r="12667" b="8213"/>
            <a:stretch/>
          </p:blipFill>
          <p:spPr>
            <a:xfrm>
              <a:off x="395280" y="1197000"/>
              <a:ext cx="3757680" cy="5256360"/>
            </a:xfrm>
            <a:prstGeom prst="rect">
              <a:avLst/>
            </a:prstGeom>
            <a:ln w="0">
              <a:noFill/>
            </a:ln>
          </p:spPr>
        </p:pic>
        <p:sp>
          <p:nvSpPr>
            <p:cNvPr id="9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lid materials are formed from densely-packed atoms, which interact intensely. These interactions produce the mechanical (e.g. hardness and elasticity), thermal, electrical, magnetic and optical properties of solids. Depending on the material involved and the conditions in which it was formed, the atoms may be arranged in a regular, geometric pattern (crystalline solids, which include metals and ordinary water ice) or irregularly (an amorphous solid such as common window glas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95" name=""/>
          <p:cNvGrpSpPr/>
          <p:nvPr/>
        </p:nvGrpSpPr>
        <p:grpSpPr>
          <a:xfrm>
            <a:off x="395280" y="1197000"/>
            <a:ext cx="3757680" cy="5256360"/>
            <a:chOff x="395280" y="1197000"/>
            <a:chExt cx="3757680" cy="5256360"/>
          </a:xfrm>
        </p:grpSpPr>
        <p:pic>
          <p:nvPicPr>
            <p:cNvPr id="96" name="" descr=""/>
            <p:cNvPicPr/>
            <p:nvPr/>
          </p:nvPicPr>
          <p:blipFill>
            <a:blip r:embed="rId2"/>
            <a:srcRect l="18235" t="5496" r="12666" b="8216"/>
            <a:stretch/>
          </p:blipFill>
          <p:spPr>
            <a:xfrm>
              <a:off x="395280" y="1197000"/>
              <a:ext cx="3757680" cy="5256360"/>
            </a:xfrm>
            <a:prstGeom prst="rect">
              <a:avLst/>
            </a:prstGeom>
            <a:ln w="0">
              <a:noFill/>
            </a:ln>
          </p:spPr>
        </p:pic>
        <p:sp>
          <p:nvSpPr>
            <p:cNvPr id="97"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bulk of solid-state physics theory and research is focused on crystals. Primarily, this is because the periodicity of atoms in a crystal — its defining characteristic — facilitates mathematical modeling. Likewise, crystalline materials often have electrical, magnetic, optical, or mechanical properties that can be exploited for engineering purpo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100" name=""/>
          <p:cNvGrpSpPr/>
          <p:nvPr/>
        </p:nvGrpSpPr>
        <p:grpSpPr>
          <a:xfrm>
            <a:off x="395280" y="1197000"/>
            <a:ext cx="3757680" cy="5256360"/>
            <a:chOff x="395280" y="1197000"/>
            <a:chExt cx="3757680" cy="5256360"/>
          </a:xfrm>
        </p:grpSpPr>
        <p:pic>
          <p:nvPicPr>
            <p:cNvPr id="101" name="" descr=""/>
            <p:cNvPicPr/>
            <p:nvPr/>
          </p:nvPicPr>
          <p:blipFill>
            <a:blip r:embed="rId2"/>
            <a:srcRect l="18239" t="5500" r="12663" b="8221"/>
            <a:stretch/>
          </p:blipFill>
          <p:spPr>
            <a:xfrm>
              <a:off x="395280" y="1197000"/>
              <a:ext cx="3757680" cy="5256360"/>
            </a:xfrm>
            <a:prstGeom prst="rect">
              <a:avLst/>
            </a:prstGeom>
            <a:ln w="0">
              <a:noFill/>
            </a:ln>
          </p:spPr>
        </p:pic>
        <p:sp>
          <p:nvSpPr>
            <p:cNvPr id="10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forces between the atoms in a crystal can take a variety of forms. For example, in a crystal of sodium chloride (common salt), the crystal is made up of ionic sodium and chlorine, and held together with ionic bonds. In others, the atoms share electrons and form covalent bonds. In metals, electrons are shared amongst the whole crystal in metallic bonding. Finally, the noble gases do not undergo any of these types of bonding. In solid form, the noble gases are held together with van der Waals forces resulting from the polarisation of the electronic charge cloud on each atom. The differences between the types of solid result from the differences between their bond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rystal structure and properties</a:t>
            </a:r>
            <a:endParaRPr b="0" lang="en-US" sz="4400" spc="-1" strike="noStrike">
              <a:solidFill>
                <a:srgbClr val="e5ffff"/>
              </a:solidFill>
              <a:latin typeface="Tahoma"/>
            </a:endParaRPr>
          </a:p>
        </p:txBody>
      </p:sp>
      <p:grpSp>
        <p:nvGrpSpPr>
          <p:cNvPr id="105" name=""/>
          <p:cNvGrpSpPr/>
          <p:nvPr/>
        </p:nvGrpSpPr>
        <p:grpSpPr>
          <a:xfrm>
            <a:off x="395280" y="1197000"/>
            <a:ext cx="3757680" cy="5256360"/>
            <a:chOff x="395280" y="1197000"/>
            <a:chExt cx="3757680" cy="5256360"/>
          </a:xfrm>
        </p:grpSpPr>
        <p:pic>
          <p:nvPicPr>
            <p:cNvPr id="106" name="" descr=""/>
            <p:cNvPicPr/>
            <p:nvPr/>
          </p:nvPicPr>
          <p:blipFill>
            <a:blip r:embed="rId2"/>
            <a:srcRect l="18233" t="5497" r="12669" b="8214"/>
            <a:stretch/>
          </p:blipFill>
          <p:spPr>
            <a:xfrm>
              <a:off x="395280" y="1197000"/>
              <a:ext cx="3757680" cy="5256360"/>
            </a:xfrm>
            <a:prstGeom prst="rect">
              <a:avLst/>
            </a:prstGeom>
            <a:ln w="0">
              <a:noFill/>
            </a:ln>
          </p:spPr>
        </p:pic>
        <p:sp>
          <p:nvSpPr>
            <p:cNvPr id="107"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any properties of materials are affected by their crystal structure. This structure can be investigated using a range of crystallographic techniques, including X-ray crystallography, neutron diffraction and electron diffra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sizes of the individual crystals in a crystalline solid material vary depending on the material involved and the conditions when it was formed. Most crystalline materials encountered in everyday life are polycrystalline, with the individual crystals being microscopic in scale, but macroscopic single crystals can be produced either naturally (e.g. diamonds) or artificiall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10" name=""/>
          <p:cNvGrpSpPr/>
          <p:nvPr/>
        </p:nvGrpSpPr>
        <p:grpSpPr>
          <a:xfrm>
            <a:off x="395280" y="1197000"/>
            <a:ext cx="3757680" cy="5256360"/>
            <a:chOff x="395280" y="1197000"/>
            <a:chExt cx="3757680" cy="5256360"/>
          </a:xfrm>
        </p:grpSpPr>
        <p:pic>
          <p:nvPicPr>
            <p:cNvPr id="111" name="" descr=""/>
            <p:cNvPicPr/>
            <p:nvPr/>
          </p:nvPicPr>
          <p:blipFill>
            <a:blip r:embed="rId2"/>
            <a:srcRect l="18241" t="5497" r="12673" b="8211"/>
            <a:stretch/>
          </p:blipFill>
          <p:spPr>
            <a:xfrm>
              <a:off x="395280" y="1197000"/>
              <a:ext cx="3757680" cy="5256360"/>
            </a:xfrm>
            <a:prstGeom prst="rect">
              <a:avLst/>
            </a:prstGeom>
            <a:ln w="0">
              <a:noFill/>
            </a:ln>
          </p:spPr>
        </p:pic>
        <p:sp>
          <p:nvSpPr>
            <p:cNvPr id="11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perties of materials such as electrical conduction and heat capacity are investigated by solid state physics. An early model of electrical conduction was the Drude model, which applied kinetic theory to the electrons in a solid. By assuming that the material contains immobile positive ions and an "electron gas" of classical, non-interacting electrons, the Drude model was able to explain electrical and thermal conductivity and the Hall effect in metals, although it greatly overestimated the electronic heat capac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15" name=""/>
          <p:cNvGrpSpPr/>
          <p:nvPr/>
        </p:nvGrpSpPr>
        <p:grpSpPr>
          <a:xfrm>
            <a:off x="324000" y="1197000"/>
            <a:ext cx="3671640" cy="5256360"/>
            <a:chOff x="324000" y="1197000"/>
            <a:chExt cx="3671640" cy="5256360"/>
          </a:xfrm>
        </p:grpSpPr>
        <p:pic>
          <p:nvPicPr>
            <p:cNvPr id="116" name="" descr=""/>
            <p:cNvPicPr/>
            <p:nvPr/>
          </p:nvPicPr>
          <p:blipFill>
            <a:blip r:embed="rId2"/>
            <a:srcRect l="11448" t="1542" r="11344" b="-236"/>
            <a:stretch/>
          </p:blipFill>
          <p:spPr>
            <a:xfrm>
              <a:off x="324000" y="1197000"/>
              <a:ext cx="3671640" cy="5256360"/>
            </a:xfrm>
            <a:prstGeom prst="rect">
              <a:avLst/>
            </a:prstGeom>
            <a:ln w="0">
              <a:noFill/>
            </a:ln>
          </p:spPr>
        </p:pic>
        <p:sp>
          <p:nvSpPr>
            <p:cNvPr id="117" name=""/>
            <p:cNvSpPr txBox="1"/>
            <p:nvPr/>
          </p:nvSpPr>
          <p:spPr>
            <a:xfrm>
              <a:off x="324000" y="1197000"/>
              <a:ext cx="36716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nold Sommerfeld combined the classical Drude model with quantum mechanics in the free electron model (or Drude-Sommerfeld model). Here, the electrons are modelled as a Fermi gas, a gas of particles which obey the quantum mechanical Fermi-Dirac statistics. The free electron model gave improved predictions for the heat capacity of metals, however, it was unable to explain the existence of insula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20" name=""/>
          <p:cNvGrpSpPr/>
          <p:nvPr/>
        </p:nvGrpSpPr>
        <p:grpSpPr>
          <a:xfrm>
            <a:off x="0" y="1341360"/>
            <a:ext cx="4192560" cy="4319640"/>
            <a:chOff x="0" y="1341360"/>
            <a:chExt cx="4192560" cy="4319640"/>
          </a:xfrm>
        </p:grpSpPr>
        <p:pic>
          <p:nvPicPr>
            <p:cNvPr id="121" name="" descr=""/>
            <p:cNvPicPr/>
            <p:nvPr/>
          </p:nvPicPr>
          <p:blipFill>
            <a:blip r:embed="rId2"/>
            <a:srcRect l="-658" t="6937" r="727" b="1117"/>
            <a:stretch/>
          </p:blipFill>
          <p:spPr>
            <a:xfrm>
              <a:off x="0" y="1341360"/>
              <a:ext cx="4192560" cy="4319640"/>
            </a:xfrm>
            <a:prstGeom prst="rect">
              <a:avLst/>
            </a:prstGeom>
            <a:ln w="0">
              <a:noFill/>
            </a:ln>
          </p:spPr>
        </p:pic>
        <p:sp>
          <p:nvSpPr>
            <p:cNvPr id="122" name=""/>
            <p:cNvSpPr txBox="1"/>
            <p:nvPr/>
          </p:nvSpPr>
          <p:spPr>
            <a:xfrm>
              <a:off x="0" y="1341360"/>
              <a:ext cx="4192560" cy="431964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2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nearly-free electron model is a modification of the free electron model which includes a weak periodic perturbation meant to model the interaction between the conduction electrons and the ions in a crystalline solid. By introducing the idea of electronic bands, the theory explains the existence of conductors, semiconductors and insula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6:02:41Z</dcterms:created>
  <dc:creator>Admin</dc:creator>
  <dc:description/>
  <dc:language>en-US</dc:language>
  <cp:lastModifiedBy>Admin</cp:lastModifiedBy>
  <dcterms:modified xsi:type="dcterms:W3CDTF">2012-02-29T06:22:13Z</dcterms:modified>
  <cp:revision>25</cp:revision>
  <dc:subject/>
  <dc:title>Solid-state physics</dc:title>
</cp:coreProperties>
</file>