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E6753-B1C4-4D9A-94AB-DDE732B97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087A-6F33-4426-BA1C-670BE9722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53F74-EFD7-4061-AF83-FFFB9F48D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58E0C-D807-4507-8715-AED3E8075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B05D8-7B15-4748-9202-48517B598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691C5-6346-4104-94FC-B8A09A20C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5CE26-F733-4F55-84DC-25C72B348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2C401-66D4-48D6-9E4E-2DAF939F6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2A5EB-347A-4FA1-B246-827FF449E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3E665-BA4A-4199-9306-D31C3C5AA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DC36F-E92B-4014-BD95-FBFCD0FB2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023B-598C-4B69-9DA1-1A4F9B93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2158A-3CF9-407A-B645-EDF6F136B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1981-BDCF-4253-830D-03B5E7ADB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56336-37E3-49B4-BD56-5AE2ACA25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6F0B2-9F3E-4271-A8A6-298CCD442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70320-138B-4827-ACB1-76D4743B0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403B-89F8-46CC-AA1B-D83921BB7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78BDB-AC70-4153-AF41-96A37B060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87BA0-A39D-4664-BE72-D4522959F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14FD2-BFA5-418E-AD31-327E30DB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351F-BBD8-4412-B95E-C4615D641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04AD-C406-41C0-B74C-712E60461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897E-2CC1-4349-856C-60CEF5BC8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B0D8-D64B-4769-AA56-A96E22B08F9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FB11-2828-409B-8F1D-96C1473B1D05}"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100" spc="-1" strike="noStrike">
                <a:solidFill>
                  <a:srgbClr val="c4c3aa"/>
                </a:solidFill>
                <a:latin typeface="Arial"/>
              </a:rPr>
              <a:t>Electronics</a:t>
            </a:r>
            <a:endParaRPr b="0" lang="en-US" sz="5100" spc="-1" strike="noStrike">
              <a:solidFill>
                <a:srgbClr val="c4c3aa"/>
              </a:solidFill>
              <a:latin typeface="Arial"/>
            </a:endParaRPr>
          </a:p>
        </p:txBody>
      </p:sp>
      <p:sp>
        <p:nvSpPr>
          <p:cNvPr id="331" name="PlaceHolder 2"/>
          <p:cNvSpPr>
            <a:spLocks noGrp="1"/>
          </p:cNvSpPr>
          <p:nvPr>
            <p:ph type="subTitle"/>
          </p:nvPr>
        </p:nvSpPr>
        <p:spPr>
          <a:xfrm>
            <a:off x="4788000" y="6381720"/>
            <a:ext cx="4356000" cy="3319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rbachenko Vasy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oday's electronics engineers have the ability to design circuits using premanufactured building blocks such as power supplies, semiconductors (such as transistors), and integrated circuits. Electronic design automation software programs include schematic capture programs and printed circuit board design programs. Popular names in the EDA software world are NI Multisim, Cadence (ORCAD), Eagle PCB and Schematic, Mentor (PADS PCB and LOGIC Schematic), Altium (Protel), LabCentre Electronics (Proteus), gEDA, KiCad and many oth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grpSp>
        <p:nvGrpSpPr>
          <p:cNvPr id="333" name=""/>
          <p:cNvGrpSpPr/>
          <p:nvPr/>
        </p:nvGrpSpPr>
        <p:grpSpPr>
          <a:xfrm>
            <a:off x="179280" y="1628640"/>
            <a:ext cx="4038840" cy="4530960"/>
            <a:chOff x="179280" y="1628640"/>
            <a:chExt cx="4038840" cy="4530960"/>
          </a:xfrm>
        </p:grpSpPr>
        <p:pic>
          <p:nvPicPr>
            <p:cNvPr id="334" name="" descr=""/>
            <p:cNvPicPr/>
            <p:nvPr/>
          </p:nvPicPr>
          <p:blipFill>
            <a:blip r:embed="rId1"/>
            <a:stretch/>
          </p:blipFill>
          <p:spPr>
            <a:xfrm>
              <a:off x="179280" y="1628640"/>
              <a:ext cx="4038840" cy="4530960"/>
            </a:xfrm>
            <a:prstGeom prst="rect">
              <a:avLst/>
            </a:prstGeom>
            <a:ln w="0">
              <a:noFill/>
            </a:ln>
          </p:spPr>
        </p:pic>
        <p:sp>
          <p:nvSpPr>
            <p:cNvPr id="335" name=""/>
            <p:cNvSpPr txBox="1"/>
            <p:nvPr/>
          </p:nvSpPr>
          <p:spPr>
            <a:xfrm>
              <a:off x="179280" y="1628640"/>
              <a:ext cx="4038840" cy="4530960"/>
            </a:xfrm>
            <a:prstGeom prst="rect">
              <a:avLst/>
            </a:prstGeom>
            <a:noFill/>
            <a:ln w="0">
              <a:noFill/>
            </a:ln>
          </p:spPr>
          <p:txBody>
            <a:bodyPr lIns="90000" rIns="90000" tIns="46800" bIns="46800"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36" name="PlaceHolder 2"/>
          <p:cNvSpPr>
            <a:spLocks noGrp="1"/>
          </p:cNvSpPr>
          <p:nvPr>
            <p:ph/>
          </p:nvPr>
        </p:nvSpPr>
        <p:spPr>
          <a:xfrm>
            <a:off x="4284720" y="1484280"/>
            <a:ext cx="4859280" cy="518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Electronics is the branch of science, engineering and technology dealing with electrical circuits that involve active electrical components such as vacuum tubes, transistors, diodes and integrated circuits, and associated passive interconnection technologies. The nonlinear behaviour of active components and their ability to control electron flows makes amplification of weak signals possible and is usually applied to information and signal processing. Similarly, the ability of electronic devices to act as switches makes digital information processing possible. Interconnection technologies such as circuit boards, electronics packaging technology, and other varied forms of communication infrastructure complete circuit functionality and transform the mixed components into a working system.</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grpSp>
        <p:nvGrpSpPr>
          <p:cNvPr id="338" name=""/>
          <p:cNvGrpSpPr/>
          <p:nvPr/>
        </p:nvGrpSpPr>
        <p:grpSpPr>
          <a:xfrm>
            <a:off x="457200" y="1600200"/>
            <a:ext cx="4038480" cy="4530600"/>
            <a:chOff x="457200" y="1600200"/>
            <a:chExt cx="4038480" cy="4530600"/>
          </a:xfrm>
        </p:grpSpPr>
        <p:pic>
          <p:nvPicPr>
            <p:cNvPr id="339" name="" descr=""/>
            <p:cNvPicPr/>
            <p:nvPr/>
          </p:nvPicPr>
          <p:blipFill>
            <a:blip r:embed="rId1"/>
            <a:stretch/>
          </p:blipFill>
          <p:spPr>
            <a:xfrm>
              <a:off x="457200" y="1600200"/>
              <a:ext cx="4038480" cy="4530600"/>
            </a:xfrm>
            <a:prstGeom prst="rect">
              <a:avLst/>
            </a:prstGeom>
            <a:ln w="0">
              <a:noFill/>
            </a:ln>
          </p:spPr>
        </p:pic>
        <p:sp>
          <p:nvSpPr>
            <p:cNvPr id="340" name=""/>
            <p:cNvSpPr txBox="1"/>
            <p:nvPr/>
          </p:nvSpPr>
          <p:spPr>
            <a:xfrm>
              <a:off x="457200" y="160020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41" name="PlaceHolder 2"/>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lectronics is distinct from electrical and electro-mechanical science and technology, which deals with the generation, distribution, switching, storage and conversion of electrical energy to and from other energy forms using wires, motors, generators, batteries, switches, relays, transformers, resistors and other passive components. This distinction started around 1906 with the invention by Lee De Forest of the triode, which made electrical amplification of weak radio signals and audio signals possible with a non-mechanical device. Until 1950 this field was called "radio technology" because its principal application was the design and theory of radio transmitters, receivers and vacuum tub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sp>
        <p:nvSpPr>
          <p:cNvPr id="34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oday, most electronic devices use semiconductor components to perform electron control. The study of semiconductor devices and related technology is considered a branch of solid state physics, whereas the design and construction of electronic circuits to solve practical problems come under electronics engineering. This article focuses on engineering aspects of electronics.</a:t>
            </a:r>
            <a:endParaRPr b="0" lang="en-US" sz="2000" spc="-1" strike="noStrike">
              <a:solidFill>
                <a:srgbClr val="ffffff"/>
              </a:solidFill>
              <a:latin typeface="Verdana"/>
            </a:endParaRPr>
          </a:p>
        </p:txBody>
      </p:sp>
      <p:grpSp>
        <p:nvGrpSpPr>
          <p:cNvPr id="344" name=""/>
          <p:cNvGrpSpPr/>
          <p:nvPr/>
        </p:nvGrpSpPr>
        <p:grpSpPr>
          <a:xfrm>
            <a:off x="539640" y="1700280"/>
            <a:ext cx="4319640" cy="3247920"/>
            <a:chOff x="539640" y="1700280"/>
            <a:chExt cx="4319640" cy="3247920"/>
          </a:xfrm>
        </p:grpSpPr>
        <p:pic>
          <p:nvPicPr>
            <p:cNvPr id="345" name="" descr=""/>
            <p:cNvPicPr/>
            <p:nvPr/>
          </p:nvPicPr>
          <p:blipFill>
            <a:blip r:embed="rId1"/>
            <a:stretch/>
          </p:blipFill>
          <p:spPr>
            <a:xfrm>
              <a:off x="539640" y="1700280"/>
              <a:ext cx="4319640" cy="3247920"/>
            </a:xfrm>
            <a:prstGeom prst="rect">
              <a:avLst/>
            </a:prstGeom>
            <a:ln w="0">
              <a:noFill/>
            </a:ln>
          </p:spPr>
        </p:pic>
        <p:sp>
          <p:nvSpPr>
            <p:cNvPr id="346" name=""/>
            <p:cNvSpPr txBox="1"/>
            <p:nvPr/>
          </p:nvSpPr>
          <p:spPr>
            <a:xfrm>
              <a:off x="539640" y="1700280"/>
              <a:ext cx="4319640" cy="3247920"/>
            </a:xfrm>
            <a:prstGeom prst="rect">
              <a:avLst/>
            </a:prstGeom>
            <a:noFill/>
            <a:ln w="0">
              <a:noFill/>
            </a:ln>
          </p:spPr>
          <p:txBody>
            <a:bodyPr anchor="t">
              <a:normAutofit/>
            </a:bodyPr>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4c3aa"/>
                </a:solidFill>
                <a:latin typeface="Arial"/>
              </a:rPr>
              <a:t>Electronic devices and components</a:t>
            </a:r>
            <a:endParaRPr b="0" lang="en-US" sz="4000" spc="-1" strike="noStrike">
              <a:solidFill>
                <a:srgbClr val="c4c3aa"/>
              </a:solidFill>
              <a:latin typeface="Arial"/>
            </a:endParaRPr>
          </a:p>
        </p:txBody>
      </p:sp>
      <p:grpSp>
        <p:nvGrpSpPr>
          <p:cNvPr id="348" name=""/>
          <p:cNvGrpSpPr/>
          <p:nvPr/>
        </p:nvGrpSpPr>
        <p:grpSpPr>
          <a:xfrm>
            <a:off x="457200" y="1600200"/>
            <a:ext cx="4038480" cy="4530600"/>
            <a:chOff x="457200" y="1600200"/>
            <a:chExt cx="4038480" cy="4530600"/>
          </a:xfrm>
        </p:grpSpPr>
        <p:pic>
          <p:nvPicPr>
            <p:cNvPr id="349" name="" descr=""/>
            <p:cNvPicPr/>
            <p:nvPr/>
          </p:nvPicPr>
          <p:blipFill>
            <a:blip r:embed="rId1"/>
            <a:stretch/>
          </p:blipFill>
          <p:spPr>
            <a:xfrm>
              <a:off x="457200" y="1600200"/>
              <a:ext cx="4038480" cy="4530600"/>
            </a:xfrm>
            <a:prstGeom prst="rect">
              <a:avLst/>
            </a:prstGeom>
            <a:ln w="0">
              <a:noFill/>
            </a:ln>
          </p:spPr>
        </p:pic>
        <p:sp>
          <p:nvSpPr>
            <p:cNvPr id="350" name=""/>
            <p:cNvSpPr txBox="1"/>
            <p:nvPr/>
          </p:nvSpPr>
          <p:spPr>
            <a:xfrm>
              <a:off x="457200" y="160020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51" name="PlaceHolder 2"/>
          <p:cNvSpPr>
            <a:spLocks noGrp="1"/>
          </p:cNvSpPr>
          <p:nvPr>
            <p:ph/>
          </p:nvPr>
        </p:nvSpPr>
        <p:spPr>
          <a:xfrm>
            <a:off x="4648320" y="1599840"/>
            <a:ext cx="449568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 electronic component is any physical entity in an electronic system used to affect the electrons or their associated fields in a desired manner consistent with the intended function of the electronic system. Components are generally intended to be connected together, usually by being soldered to a printed circuit board (PCB), to create an electronic circuit with a particular function (for example an amplifier, radio receiver, or oscillator). Components may be packaged singly or in more complex groups as integrated circuits. Some common electronic components are capacitors, inductors, resistors, diodes, transistors, etc. Components are often categorized as active (e.g. transistors and thyristors) or passive (e.g. resistors and capacito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Early electronic components</a:t>
            </a:r>
            <a:endParaRPr b="0" lang="en-US" sz="4400" spc="-1" strike="noStrike">
              <a:solidFill>
                <a:srgbClr val="c4c3aa"/>
              </a:solidFill>
              <a:latin typeface="Arial"/>
            </a:endParaRPr>
          </a:p>
        </p:txBody>
      </p:sp>
      <p:sp>
        <p:nvSpPr>
          <p:cNvPr id="3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acuum tubes were one of the earliest electronic components. They dominated electronics until the 1950s. Since that time, solid state devices have all but completely taken over. Vacuum tubes are still used in some specialist applications such as high power RF amplifiers, cathode ray tubes, and some microwave devi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Vacuum tube</a:t>
            </a:r>
            <a:endParaRPr b="0" lang="en-US" sz="4000" spc="-1" strike="noStrike">
              <a:solidFill>
                <a:srgbClr val="c4c3aa"/>
              </a:solidFill>
              <a:latin typeface="Arial"/>
            </a:endParaRPr>
          </a:p>
        </p:txBody>
      </p:sp>
      <p:pic>
        <p:nvPicPr>
          <p:cNvPr id="355" name="" descr=""/>
          <p:cNvPicPr/>
          <p:nvPr/>
        </p:nvPicPr>
        <p:blipFill>
          <a:blip r:embed="rId1"/>
          <a:stretch/>
        </p:blipFill>
        <p:spPr>
          <a:xfrm>
            <a:off x="179280" y="907920"/>
            <a:ext cx="3610080" cy="3256200"/>
          </a:xfrm>
          <a:prstGeom prst="rect">
            <a:avLst/>
          </a:prstGeom>
          <a:ln w="0">
            <a:noFill/>
          </a:ln>
        </p:spPr>
      </p:pic>
      <p:pic>
        <p:nvPicPr>
          <p:cNvPr id="356" name="" descr=""/>
          <p:cNvPicPr/>
          <p:nvPr/>
        </p:nvPicPr>
        <p:blipFill>
          <a:blip r:embed="rId2"/>
          <a:stretch/>
        </p:blipFill>
        <p:spPr>
          <a:xfrm>
            <a:off x="5435640" y="907920"/>
            <a:ext cx="3610080" cy="4981680"/>
          </a:xfrm>
          <a:prstGeom prst="rect">
            <a:avLst/>
          </a:prstGeom>
          <a:ln w="0">
            <a:noFill/>
          </a:ln>
        </p:spPr>
      </p:pic>
      <p:pic>
        <p:nvPicPr>
          <p:cNvPr id="357" name="" descr=""/>
          <p:cNvPicPr/>
          <p:nvPr/>
        </p:nvPicPr>
        <p:blipFill>
          <a:blip r:embed="rId3"/>
          <a:stretch/>
        </p:blipFill>
        <p:spPr>
          <a:xfrm>
            <a:off x="1187280" y="4149720"/>
            <a:ext cx="4114800" cy="2867040"/>
          </a:xfrm>
          <a:prstGeom prst="rect">
            <a:avLst/>
          </a:prstGeom>
          <a:ln w="0">
            <a:noFill/>
          </a:ln>
        </p:spPr>
      </p:pic>
      <p:pic>
        <p:nvPicPr>
          <p:cNvPr id="358" name="" descr=""/>
          <p:cNvPicPr/>
          <p:nvPr/>
        </p:nvPicPr>
        <p:blipFill>
          <a:blip r:embed="rId4"/>
          <a:srcRect l="32338" t="0" r="34895" b="0"/>
          <a:stretch/>
        </p:blipFill>
        <p:spPr>
          <a:xfrm>
            <a:off x="4067280" y="1052640"/>
            <a:ext cx="93636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Heat dissipation and thermal management</a:t>
            </a:r>
            <a:endParaRPr b="0" lang="en-US" sz="40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at generated by electronic circuitry must be dissipated to prevent immediate failure and improve long term reliability. Techniques for heat dissipation can include heat sinks and fans for air cooling, and other forms of computer cooling such as water cooling. These techniques use convection, conduction, &amp; radiation of heat energ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Noise</a:t>
            </a:r>
            <a:endParaRPr b="0" lang="en-US" sz="4400" spc="-1" strike="noStrike">
              <a:solidFill>
                <a:srgbClr val="c4c3aa"/>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oise is associated with all electronic circuits. Noise is defined[1] as unwanted disturbances superposed on a useful signal that tend to obscure its information content. Noise is not the same as signal distortion caused by a circuit. Noise may be electromagnetically or thermally generated, which can be decreased by lowering the operating temperature of the circuit. Other types of noise, such as shot noise cannot be removed as they are due to limitations in physical properti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6:27:57Z</dcterms:created>
  <dc:creator>Admin</dc:creator>
  <dc:description/>
  <dc:language>en-US</dc:language>
  <cp:lastModifiedBy>Admin</cp:lastModifiedBy>
  <dcterms:modified xsi:type="dcterms:W3CDTF">2012-02-29T06:42:10Z</dcterms:modified>
  <cp:revision>4</cp:revision>
  <dc:subject/>
  <dc:title>Electronics</dc:title>
</cp:coreProperties>
</file>